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D2CF-5DFA-499E-9488-B33F3821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2F9-6704-4182-9A73-C93D83FD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0CB-C8E6-4B11-BBD4-17EA3526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ED4-4264-4A3C-89C5-A5C98943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1DB-CCB5-4A52-9F18-DA699FA4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A37-33CE-423C-99BC-D0AB1968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298-7B51-4E0D-B552-F5F0F5DE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3A98-EF5B-4A25-B587-5F062954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9144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0AE-06FC-4F09-A1B3-4924C2B9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072-336A-4083-B014-5A83DEA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7F5-0A93-4075-88AA-31BA8CEF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DF9-2893-44C9-BF3D-396E7D62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D4C5-EDFC-4525-B7FC-DDA3552BF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F36E-E4FA-4748-BDD5-27AC2C5F2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" y="1071360"/>
            <a:ext cx="893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 u="sng">
                <a:solidFill>
                  <a:srgbClr val="cc6600"/>
                </a:solidFill>
                <a:uFillTx/>
                <a:latin typeface="Arial"/>
              </a:rPr>
              <a:t>L’immatriculation d’une entreprise en Belgique : la banque carrefour des entrprises (BCE)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" name="Object 5" descr=""/>
          <p:cNvPicPr/>
          <p:nvPr/>
        </p:nvPicPr>
        <p:blipFill>
          <a:blip r:embed="rId1"/>
          <a:stretch/>
        </p:blipFill>
        <p:spPr>
          <a:xfrm>
            <a:off x="7786800" y="4572000"/>
            <a:ext cx="1147680" cy="16765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428760" y="4500720"/>
            <a:ext cx="70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99"/>
                </a:solidFill>
                <a:latin typeface="Arial"/>
              </a:rPr>
              <a:t>http://economie.fgov.be/fr/entreprises/BCE/Apropos/Inscription/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88240" y="2808360"/>
            <a:ext cx="761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Voir sur le site du Service Public Fédéral Économie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pour la liste des entreprises devant s’immatriculer,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ainsi que les modalités : 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04840" y="1143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Une partie des données est accessible au plublic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Espace réservé du numéro de diapositive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493C-2533-4ADF-844E-DF4C29300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06640" y="3214800"/>
            <a:ext cx="69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3399"/>
                </a:solidFill>
                <a:latin typeface="Arial"/>
              </a:rPr>
              <a:t>http://economie.fgov.be/fr/entreprises/BCE/SerPub/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04840" y="85716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Un extrait des données de la BCE…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Espace réservé du numéro de diapositive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C914-CD77-49EF-8726-B0D0B7B42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2" name="Image 3" descr="extrait BCE CFE.jpg"/>
          <p:cNvPicPr/>
          <p:nvPr/>
        </p:nvPicPr>
        <p:blipFill>
          <a:blip r:embed="rId1"/>
          <a:stretch/>
        </p:blipFill>
        <p:spPr>
          <a:xfrm>
            <a:off x="0" y="171468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1:30:53Z</dcterms:created>
  <dc:creator>Damien Delatour</dc:creator>
  <dc:description/>
  <dc:language>en-US</dc:language>
  <cp:lastModifiedBy>DELATOUD</cp:lastModifiedBy>
  <dcterms:modified xsi:type="dcterms:W3CDTF">2011-11-16T15:03:16Z</dcterms:modified>
  <cp:revision>179</cp:revision>
  <dc:subject>Présentation pour Acerta - Novembre 2009</dc:subject>
  <dc:title>L'inspection du travail en Belgique et le CLS</dc:title>
</cp:coreProperties>
</file>