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9D4-016A-44C2-BD0D-40C87681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8B7-EB66-49A0-A3C2-02259FAB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95B-6BFA-4CC0-81F3-FB88B0AB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FAD-B18C-4925-B999-38FEFC8D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A45-3E55-47CD-B162-4CDA9C4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18C-8EB5-46BC-BAF6-0D9D9091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703-A186-4F74-A66E-EB7C8AD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15A-14B4-4BEC-AAA6-E4D6265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FB6-D965-462A-ADE6-0E08064D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B3F-C707-44B9-ADE4-AE48F9F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802-249B-4BFD-A7E3-C06DAD0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598-A421-4E50-93F9-F5EC3A0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636C-A698-4599-A10C-9285D222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B37-6C8A-42F2-962E-D995B426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" y="1071360"/>
            <a:ext cx="893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cc6600"/>
                </a:solidFill>
                <a:uFillTx/>
                <a:latin typeface="Arial"/>
              </a:rPr>
              <a:t>L’immatriculation d’une entreprise en Belgique : la banque carrefour des entrprises (BCE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7786800" y="4572000"/>
            <a:ext cx="114768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28760" y="45007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http://economie.fgov.be/fr/entreprises/BCE/Apropos/Inscription/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88240" y="2808360"/>
            <a:ext cx="76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Voir sur le site du Service Public Fédéral Économi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pour la liste des entreprises devant s’immatriculer,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ainsi que les modalités :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84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e partie des données est accessible au plubli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CC8-E193-4542-831E-E852572B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06640" y="3214800"/>
            <a:ext cx="69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http://economie.fgov.be/fr/entreprises/BCE/SerPub/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840" y="85716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 extrait des données de la BCE…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30B0-1580-495B-9B9F-160CEE25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Image 3" descr="extrait BCE CFE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5:03:16Z</dcterms:modified>
  <cp:revision>179</cp:revision>
  <dc:subject>Présentation pour Acerta - Novembre 2009</dc:subject>
  <dc:title>L'inspection du travail en Belgique et le CLS</dc:title>
</cp:coreProperties>
</file>