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C9CA-4203-4C9F-93F3-964115528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5F22-4679-4569-9601-D2FF90BE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2708-7B3F-4849-B90C-44D063B2C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19BC-9DF2-4027-8D30-46DBA8666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35A5-B29A-4801-A250-EC17A1EA1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27A0-B6FA-4484-9D9E-18640C87B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5644-3DCE-4B75-A08D-D2F054538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794-229E-4051-BB90-D47C12D0E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F1CD-3CFC-4865-A69A-91E3381CC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2491-3CAB-4657-AD45-2C0E996C5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26A5-84AE-4CC9-9AC9-D0511E570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4640-FE24-424C-985B-BB20083C6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8EC3EF-BC06-4A43-8FE9-50D6D6560B1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695198-B76C-4916-B7CD-0F458A4F419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2542-5334-49E5-BB2C-2E3F9490787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B1705-16D5-44CB-9EDB-8DB7301CEE9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7E489-76C5-4616-8DB8-B66F9EDAAA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94C28-9EC6-4B83-8707-7046A044E75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CC341-68CC-448F-BDFC-225AFDED52C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9A010-E9F8-4B3A-8E80-EDCF1FD036E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E9D21-4AB4-45D0-AED4-5860E621F24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9D6AE-5AE9-449F-8465-D7602A2E52E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C5542-E35F-46C0-A80B-43AC0BEA84A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40B52-52F8-476D-A2A6-9A77CBDF542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CA9A1-E17A-4823-B162-3631DE6DC75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8B86-09F4-4EB0-83EC-A3CAFF0DF5D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CB203-AEDA-4834-9E05-C3B11DB4C41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8B935-0E32-4FAF-876F-C73B63F0A99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77297-FDA6-4312-9214-FAD5EBDADB4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5467-BE07-4EA8-8ED3-263D43E3B5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8ED95-43DB-471B-9074-E7E6174DD2F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6D08A-FDBB-4E54-914C-1EDA565FC70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D165A-5FC6-4A8B-8FC4-C610BA7A59D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9F49-8788-4B47-BB3C-97273709615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09F8-099A-4519-AA6B-F8A2F86F369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1633F-51A9-414C-9F4E-E702EC7F4A6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649FC-7B46-4CF4-824A-6BECFFBA483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4F28-7A1C-48DD-800C-8A404E7B128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A0368-F0DB-4C04-A359-5BA98834F65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50B1-94F4-4C09-8B48-D37E948D848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87918-CDE5-49AE-B12F-26364DAE5AB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ACCAC-4126-4D99-A813-0D5959579B3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SYTUACJA W ZAKRESIE DELEGOWANIA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227160" y="914400"/>
            <a:ext cx="8592840" cy="530388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lska jest krajem, z którego pracownicy są </a:t>
            </a: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głównie wysyłani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do innych państw UE/EOG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ramach transgranicznego świadczenia usług (do naszego kraju pracowników delegują najczęściej </a:t>
            </a: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przedsiębiorcy z państw trzecich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ajwiększa skala delegowania dotyczy branży budowlanej, w takich państwach jak: </a:t>
            </a:r>
            <a:br>
              <a:rPr sz="2600"/>
            </a:b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Niemcy, Francja, Belgia, Holandia </a:t>
            </a:r>
            <a:br>
              <a:rPr sz="2600"/>
            </a:b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i państwa skandynawskie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644D2-922C-4FA3-B1A5-0356F0BD75B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F650-D6FD-4D48-8477-8AE89EAEE1B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C5F8E-2FDC-427E-ACE3-288BD278CD0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FFFEA-AD66-447E-AE21-5913D18400D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6243-8A02-4EC8-AA61-F0DEFA6D721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C895-86A4-44C4-BC9C-E5BCE411E7A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B5F87-E4DF-47BA-AB85-23DC0FA030E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2AB01-B1F5-4147-8728-A3ABF38BB2B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241B-8FF4-4FB3-890D-7D27E4995F5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DCCD-1AC5-47A1-93B0-DAB2136CA1C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38820-0FDC-46A2-9D7E-EEF20385D41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D83FE-0FF3-4C44-83C1-F87753E4FB0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F2F8-BF42-4FE1-9DBB-179226D35F2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94411-CA02-41EB-892A-3302D059A4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0FD13-D3D5-4729-8DC4-0BBFC43CCA8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07F7-73F2-4738-9869-F19D25C5E01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2AD6-8470-435B-A61B-00FB66C1FFE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A42C-716F-42B3-A160-572000FE62E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WYMIANA INFORMACJI POMIĘDZY PIP </a:t>
            </a: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I URZĘDAMI PAŃSTW CZŁONKOWSKICH UE/EOG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125360"/>
            <a:ext cx="8207280" cy="460872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280" y="1196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ytani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jczęściej kierowane do Państwowej Inspekcji Pracy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działa legalnie na terytorium Polski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prowadzi znaczącą działalność gospodarczą na terytorium Polski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zatrudnia delegowanych pracownik</a:t>
            </a:r>
            <a:r>
              <a:rPr b="1" lang="pl-PL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w ramach stosunku pracy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jakim sektorze przedsiębiorstwo prowadzi działalność gospodarczą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25593-2FA8-42B3-8C04-51DE968901B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034DF-5D8C-4C62-92F1-6D0BFC7F801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EC07E-A06E-4666-A08C-DC20CFD666E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1DA7E-AF06-4035-80E4-6715FB48539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3A1D-4EAD-4BFC-ACA8-F922792968F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8A54D-8E25-4B04-AED5-EB0512EBE91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E3258-9898-4892-B3F9-582B038B13A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8ADED-F286-4C98-9A4B-80E74814F6B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7F397-3FFB-491D-81AC-B5F4D74CD77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698AC-F8B4-44EA-A089-3E7CD4C130D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A725-5D49-4D7F-99E9-37C573E8577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5A6FF-F571-415C-9351-E5786D348DD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4D15A-5E1A-4C37-A9B0-1982CE65E70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E1EB3-9BB6-4477-BB90-337409412CB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D1EB2-7B87-46C5-8C3E-8279D48C261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96DB-84CD-43B3-92D1-9FC47248DD1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63B2-CD1C-412B-9431-95E785657B8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B64C0-F8E8-4D53-BE7F-6CE56B0D702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WYMIANA INFORMACJI POMIĘDZY PIP </a:t>
            </a: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I URZĘDAMI PAŃSTW CZŁONKOWSKICH UE/EOG</a:t>
            </a:r>
            <a:br>
              <a:rPr sz="2600"/>
            </a:br>
            <a:endParaRPr b="1" lang="en-US" sz="26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ytania najczęściej kierowane do Państwowej Inspekcji Pracy (c.d.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świadczy usługi w zakresie pracy tymczasowej, a jeżeli tak to czy zostało wpisane do rejestru podmiot</a:t>
            </a:r>
            <a:r>
              <a:rPr b="1" lang="pl-PL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prowadzących agencje zatrudnienia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ytania o warunki zatrudnienia, w tym normy czasu pracy, wymiar urlopu wypoczynkowego, wysokość wypłaconego wynagrodzenia;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A6155-A9C2-4BB7-B373-D6CCE84110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BD00B-0BC4-4D47-8691-2B35D3FCAD4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B618E-E7F4-4AAE-A5B5-36042E8DFC8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82DBD-2A10-495B-AC2C-EA217E7B945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24316-C354-45A7-BB5C-B35547B33F3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8361D-1B7E-4D5E-87CF-6C5E1DFEFBF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1E94-0BCA-461B-BB7D-174FB14ADF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CA4E-9821-4DB1-A5C1-B607F0B8FDC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E1B4-A613-4563-8D70-4C3F9580CD3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B5BB8-E0D9-4C88-8A7A-D40E15F07B6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DDC7B-3FDF-4FA4-9567-BA970F3746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6CC8-3C83-4EAF-95D0-9D70821F22C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71404-C279-4FFE-8B0B-E3B13EEDC6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8E2B7-BCCC-4BC2-A67D-09A7CE29BC2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E9616-EF2B-4A75-8C13-1DC660625C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8760-05BB-4AF9-AE4D-253EA61CF04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E857-C407-433D-B4D4-8CFE53EEB88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8F44-B492-4825-9C40-CD5F6128BDA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SKARGI DOTYCZĄCE PRACOWNIKÓW DELEGOWANYCH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oblematyka skarg (c.d.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ruszanie przepisów o czasie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prawidłowości dotyczące prowadzenia ewidencji czasu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przestrzeganie przepisów w zakresie bhp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ypadki przy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arunki zakwaterowania polskich pracowników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8F9AE-04BF-4FA1-931E-0A89BC50C01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EF5BD-501F-48D1-BE43-56D8CA121C5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9F4C9-EDE7-45F2-B00B-2BCEBE72758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1E04E-5953-4469-B16B-BE0CEDE19F0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61D97-C977-473F-9839-2A571A41ADD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D7308-E648-4298-A688-021FC2A5068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E68C6-E552-443C-B9F9-7E86468514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DD69D-2DB9-4D91-8D44-1414428BA1A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CE7BA-2573-425C-8122-13FE1B2CCB0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E4EE-9405-49B9-ACBA-FF6FD736838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A335F-45EE-4F10-A183-421E19A4214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CA363-950B-4111-A0B1-A7530118580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F082-5766-4850-AB35-183211AB268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638F-2715-4527-8900-DE32299355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164F5-80ED-49AA-937E-F0259BD6F5B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3319-199C-4292-A2FA-0D5C2DD64D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0588-4F22-4289-B716-5FBA1E4427A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DF692-02C1-44CC-B2A5-2EE532AFD70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– powiadamianie w szczególności 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kolicznościach mogących mieć wpływ na wydanie formularza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-101/A1 (np. nieprowadzenie przez przedsiębiorcę działalności na terytorium Polski lub działalności znaczącej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poświadczeniu formularza A1 dla pracownika zatrudnionego </a:t>
            </a:r>
            <a:br>
              <a:rPr sz="2000"/>
            </a:b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w celu oddelegowani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, który bezpośrednio przed podjęciem zatrudnienia u danego pracodawcy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nie podlegał ubezpieczeniu społecznemu w państwie wysyłającym przez okres co najmniej miesiąc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ysponowaniu przez przedsiębiorcę lub jego pracowników formularzami E-101/A1, które budzą uzasadnioną wątpliwość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o do swojej autentyczności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29AD-D1D9-4008-B9A8-7CD1DD5E33D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68682-36F3-4F94-A72B-8044ECC1793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C783E-8CD4-4052-B15D-75C4F3916F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613CD-ED56-421C-9D01-0DB0E080EFF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85637-F0F1-44FB-A98A-81447FEFAD3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F8B80-1E48-4286-9396-595BC525DD9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30B3-B92D-4E72-A3BB-CB5C58F9891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F14D1-27D2-48F4-8197-0892561F630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18F9A-4215-4570-8BC0-62B8C134ECF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9D59-EC23-4981-8B37-89DB53AC228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5D3D-9A32-4475-B478-005EF9F79C7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1BC6F-3C29-4885-ADDE-91283F57E8C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AE492-15D7-4B02-9742-86957D434C7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AD36-B279-4ED2-A874-6B385882F27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C93F3-2811-49A0-8CD5-8E511587E50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8145-0DB8-46F9-819F-828E0FCF202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5FDA-4E8A-4E6F-AB48-60EF00334C0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A200B-2098-42AD-8665-72E1624FA7A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ZUS (c.d.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– powiadamianie o: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wierdzonych przypadkach delegowania do innego państwa UE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pracowników polskiej firmy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którzy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są zgłoszeni do ubezpieczenia społecznego w Polsce, a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nie posiadają zaświadczenia (formularza </a:t>
            </a:r>
            <a:br>
              <a:rPr sz="1800"/>
            </a:b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E-101/A1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potwierdzającego podleganie ubezpieczeniu społecznemu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olskim systemie;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konanych ustaleniach dotyczących wykonywania pracy na rzecz polskiego pracodawcy lub przedsiębiorcy przez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osoby z innych państw UE, które nie zostały zgłoszone do ubezpieczeń społecznych w Polsce</a:t>
            </a:r>
            <a:br>
              <a:rPr sz="1800"/>
            </a:b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i nie posiadają zaświadczenia (formularza E-101/ A1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o zastosowaniu wobec nich innych niż polskie przepisów z zakresu zabezpieczenia społecznego;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5E3D-E852-401A-ACE1-A13ADD5ABC5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BCE6B-C2EC-44F1-A691-3B19040CFFF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97F6A-054E-41F5-819F-7B161F16F02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6D65-33FD-422E-913A-7D112AD588A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99DFB-B835-4024-A40E-5F9478EE088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AC423-1F02-41E7-8654-404BF6FE532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DEFA3-6AF5-4481-988C-07B37EBEA3A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6FE9-BDD4-4B2E-88D5-E76583B3DE1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31BC-C3F5-4EA8-803A-59C5930FAE4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8710-8BB3-4897-A36C-2EDE23BAA70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B8F77-81AA-454F-B5A1-67323F1EE4D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C3F8D-8872-489B-BBE8-59F4855D33E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1EA2F-C13F-4585-A6F6-F13CC9F65E9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C701-51A4-48D7-8F42-30127F69CBF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8896-F384-4BDB-85FE-031BDE5377B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D6828-D303-4A09-B6DC-7123BC08F66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22C7-8799-4A18-AD09-7ECA8EC4A2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2A31-8BDF-4BC5-91A9-B3FEE07F3F0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ZUS (c.d.)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– powiadamianie 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zgłoszeniu przez pracodawcę wbrew obowiązkowi pracowników do ubezpieczenia społecznego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 polskim systemie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odprowadzaniu za pracowników składek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ubezpieczenie społeczne w polskim systemie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D23F5-5F29-4F78-98A2-5FE680EC074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7A2E-8499-46B7-99C6-A687210FC05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C5912-F54D-4C24-8D83-1F2DA9676E2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63E5-20FE-4E1E-8165-13258AE6DE3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D995B-D4ED-4347-9615-E1FB3209295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50E5C-0426-45FE-90AD-2B5A7D349A0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26E4-6A90-405E-B819-A4917C5807E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17493-49F1-42A7-98F1-356234F1E62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C753-9A81-4E9B-9129-21EFAD98743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195BE-A846-4547-86CD-E831336AB39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2C79F-B9B2-403E-9544-D58FB4B33C5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E5BE7-1447-459F-A8A8-42C16D0384B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E5107-942C-4923-8503-68979513239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969F3-23E7-4ADF-A6D8-275861BDE7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5F7F-045E-4D06-A4D7-3C44217C3EF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365CC-3985-4C8F-AFD9-A63241E6CAF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32E1A-087F-4BE2-8992-479AA446A01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D80C8-8D3A-45EF-98AD-1EF30B1E9B7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urząd kontroli skarbowej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– powiadamianie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 przypadkach naruszania przez kontrolowanego prawa podatkowego (w tym niepłacenie należnych podatków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Policja, Prokuratura, organ rejestrujący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– powiadomienie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 prowadzeniu przez przedsiębiorcę nielegalnej działalności gospodarczej na terytorium Polski (np. bez uzyskania wpisu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o ewidencji działalności gospodarczej albo wpisu do rejestru przedsiębiorców w KRS)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44BD-7F21-47FE-940C-C44B2D58B1B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0F325-85FD-49FA-810D-299F536118C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69663-96D2-4068-A4C6-061021279A3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81405-64A0-46E4-A32E-DA14CD7E405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92CC0-5F40-4DCD-A9EE-0C2E22E0BA9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D5AF1-EB07-4303-AE02-56B2DD23988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9A344-2713-42D5-8833-676629DAB80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00D76-75C3-4C59-ABD3-402C17A98D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CA27-8FFE-4776-8537-45A47273AD4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064C7-C230-447F-8CC6-1DF0F807D57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760AE-D362-4E97-A6B3-D964AD60DD8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1CD2-20C6-4E87-B385-B84744F275F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07D5-916E-4830-BD49-ADC8722BA7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78662-57A7-47E5-8FE4-67A1379B54C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EE9CE-7818-46C3-BBE7-90495F8A0B7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0B83-5406-4740-AEC0-45C9245D46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635A-3448-4FAE-821B-2B857F04ED7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69950-6B3E-4845-B75F-5E066A442A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organ rejestrujący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– uzyskiwanie informacj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temat aktualnego adresu podmiotu kontrolowanego (w razie nieprowadzenia działalności pod adresem wskazanym w zapytaniu)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6A38-CDF3-420E-87A5-EFE2BB38789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4B307-553E-4019-BFE3-BFC1E2EE5C4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04B04-5F66-45B5-B82A-74B28ED7667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3DE79-0823-4535-876A-54F76F01C66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0D7A2-E571-466D-BC0D-BCD6850EAE2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4873-37DC-4E20-93DF-C030C1B7011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22076-5782-4030-A3DA-4A643C5A139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290C2-249C-4EEE-96D0-88F53237EBE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DC19D-0EA5-409F-9246-A3277569420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B742-3B84-433D-ACEE-0065938FD2A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3905-0D51-44BF-ADF1-420A043DEA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EB4BA-A1E6-4D8C-9E12-868E4A9D8A6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AADB5-89AB-411F-B47C-993917DDEC0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9773B-6CCB-4DEE-8E61-B634EFB2403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AD775-8528-4CFB-A66D-38CECA79588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B6228-D91A-4908-8BAF-5294C32E2B6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109D-5FFB-491C-9708-B437BA62077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9FC02-0E51-44C5-8427-AA0B5631497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2010 r. organy PIP współpracowały z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zakresie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oświadczania formularzy E-101/ A1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ustalania właściwego ustawodawstwa w zakresie zabezpieczenia społecznego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rawidłowości obliczania składek na ubezpieczenie społeczne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organami rejestrowymi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uzyskiwanie informacji na temat kontrolowanych podmiotów, w tym adresów prowadzenia działalności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Policją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wniosek o weryfikację legalności działalności pracodawcy na terenie RP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urzędem kontroli skarbowej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rzekazanie informacji na temat sposobu obliczania wynagrodzenia pracowników tymczasowych (od którego części nie odprowadzano podatku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3F2C1-9518-44C5-907A-5F0EE7730D7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298FB-9D1C-402A-BF88-C8177ACF64F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DFC06-1B0E-44EC-9445-5181E091A0F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B0EC7-86C5-4D95-9AF3-4291D30E3C5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F3E2C-8C1D-4245-954C-5E1B01A1355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CD51B-8360-4BEB-836A-020429CFB10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95A4-904D-4B87-8847-DBB2B9C5B7C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5E9CA-B15A-40C0-AAC1-7840DE499C5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69E51-AF71-489C-A981-6A49906B1D7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09298-1D15-4128-8EAF-9E3B2BCE19E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C3141-CC59-4869-AC2E-B8B86EC4F4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3D67-E645-4859-8ACA-6CC36FCACCD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8E3A0-8DA8-42B4-B416-65C3996E356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96ED-28C1-40DD-A989-3D7788DD957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EC33-7EFA-4E4A-85A0-CB203D05B18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CB5B8-B4DE-4677-9E8D-5C5999F68C8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5739-0AF1-48BF-B048-E4B1F548F1A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7C40-351B-4A5F-B94D-6038519D81D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4FC29-88AC-494D-884F-B2734BBDCA1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7534D-C627-4046-BD1C-FE9A9BD3B8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AB08-B08D-4AE6-8663-4D8635F20D1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3DA0B-52E0-454E-B500-77707BCEE73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7F56-8DA8-4A0D-A7AB-CA8FD24512D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2786B-CACC-45B2-81B5-2F73E004AE2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E952-FF0D-4140-A677-33CEE11E18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42D44-C4EE-476F-A17A-7AB354E15C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2F170-EEC7-472C-894A-44470CBBBB7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F1CE8-552F-49BD-9103-E3A81C2E3D4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SYTUACJA W ZAKRESIE DELEGOWANIA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7000" y="1835280"/>
            <a:ext cx="8434440" cy="35474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kala delegowania – </a:t>
            </a:r>
            <a:r>
              <a:rPr b="1" lang="pl-PL" sz="3000" spc="-1" strike="noStrike">
                <a:solidFill>
                  <a:srgbClr val="ffd300"/>
                </a:solidFill>
                <a:latin typeface="Arial"/>
              </a:rPr>
              <a:t>tendencje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ta: 2005 – 2007 – wzrost,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ta: 2008 i 2009 – spadek,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I poł. 2010 r. – powrót do poziomu z 2007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i 2008 r.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ane z raportu MPiPS na podstawie liczby formularzy E101 poświadczonych przez ZUS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WSPÓŁPRACA ADMINISTRACYJN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ństwa Członkowskie powinny przewidzieć współpracę pomiędzy urzędami, które zgodnie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 prawodawstwem krajowym są odpowiedzialne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a nadzorowanie warunków pracy i zatrudnienia,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 których mowa w art. 3.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spółpraca będzie polegać w szczególnośc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udzielaniu przez powyższe urzędy informacj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tema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1) wynajmowania pracowników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2) wyraźnych wykroczeń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3) domniemanych przypadków nielegalnej działalności wykraczającej poza granice państwowe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art. 4 ust. 2 Dyrektywy 96/71/WE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WSPÓŁPRACA ADMINISTRACYJN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Każde Państwo Członkowskie podejmie stosowne środki, aby informacje dotyczące warunków pracy 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i zatrudnienia, o których mowa 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w art. 3 były powszechnie dostępne.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art. 4 ust. 3 Dyrektywy 96/71/WE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A43B-2CFF-4035-BA0E-FCC2C1B6722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5A16D-D43F-4590-8289-2B4373BB99A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7A6D4-9A6A-46FE-90D1-2F4A779FF8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1F180-B83B-4CB4-88DB-8EA4DA57713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0CB60-4F8D-46A8-AF36-1373F0CCC83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E9A03-D148-44F7-B5DF-B6A31FCA647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15B8-F96B-4E8C-8578-93CB231BA4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39078-9A93-4393-B26E-A53C95EACA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B66F1-FA88-42DD-8D3C-1CF305E6FB5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63C90-FB8F-4A09-ADF7-1EC08F6617C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9CFC3-C3B3-460F-A197-1ECB5AF91A3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67EAE-2755-4AEA-95DC-68DB0A4C5B3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55D3F-B236-4A85-BF63-8E13BC35FCB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48109-16C2-4047-A450-B2EACFC02FD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C5E13-2AD3-43B0-A575-F14EC7C724B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D6F1-EE2D-49BA-824D-4BD7FCD9E3D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56758-E8D4-48A9-BCAC-DFA6502D314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2D1B0-9D17-4256-86B1-74AE3D0F873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582C1-0AF1-4DA1-AA27-BCEA8DF106B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25FEB-A8FC-4941-8F59-79301C6613A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8FE58-F5F3-4119-BEFC-B9B426D91E3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6453A-133B-44FA-8F52-1BC07BFCD77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54E7-CF30-4B0D-9AC0-35998C91618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43E02-E1F5-486B-93B3-66BA32F5339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DE31-C95B-4919-A039-FCB4C8E3190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0446-3562-4C9C-AF21-008F577890B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F291-7FE9-487F-864D-C0C86218C6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018B6-9CB1-4B94-966B-FC824FA235B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84120" y="1722240"/>
            <a:ext cx="8452080" cy="32457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DANIA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ymiana informacji na temat delegowania z biurami łącznikowymi w innych państwach członkowskich;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ekazywanie do zagranicznych biur łącznikowych informacji o nieprawidłowościach, sygnalizowanych w skargach polskich pracowników, w tym delegowanych;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5B12D-8482-42B3-A1C2-9A4CE99D1A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E167D-CCC1-41F4-A76A-1C8EAB0F830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D70D-8512-4C4C-B188-C2B28914930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23A1A-9F79-4705-B87B-0F75F18F792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71EA5-30B3-4130-B753-372BF280454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AB23-8949-45BC-AA99-975FEDD854E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33162-A2E4-4AB9-A8F4-E579BB83B09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3AF7C-AE02-4057-AAB5-ED43270BA72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5AFC5-EFD7-4867-AD7A-1FF0F6E5B47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0E514-C4CA-44E5-8441-DF085B6BF53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9B912-93B0-47B5-8E6D-65C6BA11FA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21B3-DF7E-44F5-8BC3-FA6B02C772B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A375-0274-438D-A43D-AE1BBA47A99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AFF93-8D1E-4792-B117-FFA3D35022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616A4-811A-4D38-A951-CDC9F26E50F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5024-23F2-4B9F-A815-A7D658C9AFF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15FAD-3F0D-44B3-9E7D-1682FD71A36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9AED3-7932-4603-B155-85EE1B28429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0BC53-2E2A-4C11-8BBF-80012176AF3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726A-3E2E-4DFC-A51C-1C5D58EA461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72E4-AD9A-4335-A066-6EB0BDFFDF9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DF5DA-9AF6-47A1-A3CF-D047044ED78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66527-AF0D-4D18-9009-C97D32641C7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DB493-5503-4299-ABB8-A35FD767C7E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17217-E6A8-4758-8C09-41D97AE10AD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621F2-9E33-448D-AB98-2A5DDB1C1EF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FBEF-2148-4534-BC4A-F904EBB76DB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2023C-9ECD-4B89-9567-851AA3E630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07800" y="2020320"/>
            <a:ext cx="8455320" cy="33094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DANIA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(c.d.)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spółpraca z polskimi organami, urzędami, instytucjami;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dzielanie - na pisemny wniosek osoby zainteresowanej - informacji o minimalnych warunkach zatrudnienia wynikających z polskich przepisów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C5AD-453C-4E56-BD7B-C11FB740F30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BD88-3A2C-4078-88B5-4EBA2F9635F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DBBF2-EDD2-4E3D-AD74-3D8F167670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4E06A-F8BE-40B9-ADAC-C3E57F570C1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3C4AE-5D87-45F3-9CB0-22FE9D6B015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D48D-33BD-4FBF-A325-19F48AEC309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C09AE-5020-4A1A-9EA6-E2F4DA0D05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9693-A771-4B8F-9B29-B01A68E2841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F02B5-30A8-4F96-A621-D16FC9BF347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2FD52-FA20-478F-A3F9-9B5B7FDAF23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6CFE-7EA2-4AA9-986E-83E40DA651E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6230D-7829-413D-B5E0-15977FBE3CA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F1230-CF44-492C-9E66-A7E8131C77E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69105-627F-4834-B12B-E604A2CFCB4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E476-9F5E-44CD-A2EA-6259CDDF5C2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F7B92-DD36-4ECA-85E5-89286D06DC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DE87B-2E05-4403-A277-9C1E9F8F8A8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31B8-1D94-4353-96D9-BCD5988685C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A1C78-884D-4DED-8B69-42CE7749C0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1881-8104-4D9A-AA8F-13E8045C89B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8C79C-D986-4C20-AF8B-12C5B9E133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336A3-A67D-4A35-9D87-F42497A759A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B16AA-593C-45DD-ACD2-232E333D3DE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ED488-B1E2-4797-B5EC-66B5E7FBE7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C0268-B779-4FD3-81C0-7DB2291EF26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02B0-A645-486B-AD57-26155318DF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85081-318A-421A-BE8D-4ACA4594BA2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8067F-1E81-4300-8EF3-D2C90653DC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62080" y="1088280"/>
            <a:ext cx="8548560" cy="51739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 zadań Państwowej Inspekcji Pracy należy współpraca z urzędami państw członkowskich UE/EOG, odpowiedzialnymi za nadzorowanie warunków pracy i zatrudnienia, w szczególności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dzielanie informacji o warunkach zatrudnienia pracowników skierowanych do wykonywania pracy na terytorium państwa członkowskiego UE/EOG, na określony czas, przez pracodawcę mającego swoją siedzibę w RP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nformowanie o stwierdzonych wykroczeniach przeciwko prawom pracowników skierowanych do wykonywania pracy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 terytorium RP na określony czas przez pracodawcę mającego siedzibę w państwie będącym członkiem UE/EOG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skazywanie organu nadzoru nad rynkiem pracy, właściwego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o udzielania żądanej informacji ze względu na zakres jego działania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9E106-A436-49BC-8855-6AFE325EF2B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3CEFD-A30F-49A2-80E6-C85DD02C838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2C27A-C0C8-4DFA-AF6B-FDB4063CAF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64CF4-4A52-4600-87A2-29A15B1E576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18771-1CC7-4A46-BBE2-9CE9CB88A05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47835-7678-4D42-9DAB-93E5B210E51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3FA2-5EBD-4201-9AA6-CD86A11593B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88149-4883-44D9-BB2E-0A6BE4817F9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FE8D-FCF4-454C-B3E5-CB756AC84EA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2568-6D77-41CA-AEE0-8B3C7CAFEF4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99152-7FCE-408B-92F6-C35F8158ACB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5285C-1A40-41DC-92C8-CCAAE783148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8395B-33BC-42D3-A442-64866524466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F211C-56E4-46E0-857E-D458B4E0E1E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48B67-12A0-47D7-93A8-E885AF1E09B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DA1BF-59DA-46BA-A375-B3AC6E28048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5C163-B211-4A1A-AFBC-F093EBE8906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929EF-BD6A-45D7-9DDF-C1D35FFD08E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13" name="Picture 2" descr="mapka"/>
          <p:cNvPicPr/>
          <p:nvPr/>
        </p:nvPicPr>
        <p:blipFill>
          <a:blip r:embed="rId1"/>
          <a:stretch/>
        </p:blipFill>
        <p:spPr>
          <a:xfrm>
            <a:off x="5148360" y="2635200"/>
            <a:ext cx="3384360" cy="322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logo%2520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15" name="Text Box 4"/>
          <p:cNvSpPr/>
          <p:nvPr/>
        </p:nvSpPr>
        <p:spPr>
          <a:xfrm>
            <a:off x="1476360" y="2131920"/>
            <a:ext cx="2158920" cy="39722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Główny Inspektorat Pracy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0072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73272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37236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4 tygodnie na udzielenie odpowiedzi (Standards of Cooperation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Arial"/>
              </a:rPr>
              <a:t>REALIZOWANIE ZADAŃ INSTYTUCJI ŁĄCZNIKOWEJ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2F37C-A363-47EB-A125-0C5D1D1436B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E4287-7D72-4141-A901-B2F502F0D33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AB5B-0F41-457D-AC56-74DFED1A341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768A-7429-43BB-B137-3C9E4A591B9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61FA5-73F3-4AB7-BD0E-4CD6317715A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6E838-B37B-419B-8838-9129DC44F01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5B2F5-FB6D-41AD-9DC6-C7DD905D5B6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7F23E-D374-4FFF-9BDF-E9CB6A5429D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3D14-F811-4C38-961F-EEDB165BEAE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76061-8E87-4ABB-81EF-32392A5109A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4F2D4-F60E-46A3-A7C5-84919777369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F74E-1E72-4544-BF1A-BC888B07FDE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EE685-DCFE-48BA-93F0-3665C5FD91E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3E212-2A51-4A85-8A9D-41D7C774ED4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3B30-64C3-45C1-A209-FE72ED67CA8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0E1E-D38E-4A55-8482-D007AE59D94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63D89-CC68-413A-9711-472D06E2AD9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7C559-711D-4616-89B2-8BF80E22688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Arial"/>
              </a:rPr>
              <a:t>REALIZOWANIE ZADAŃ INSTYTUCJI ŁĄCZNIKOWEJ</a:t>
            </a: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owadzenie korespondencji w językach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angiel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niemiec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ancuskim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hiszpań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wło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61" name="Picture 6" descr="wspolpraca"/>
          <p:cNvPicPr/>
          <p:nvPr/>
        </p:nvPicPr>
        <p:blipFill>
          <a:blip r:embed="rId6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dejn</dc:creator>
  <dc:description/>
  <dc:language>en-US</dc:language>
  <cp:lastModifiedBy>000538</cp:lastModifiedBy>
  <dcterms:modified xsi:type="dcterms:W3CDTF">2011-12-02T09:41:06Z</dcterms:modified>
  <cp:revision>357</cp:revision>
  <dc:subject/>
  <dc:title>PIP-prezentacja</dc:title>
</cp:coreProperties>
</file>