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566D1-9049-4425-813E-142CF76FBC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3464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950e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024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59640"/>
            <a:ext cx="822024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57BA8-796F-47BD-8B0B-E4AF9E9781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3464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950e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5964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200" y="395964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A5E72-6A45-40D2-8769-DFE1833586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3464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950e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5960" y="160020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5964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6760" y="395964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5960" y="395964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787FA-C0C3-40A4-ABFC-FE1789F5473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3464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950e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024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22AC7-092B-48C3-B19E-BED85A58497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3464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950e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024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D6BB3-7810-4C2A-BBD1-3D17A1DE45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3464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950e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BBB34-6B9A-4471-AA0D-C36760D4E6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3464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950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4C126-9E88-4967-A677-E402B57D24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34640" cy="383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2451D-3181-4F58-AEFD-D978762B6B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3464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950e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5964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11F8F-0D96-4651-BE20-AE4747164D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3464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950e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200" y="395964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E4C0D-DAA3-4DAE-BB75-8887092756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3464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950e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59640"/>
            <a:ext cx="8220240" cy="21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14641-AE39-4779-B2BF-699DA69252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WordArt 1"/>
          <p:cNvSpPr txBox="1"/>
          <p:nvPr/>
        </p:nvSpPr>
        <p:spPr>
          <a:xfrm>
            <a:off x="108000" y="6405480"/>
            <a:ext cx="4680000" cy="45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1" strike="noStrike">
                <a:ln w="0">
                  <a:noFill/>
                </a:ln>
                <a:solidFill>
                  <a:srgbClr val="ffffff">
                    <a:alpha val="32000"/>
                  </a:srgbClr>
                </a:solidFill>
                <a:latin typeface="Square721 BT"/>
              </a:rPr>
              <a:t>www.pip.gov.pl</a:t>
            </a:r>
            <a:endParaRPr b="1" lang="en-US" sz="3200" spc="1" strike="noStrike">
              <a:ln w="0">
                <a:noFill/>
              </a:ln>
              <a:solidFill>
                <a:srgbClr val="ffffff">
                  <a:alpha val="32000"/>
                </a:srgbClr>
              </a:solidFill>
              <a:latin typeface="Square721 BT"/>
              <a:ea typeface="Square721 BT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3464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950e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950e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024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0">
              <a:lnSpc>
                <a:spcPct val="104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lbertus MT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  <a:p>
            <a:pPr lvl="1" marL="333360" indent="-333360">
              <a:lnSpc>
                <a:spcPct val="104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lbertus MT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  <a:p>
            <a:pPr lvl="2" marL="333360" indent="-333360">
              <a:lnSpc>
                <a:spcPct val="104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lbertus MT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  <a:p>
            <a:pPr lvl="3" marL="333360" indent="-333360">
              <a:lnSpc>
                <a:spcPct val="104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lbertus MT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  <a:p>
            <a:pPr lvl="4" marL="333360" indent="-333360">
              <a:lnSpc>
                <a:spcPct val="104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lbertus MT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  <a:p>
            <a:pPr lvl="5" marL="333360" indent="-333360">
              <a:lnSpc>
                <a:spcPct val="104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lbertus MT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  <a:p>
            <a:pPr lvl="6" marL="333360" indent="-333360">
              <a:lnSpc>
                <a:spcPct val="104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lbertus MT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45928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pl-PL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AFD6868-2616-4FE2-8FD5-B36B2F835DDD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928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pl-PL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983013A-F9A4-43C3-9A23-B25F9E60791C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images.google.com/imgres?imgurl=http://www.biblioteka.lebork.pl/zdjecia/logo%20UE.jpg&amp;imgrefurl=http://www.biblioteka.lebork.pl/index.php?sid=61&amp;tid=98&amp;h=600&amp;w=900&amp;sz=27&amp;tbnid=qqqD6HQ_m2YJ:&amp;tbnh=96&amp;tbnw=145&amp;hl=pl&amp;start=1&amp;prev=/images?q=logo+ue&amp;svnum=10&amp;hl=pl&amp;lr=&amp;rls=GGLR,GGLR:2005-40,GGLR:en&amp;sa=N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878887-B790-40DD-BAC9-0B3124A6EE6B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5CA1E5-2DC8-4BF7-88A2-4FD66FB3E8C8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C86B78-F59C-4665-BE29-6C09622AD3A6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2F561E-3E83-4CCF-9895-0E5875021C61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633ECD-4D49-46E1-B30C-7D45876B9EBD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AD52CD-F1EA-4EF4-B681-8607F2BC7CD2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C56723-7151-4617-B667-D5D300F174BB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90A63C-4D71-4825-AAAE-6C403B066E4F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EE0B30-51C1-47D9-9B08-83AEAA5FADF2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B593DA-7D76-4656-86B9-C0D55CD037C6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BFD45D-69D5-4950-98A8-EFFFAE2DB2B3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F7610D-A4CC-4B01-883E-27734302B46E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4EB4DD-724F-49D7-8181-CDCCE9B5222F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844BA0-9EB9-4CC8-BE5B-1671F390ED02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501B13-33FC-40AE-ACFD-E3FDF01819F2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54B029-242E-4A25-AC43-EAC5B1476657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AA5E18-57C4-4B01-B886-325562708EBB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7D643A-0CA4-4F78-9F2A-3CC68F9EF384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A70905-9601-44AF-91F6-6546B6AC4971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E5A991-5F13-4A14-9E2D-525F17581C04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D387A8-8AFE-4426-A88D-05FE647E3CA0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0F2EEA-4E76-4ED1-9D5E-7AA16DCE6EA2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42FC35-A29B-44DD-A83D-65051B5B5610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1B3772-2629-4432-8BD3-9EFE9F213CA2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D1C5C1-06CC-47A2-90C8-9374FD4A7D97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0972A5-8376-4144-9CE0-A64F7631575C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67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C3B49C-DBC2-4EAA-AF07-07ADA17F08D6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68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9A9A67-AAEF-46AE-9383-4FC348C76DE3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3464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l-PL" sz="3200" spc="-1" strike="noStrike">
                <a:solidFill>
                  <a:srgbClr val="ff950e"/>
                </a:solidFill>
                <a:latin typeface="Arial"/>
              </a:rPr>
              <a:t>SYTUACJA W ZAKRESIE DELEGOWANIA </a:t>
            </a:r>
            <a:endParaRPr b="1" lang="en-US" sz="3200" spc="-1" strike="noStrike">
              <a:solidFill>
                <a:srgbClr val="ff950e"/>
              </a:solidFill>
              <a:latin typeface="Arial"/>
            </a:endParaRPr>
          </a:p>
        </p:txBody>
      </p:sp>
      <p:sp>
        <p:nvSpPr>
          <p:cNvPr id="70" name="AutoShape 3"/>
          <p:cNvSpPr/>
          <p:nvPr/>
        </p:nvSpPr>
        <p:spPr>
          <a:xfrm>
            <a:off x="227160" y="914400"/>
            <a:ext cx="8592840" cy="5303880"/>
          </a:xfrm>
          <a:prstGeom prst="roundRect">
            <a:avLst>
              <a:gd name="adj" fmla="val 16690"/>
            </a:avLst>
          </a:prstGeom>
          <a:solidFill>
            <a:srgbClr val="000000">
              <a:alpha val="6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66760" indent="-266760"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Polska jest krajem, z którego pracownicy są </a:t>
            </a:r>
            <a:r>
              <a:rPr b="1" lang="pl-PL" sz="2600" spc="-1" strike="noStrike">
                <a:solidFill>
                  <a:srgbClr val="ffd300"/>
                </a:solidFill>
                <a:latin typeface="Arial"/>
              </a:rPr>
              <a:t>głównie wysyłani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 do innych państw UE/EOG</a:t>
            </a:r>
            <a:br>
              <a:rPr sz="2600"/>
            </a:b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w ramach transgranicznego świadczenia usług (do naszego kraju pracowników delegują najczęściej </a:t>
            </a:r>
            <a:r>
              <a:rPr b="1" lang="pl-PL" sz="2600" spc="-1" strike="noStrike">
                <a:solidFill>
                  <a:srgbClr val="ffd300"/>
                </a:solidFill>
                <a:latin typeface="Arial"/>
              </a:rPr>
              <a:t>przedsiębiorcy z państw trzecich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1" lang="en-US" sz="2600" spc="-1" strike="noStrike">
              <a:solidFill>
                <a:srgbClr val="ffd3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d300"/>
              </a:solidFill>
              <a:latin typeface="Arial"/>
            </a:endParaRPr>
          </a:p>
          <a:p>
            <a:pPr marL="266760" indent="-266760"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Największa skala delegowania dotyczy branży budowlanej, w takich państwach jak: </a:t>
            </a:r>
            <a:br>
              <a:rPr sz="2600"/>
            </a:br>
            <a:r>
              <a:rPr b="1" lang="pl-PL" sz="2600" spc="-1" strike="noStrike">
                <a:solidFill>
                  <a:srgbClr val="ffd300"/>
                </a:solidFill>
                <a:latin typeface="Arial"/>
              </a:rPr>
              <a:t>Niemcy, Francja, Belgia, Holandia </a:t>
            </a:r>
            <a:br>
              <a:rPr sz="2600"/>
            </a:br>
            <a:r>
              <a:rPr b="1" lang="pl-PL" sz="2600" spc="-1" strike="noStrike">
                <a:solidFill>
                  <a:srgbClr val="ffd300"/>
                </a:solidFill>
                <a:latin typeface="Arial"/>
              </a:rPr>
              <a:t>i państwa skandynawskie</a:t>
            </a:r>
            <a:r>
              <a:rPr b="1" lang="pl-PL" sz="2400" spc="-1" strike="noStrike">
                <a:solidFill>
                  <a:srgbClr val="ffd3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ffd3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d3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d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06F03B-1D22-45C8-B006-D4A3FE0BAAA2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63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0BBC80-D4B0-4A3C-AE6B-07D32D5024A9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64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52ECF5-BE22-4D02-B100-75C52B1B7F40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65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3BE7F0-3FD7-4C4D-8CF7-4B713751248F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66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CE4103-1A46-4CA7-B11D-E8D897CE6231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67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4D4131-EDF2-4ABD-9F5A-27CCBA9D352F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68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61DCDB-9549-4094-825B-20B4021C848E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69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8D7313-4C11-4911-AD1B-D7969DC6C01A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70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1AB87A-03E2-4E38-A1E2-DC4E8038D558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71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D2E5C1-9601-45B4-914F-6028BA0E208F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72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537349-F98A-4D7D-A3F2-C8F83C47652B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73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F8322C-B931-4B68-B01E-7981B2DC11DC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74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4B3095-DB45-47CB-9818-6FDEDC4CB561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75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36B396-4993-4BB2-BB2D-6E8E15ACA9BB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76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F53D0B-BFD3-4E7D-9D9C-3F144BC41779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77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1AC370-2FA2-4CDF-A0A6-696BE78D2D3A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78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4798CC-B7B6-4D7F-973D-0A9168332E33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79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A9B484-BF6B-44EE-95E1-1E5C35C04565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8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81" name="Rectangle 3"/>
          <p:cNvSpPr/>
          <p:nvPr/>
        </p:nvSpPr>
        <p:spPr>
          <a:xfrm>
            <a:off x="19080" y="92160"/>
            <a:ext cx="91440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ffd3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l-PL" sz="2600" spc="-1" strike="noStrike">
                <a:solidFill>
                  <a:srgbClr val="ff9900"/>
                </a:solidFill>
                <a:latin typeface="Arial"/>
              </a:rPr>
              <a:t>WYMIANA INFORMACJI POMIĘDZY PIP </a:t>
            </a:r>
            <a:br>
              <a:rPr sz="2600"/>
            </a:br>
            <a:r>
              <a:rPr b="1" lang="pl-PL" sz="2600" spc="-1" strike="noStrike">
                <a:solidFill>
                  <a:srgbClr val="ff9900"/>
                </a:solidFill>
                <a:latin typeface="Arial"/>
              </a:rPr>
              <a:t>I URZĘDAMI PAŃSTW CZŁONKOWSKICH UE/EOG</a:t>
            </a:r>
            <a:endParaRPr b="1" lang="en-US" sz="2600" spc="-1" strike="noStrike">
              <a:solidFill>
                <a:srgbClr val="ffd300"/>
              </a:solidFill>
              <a:latin typeface="Arial"/>
            </a:endParaRPr>
          </a:p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82" name="AutoShape 4"/>
          <p:cNvSpPr/>
          <p:nvPr/>
        </p:nvSpPr>
        <p:spPr>
          <a:xfrm>
            <a:off x="468360" y="1125360"/>
            <a:ext cx="8207280" cy="4608720"/>
          </a:xfrm>
          <a:prstGeom prst="roundRect">
            <a:avLst>
              <a:gd name="adj" fmla="val 8593"/>
            </a:avLst>
          </a:prstGeom>
          <a:solidFill>
            <a:srgbClr val="000000">
              <a:alpha val="6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755280" y="1196640"/>
            <a:ext cx="74883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Pytania</a:t>
            </a: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najczęściej kierowane do Państwowej Inspekcji Pracy:</a:t>
            </a: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  <a:p>
            <a:pPr marL="33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  <a:p>
            <a:pPr marL="333360" indent="-33336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56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Czy przedsiębiorstwo działa legalnie na terytorium Polski ?</a:t>
            </a:r>
            <a:endParaRPr b="1" lang="en-US" sz="2000" spc="-1" strike="noStrike">
              <a:solidFill>
                <a:srgbClr val="ffffff"/>
              </a:solidFill>
              <a:latin typeface="Albertus MT"/>
            </a:endParaRPr>
          </a:p>
          <a:p>
            <a:pPr marL="333360" indent="-33336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56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Czy przedsiębiorstwo prowadzi znaczącą działalność gospodarczą na terytorium Polski ?</a:t>
            </a:r>
            <a:endParaRPr b="1" lang="en-US" sz="2000" spc="-1" strike="noStrike">
              <a:solidFill>
                <a:srgbClr val="ffffff"/>
              </a:solidFill>
              <a:latin typeface="Albertus MT"/>
            </a:endParaRPr>
          </a:p>
          <a:p>
            <a:pPr marL="333360" indent="-33336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56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Czy przedsiębiorstwo zatrudnia delegowanych pracownik</a:t>
            </a:r>
            <a:r>
              <a:rPr b="1" lang="pl-PL" sz="2000" spc="-1" strike="noStrike">
                <a:solidFill>
                  <a:srgbClr val="ffffff"/>
                </a:solidFill>
                <a:latin typeface="Albertus MT"/>
              </a:rPr>
              <a:t>ó</a:t>
            </a: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w w ramach stosunku pracy ?</a:t>
            </a:r>
            <a:endParaRPr b="1" lang="en-US" sz="2000" spc="-1" strike="noStrike">
              <a:solidFill>
                <a:srgbClr val="ffffff"/>
              </a:solidFill>
              <a:latin typeface="Albertus MT"/>
            </a:endParaRPr>
          </a:p>
          <a:p>
            <a:pPr marL="333360" indent="-33336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56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W jakim sektorze przedsiębiorstwo prowadzi działalność gospodarczą ?</a:t>
            </a:r>
            <a:endParaRPr b="1" lang="en-US" sz="2000" spc="-1" strike="noStrike">
              <a:solidFill>
                <a:srgbClr val="ffffff"/>
              </a:solidFill>
              <a:latin typeface="Albertus MT"/>
            </a:endParaRPr>
          </a:p>
        </p:txBody>
      </p:sp>
    </p:spTree>
  </p:cSld>
  <p:transition>
    <p:fade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4000"/>
                            </p:stCondLst>
                            <p:childTnLst>
                              <p:par>
                                <p:cTn id="1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6000"/>
                            </p:stCondLst>
                            <p:childTnLst>
                              <p:par>
                                <p:cTn id="1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EFEC5E-CE5C-4D6F-AE29-D048F47B4ECC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85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D7CF01-BAB4-44E5-AA23-6A2E83EBA833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86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21EEE4-6946-491A-833F-183B2B51DF0C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87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A2D466-CE49-4224-B6B6-953FC1A8A24A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88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E36FCA-E781-40F0-9BD3-5752DBFBC335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89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2DEEC4-9DA2-4800-A423-945BECC17287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90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8DECCB-B2D5-4DC1-BF40-A9B10E313BA7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91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7AE175-D882-4DDB-AB9A-B45816C32015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92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AB387D-0D3B-4D7D-8B84-A6C3D620E8F8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93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FD9D4E-2A99-422C-B7D7-C038718112A5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94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C248B6-4CAA-40C0-A7E4-E264D28CAA9F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95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188384-40FE-493D-8FE7-212B6CEA61E3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96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65E9D0-18B9-4F3A-AE35-30799404FFED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97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1BA5A3-A6CC-4B25-BDCC-689C310C7F1B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98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087A18-8AEA-4962-B5A7-C39D2971DFA1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99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A98D91-74B2-4546-98D1-F178425C92C9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00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5491CB-BF0E-4CCF-8CE2-4D381ADA6360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01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9F80FC-29DA-4254-9552-61BC23EC95C0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02" name="AutoShape 1"/>
          <p:cNvSpPr/>
          <p:nvPr/>
        </p:nvSpPr>
        <p:spPr>
          <a:xfrm>
            <a:off x="249120" y="1341360"/>
            <a:ext cx="8645760" cy="3672000"/>
          </a:xfrm>
          <a:prstGeom prst="roundRect">
            <a:avLst>
              <a:gd name="adj" fmla="val 7778"/>
            </a:avLst>
          </a:prstGeom>
          <a:solidFill>
            <a:srgbClr val="000000">
              <a:alpha val="60000"/>
            </a:srgbClr>
          </a:solidFill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3464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2600"/>
            </a:br>
            <a:r>
              <a:rPr b="1" lang="pl-PL" sz="2600" spc="-1" strike="noStrike">
                <a:solidFill>
                  <a:srgbClr val="ff9900"/>
                </a:solidFill>
                <a:latin typeface="Arial"/>
              </a:rPr>
              <a:t>WYMIANA INFORMACJI POMIĘDZY PIP </a:t>
            </a:r>
            <a:br>
              <a:rPr sz="2600"/>
            </a:br>
            <a:r>
              <a:rPr b="1" lang="pl-PL" sz="2600" spc="-1" strike="noStrike">
                <a:solidFill>
                  <a:srgbClr val="ff9900"/>
                </a:solidFill>
                <a:latin typeface="Arial"/>
              </a:rPr>
              <a:t>I URZĘDAMI PAŃSTW CZŁONKOWSKICH UE/EOG</a:t>
            </a:r>
            <a:br>
              <a:rPr sz="2600"/>
            </a:br>
            <a:endParaRPr b="1" lang="en-US" sz="2600" spc="-1" strike="noStrike">
              <a:solidFill>
                <a:srgbClr val="ff950e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lnSpc>
                <a:spcPct val="9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Pytania najczęściej kierowane do Państwowej Inspekcji Pracy (c.d.):</a:t>
            </a: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  <a:p>
            <a:pPr marL="355680" indent="0">
              <a:lnSpc>
                <a:spcPct val="9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  <a:p>
            <a:pPr marL="355680" indent="-3556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SzPct val="5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Czy przedsiębiorstwo świadczy usługi w zakresie pracy tymczasowej, a jeżeli tak to czy zostało wpisane do rejestru podmiot</a:t>
            </a:r>
            <a:r>
              <a:rPr b="1" lang="pl-PL" sz="2000" spc="-1" strike="noStrike">
                <a:solidFill>
                  <a:srgbClr val="ffffff"/>
                </a:solidFill>
                <a:latin typeface="Albertus MT"/>
              </a:rPr>
              <a:t>ó</a:t>
            </a: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w prowadzących agencje zatrudnienia ?</a:t>
            </a:r>
            <a:endParaRPr b="1" lang="en-US" sz="2000" spc="-1" strike="noStrike">
              <a:solidFill>
                <a:srgbClr val="ffffff"/>
              </a:solidFill>
              <a:latin typeface="Albertus MT"/>
            </a:endParaRPr>
          </a:p>
          <a:p>
            <a:pPr marL="355680" indent="0">
              <a:lnSpc>
                <a:spcPct val="9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lbertus MT"/>
            </a:endParaRPr>
          </a:p>
          <a:p>
            <a:pPr marL="355680" indent="-355680">
              <a:lnSpc>
                <a:spcPct val="94000"/>
              </a:lnSpc>
              <a:spcBef>
                <a:spcPts val="601"/>
              </a:spcBef>
              <a:buClr>
                <a:srgbClr val="ff9900"/>
              </a:buClr>
              <a:buSzPct val="5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Pytania o warunki zatrudnienia, w tym normy czasu pracy, wymiar urlopu wypoczynkowego, wysokość wypłaconego wynagrodzenia; </a:t>
            </a:r>
            <a:endParaRPr b="1" lang="en-US" sz="2000" spc="-1" strike="noStrike">
              <a:solidFill>
                <a:srgbClr val="ffffff"/>
              </a:solidFill>
              <a:latin typeface="Albertus MT"/>
            </a:endParaRPr>
          </a:p>
          <a:p>
            <a:pPr marL="355680" indent="0">
              <a:lnSpc>
                <a:spcPct val="94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lbertus MT"/>
            </a:endParaRPr>
          </a:p>
          <a:p>
            <a:pPr marL="355680" indent="0">
              <a:lnSpc>
                <a:spcPct val="9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lbertus MT"/>
            </a:endParaRPr>
          </a:p>
        </p:txBody>
      </p:sp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3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6391C8-3562-4B3E-8857-20B7911525A9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06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41F614-8707-400D-BAAE-29C3A0566DAE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07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7AB09E-7873-4970-A10D-D3963060F65A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08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E9D8E9-6991-4AD5-8ED0-C17BC49E1F40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09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AA780E-51C8-43E5-82B5-367EFBD5E4B0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10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2B3181-D258-4250-B87E-D3DBEAB29FF5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11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CA0CE9-C757-422E-82AA-D3E13457BDE3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12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6083D9-1AAE-4DA7-8FE2-240C814DFEAB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13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ADF118-5532-4DB3-8FE3-E570C0EBF91A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14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44E185-FC6A-4CDE-97B4-BD72CA9AAC90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15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A2D1B3-075F-4AD9-921A-323C04F1E34E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16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744CCD-2B32-41FB-BDAF-8A6A7CEA36A8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17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3F303A-D4D6-4C1D-855D-70CD9D610DCB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18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3E6412-C2EC-4E5C-B447-BC423576E90F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19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5C8756-4907-4EC2-B22D-EA90D3412A8B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20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CD5309-40B1-4085-9D29-FC42A46E4B10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21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5CA520-1467-41DF-8E00-F36D37B256AF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22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D3B087-1690-4BCE-B2C7-7590D629EE63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23" name="AutoShape 1"/>
          <p:cNvSpPr/>
          <p:nvPr/>
        </p:nvSpPr>
        <p:spPr>
          <a:xfrm>
            <a:off x="249120" y="1341360"/>
            <a:ext cx="8645760" cy="3672000"/>
          </a:xfrm>
          <a:prstGeom prst="roundRect">
            <a:avLst>
              <a:gd name="adj" fmla="val 7778"/>
            </a:avLst>
          </a:prstGeom>
          <a:solidFill>
            <a:srgbClr val="000000">
              <a:alpha val="60000"/>
            </a:srgbClr>
          </a:solidFill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3464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l-PL" sz="2800" spc="-1" strike="noStrike">
                <a:solidFill>
                  <a:srgbClr val="ff950e"/>
                </a:solidFill>
                <a:latin typeface="Arial"/>
              </a:rPr>
              <a:t>SKARGI DOTYCZĄCE PRACOWNIKÓW DELEGOWANYCH</a:t>
            </a:r>
            <a:endParaRPr b="1" lang="en-US" sz="2800" spc="-1" strike="noStrike">
              <a:solidFill>
                <a:srgbClr val="ff950e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Problematyka skarg (c.d.):</a:t>
            </a:r>
            <a:endParaRPr b="1" lang="en-US" sz="2800" spc="-1" strike="noStrike">
              <a:solidFill>
                <a:srgbClr val="ffffff"/>
              </a:solidFill>
              <a:latin typeface="Albertus MT"/>
            </a:endParaRPr>
          </a:p>
          <a:p>
            <a:pPr marL="35568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  <a:p>
            <a:pPr marL="355680" indent="-355680">
              <a:lnSpc>
                <a:spcPct val="104000"/>
              </a:lnSpc>
              <a:spcBef>
                <a:spcPts val="601"/>
              </a:spcBef>
              <a:buClr>
                <a:srgbClr val="ffffff"/>
              </a:buClr>
              <a:buSzPct val="5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naruszanie przepisów o czasie pracy,</a:t>
            </a: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  <a:p>
            <a:pPr marL="355680" indent="-355680">
              <a:lnSpc>
                <a:spcPct val="104000"/>
              </a:lnSpc>
              <a:spcBef>
                <a:spcPts val="601"/>
              </a:spcBef>
              <a:buClr>
                <a:srgbClr val="ffffff"/>
              </a:buClr>
              <a:buSzPct val="5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nieprawidłowości dotyczące prowadzenia ewidencji czasu pracy,</a:t>
            </a: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  <a:p>
            <a:pPr marL="355680" indent="-355680">
              <a:lnSpc>
                <a:spcPct val="104000"/>
              </a:lnSpc>
              <a:spcBef>
                <a:spcPts val="601"/>
              </a:spcBef>
              <a:buClr>
                <a:srgbClr val="ffffff"/>
              </a:buClr>
              <a:buSzPct val="5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nieprzestrzeganie przepisów w zakresie bhp, </a:t>
            </a: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  <a:p>
            <a:pPr marL="355680" indent="-355680">
              <a:lnSpc>
                <a:spcPct val="104000"/>
              </a:lnSpc>
              <a:spcBef>
                <a:spcPts val="601"/>
              </a:spcBef>
              <a:buClr>
                <a:srgbClr val="ffffff"/>
              </a:buClr>
              <a:buSzPct val="5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wypadki przy pracy,</a:t>
            </a: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  <a:p>
            <a:pPr marL="355680" indent="-355680">
              <a:lnSpc>
                <a:spcPct val="104000"/>
              </a:lnSpc>
              <a:spcBef>
                <a:spcPts val="601"/>
              </a:spcBef>
              <a:buClr>
                <a:srgbClr val="ffffff"/>
              </a:buClr>
              <a:buSzPct val="5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warunki zakwaterowania polskich pracowników.</a:t>
            </a: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8507B2-ACD7-4842-AC21-873023D89A57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27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76F406-9F1D-4AEB-B5A0-689953F0B195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28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270E49-9F25-4BB8-A0A1-6E0900385167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29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DC47AA-EAED-4346-9EAD-C2510D4A38DD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30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0A7941-EBC0-4659-80A8-3E59FE44E1E9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31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E7FCD9-0D02-4E73-AB3E-F9725D406C9A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32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A9003B-0C4E-4034-96CE-EFA959947F3D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33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6254CB-E777-4FC1-BF93-A6FD842C743B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34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EE2315-503E-49B7-BC5D-45F413FB7C7C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35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4AC060-E90A-49A0-A87C-86868078886B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36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78AFDB-FB36-4F80-B357-38A645D5B6D5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37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645282-D15C-47F6-9F1C-EEC5C4564D55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38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32C786-1DCF-4869-9E8D-3D60A948E7FC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39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488F14-D5C7-4BC4-933B-2C86630947AE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40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4F828E-08B8-4044-8658-2784ECF80FBC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41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7621AA-53C2-48B8-A606-159717A266D1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509D03-97E8-4624-B961-478867037942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43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19ADBC-B0C5-4CE7-9317-4FA9BE757F1C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44" name="AutoShape 1"/>
          <p:cNvSpPr/>
          <p:nvPr/>
        </p:nvSpPr>
        <p:spPr>
          <a:xfrm>
            <a:off x="249120" y="1341360"/>
            <a:ext cx="8645760" cy="3672000"/>
          </a:xfrm>
          <a:prstGeom prst="roundRect">
            <a:avLst>
              <a:gd name="adj" fmla="val 7778"/>
            </a:avLst>
          </a:prstGeom>
          <a:solidFill>
            <a:srgbClr val="000000">
              <a:alpha val="60000"/>
            </a:srgbClr>
          </a:solidFill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3464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l-PL" sz="2800" spc="-1" strike="noStrike">
                <a:solidFill>
                  <a:srgbClr val="ff950e"/>
                </a:solidFill>
                <a:latin typeface="Arial"/>
              </a:rPr>
              <a:t>WSPÓŁPRACA Z INNYMI ORGANAMI</a:t>
            </a:r>
            <a:endParaRPr b="1" lang="en-US" sz="2800" spc="-1" strike="noStrike">
              <a:solidFill>
                <a:srgbClr val="ff950e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lnSpc>
                <a:spcPct val="9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pl-PL" sz="2000" spc="-1" strike="noStrike">
                <a:solidFill>
                  <a:srgbClr val="ffd300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ffd300"/>
                </a:solidFill>
                <a:latin typeface="Arial"/>
              </a:rPr>
              <a:t>ZUS </a:t>
            </a: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– powiadamianie w szczególności o:</a:t>
            </a:r>
            <a:endParaRPr b="1" lang="en-US" sz="2000" spc="-1" strike="noStrike">
              <a:solidFill>
                <a:srgbClr val="ffffff"/>
              </a:solidFill>
              <a:latin typeface="Albertus MT"/>
            </a:endParaRPr>
          </a:p>
          <a:p>
            <a:pPr marL="355680" indent="-355680">
              <a:lnSpc>
                <a:spcPct val="94000"/>
              </a:lnSpc>
              <a:spcBef>
                <a:spcPts val="601"/>
              </a:spcBef>
              <a:buClr>
                <a:srgbClr val="ffffff"/>
              </a:buClr>
              <a:buSzPct val="5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okolicznościach mogących mieć wpływ na wydanie formularza </a:t>
            </a:r>
            <a:br>
              <a:rPr sz="2000"/>
            </a:b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E-101/A1 (np. nieprowadzenie przez przedsiębiorcę działalności na terytorium Polski lub działalności znaczącej);</a:t>
            </a:r>
            <a:endParaRPr b="1" lang="en-US" sz="2000" spc="-1" strike="noStrike">
              <a:solidFill>
                <a:srgbClr val="ffffff"/>
              </a:solidFill>
              <a:latin typeface="Albertus MT"/>
            </a:endParaRPr>
          </a:p>
          <a:p>
            <a:pPr marL="355680" indent="-355680">
              <a:lnSpc>
                <a:spcPct val="94000"/>
              </a:lnSpc>
              <a:spcBef>
                <a:spcPts val="601"/>
              </a:spcBef>
              <a:buClr>
                <a:srgbClr val="ffffff"/>
              </a:buClr>
              <a:buSzPct val="5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d300"/>
                </a:solidFill>
                <a:latin typeface="Arial"/>
              </a:rPr>
              <a:t>poświadczeniu formularza A1 dla pracownika zatrudnionego </a:t>
            </a:r>
            <a:br>
              <a:rPr sz="2000"/>
            </a:br>
            <a:r>
              <a:rPr b="1" lang="pl-PL" sz="2000" spc="-1" strike="noStrike">
                <a:solidFill>
                  <a:srgbClr val="ffd300"/>
                </a:solidFill>
                <a:latin typeface="Arial"/>
              </a:rPr>
              <a:t>w celu oddelegowania</a:t>
            </a: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, który bezpośrednio przed podjęciem zatrudnienia u danego pracodawcy </a:t>
            </a:r>
            <a:r>
              <a:rPr b="1" lang="pl-PL" sz="2000" spc="-1" strike="noStrike">
                <a:solidFill>
                  <a:srgbClr val="ffd300"/>
                </a:solidFill>
                <a:latin typeface="Arial"/>
              </a:rPr>
              <a:t>nie podlegał ubezpieczeniu społecznemu w państwie wysyłającym przez okres co najmniej miesiąca</a:t>
            </a: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1" lang="en-US" sz="2000" spc="-1" strike="noStrike">
              <a:solidFill>
                <a:srgbClr val="ffffff"/>
              </a:solidFill>
              <a:latin typeface="Albertus MT"/>
            </a:endParaRPr>
          </a:p>
          <a:p>
            <a:pPr marL="355680" indent="-355680">
              <a:lnSpc>
                <a:spcPct val="94000"/>
              </a:lnSpc>
              <a:spcBef>
                <a:spcPts val="601"/>
              </a:spcBef>
              <a:buClr>
                <a:srgbClr val="ffffff"/>
              </a:buClr>
              <a:buSzPct val="5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dysponowaniu przez przedsiębiorcę lub jego pracowników formularzami E-101/A1, które budzą uzasadnioną wątpliwość </a:t>
            </a:r>
            <a:br>
              <a:rPr sz="2000"/>
            </a:b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co do swojej autentyczności;</a:t>
            </a:r>
            <a:endParaRPr b="1" lang="en-US" sz="2000" spc="-1" strike="noStrike">
              <a:solidFill>
                <a:srgbClr val="ffffff"/>
              </a:solidFill>
              <a:latin typeface="Albertus MT"/>
            </a:endParaRPr>
          </a:p>
          <a:p>
            <a:pPr marL="355680" indent="0">
              <a:lnSpc>
                <a:spcPct val="9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lbertus MT"/>
            </a:endParaRPr>
          </a:p>
          <a:p>
            <a:pPr marL="355680" indent="0">
              <a:lnSpc>
                <a:spcPct val="9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  <a:p>
            <a:pPr marL="355680" indent="0">
              <a:lnSpc>
                <a:spcPct val="94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  <a:p>
            <a:pPr marL="355680" indent="0">
              <a:lnSpc>
                <a:spcPct val="9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1EB47D-1CE3-4852-A9A2-33F705CF992F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48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85F81C-B104-4E13-9EBE-7D1237AF2B36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49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4D0BAD-C006-4F86-9466-8F571B5C86C1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50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68FFFE-F613-41E2-92BD-F338B3F6D4FC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51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63388E-5FD7-4FB5-B63B-D05C8B520BB6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52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29E3C8-28C5-41D4-9F80-6B199D467389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53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81ED6D-E9A6-46EA-9775-401F75CA89D5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54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7CA285-74BA-4F44-A1F8-0F9272B77E3D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55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2F5056-179C-4FFD-96D3-E83C16A4C02E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56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6D4209-F428-4287-A8F9-18C353453503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57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6C406A-915E-45CC-8D69-162236D0757A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58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75606A-5665-4BF4-BF00-62ECF5995327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59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624BEE-E027-4A1C-BC6D-7C94ED18D50E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60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7C7510-7F8A-4B46-BFAB-D6525F67C7D6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61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304631-758A-4F1C-AC23-2A589E20BD31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62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4BD51A-8793-4B1E-AE44-A6B5A23F3790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63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898DC7-8CE9-4028-AC96-F8A8992F11E6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64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F9F50B-7D8D-4F41-91E0-21231314C5BF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65" name="AutoShape 1"/>
          <p:cNvSpPr/>
          <p:nvPr/>
        </p:nvSpPr>
        <p:spPr>
          <a:xfrm>
            <a:off x="324000" y="1484280"/>
            <a:ext cx="8645400" cy="3672000"/>
          </a:xfrm>
          <a:prstGeom prst="roundRect">
            <a:avLst>
              <a:gd name="adj" fmla="val 7778"/>
            </a:avLst>
          </a:prstGeom>
          <a:solidFill>
            <a:srgbClr val="000000">
              <a:alpha val="60000"/>
            </a:srgbClr>
          </a:solidFill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3464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l-PL" sz="2800" spc="-1" strike="noStrike">
                <a:solidFill>
                  <a:srgbClr val="ff950e"/>
                </a:solidFill>
                <a:latin typeface="Arial"/>
              </a:rPr>
              <a:t>WSPÓŁPRACA Z INNYMI ORGANAMI</a:t>
            </a:r>
            <a:endParaRPr b="1" lang="en-US" sz="2800" spc="-1" strike="noStrike">
              <a:solidFill>
                <a:srgbClr val="ff950e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lnSpc>
                <a:spcPct val="9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pl-PL" sz="1800" spc="-1" strike="noStrike">
                <a:solidFill>
                  <a:srgbClr val="ffd3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lbertus MT"/>
            </a:endParaRPr>
          </a:p>
          <a:p>
            <a:pPr marL="355680" indent="0">
              <a:lnSpc>
                <a:spcPct val="9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d300"/>
                </a:solidFill>
                <a:latin typeface="Arial"/>
              </a:rPr>
              <a:t>    </a:t>
            </a:r>
            <a:r>
              <a:rPr b="1" lang="pl-PL" sz="1800" spc="-1" strike="noStrike">
                <a:solidFill>
                  <a:srgbClr val="ffd300"/>
                </a:solidFill>
                <a:latin typeface="Arial"/>
              </a:rPr>
              <a:t>ZUS (c.d.)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 – powiadamianie o:</a:t>
            </a:r>
            <a:endParaRPr b="1" lang="en-US" sz="1800" spc="-1" strike="noStrike">
              <a:solidFill>
                <a:srgbClr val="ffffff"/>
              </a:solidFill>
              <a:latin typeface="Albertus MT"/>
            </a:endParaRPr>
          </a:p>
          <a:p>
            <a:pPr marL="355680" indent="-355680">
              <a:lnSpc>
                <a:spcPct val="94000"/>
              </a:lnSpc>
              <a:spcBef>
                <a:spcPts val="601"/>
              </a:spcBef>
              <a:buClr>
                <a:srgbClr val="ffffff"/>
              </a:buClr>
              <a:buSzPct val="5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stwierdzonych przypadkach delegowania do innego państwa UE </a:t>
            </a:r>
            <a:r>
              <a:rPr b="1" lang="pl-PL" sz="1800" spc="-1" strike="noStrike">
                <a:solidFill>
                  <a:srgbClr val="ffd300"/>
                </a:solidFill>
                <a:latin typeface="Arial"/>
              </a:rPr>
              <a:t>pracowników polskiej firmy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, którzy </a:t>
            </a:r>
            <a:r>
              <a:rPr b="1" lang="pl-PL" sz="1800" spc="-1" strike="noStrike">
                <a:solidFill>
                  <a:srgbClr val="ffd300"/>
                </a:solidFill>
                <a:latin typeface="Arial"/>
              </a:rPr>
              <a:t>są zgłoszeni do ubezpieczenia społecznego w Polsce, a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1800" spc="-1" strike="noStrike">
                <a:solidFill>
                  <a:srgbClr val="ffd300"/>
                </a:solidFill>
                <a:latin typeface="Arial"/>
              </a:rPr>
              <a:t>nie posiadają zaświadczenia (formularza </a:t>
            </a:r>
            <a:br>
              <a:rPr sz="1800"/>
            </a:br>
            <a:r>
              <a:rPr b="1" lang="pl-PL" sz="1800" spc="-1" strike="noStrike">
                <a:solidFill>
                  <a:srgbClr val="ffd300"/>
                </a:solidFill>
                <a:latin typeface="Arial"/>
              </a:rPr>
              <a:t>E-101/A1)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 potwierdzającego podleganie ubezpieczeniu społecznemu </a:t>
            </a:r>
            <a:br>
              <a:rPr sz="1800"/>
            </a:b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w polskim systemie;</a:t>
            </a:r>
            <a:endParaRPr b="1" lang="en-US" sz="1800" spc="-1" strike="noStrike">
              <a:solidFill>
                <a:srgbClr val="ffffff"/>
              </a:solidFill>
              <a:latin typeface="Albertus MT"/>
            </a:endParaRPr>
          </a:p>
          <a:p>
            <a:pPr marL="355680" indent="-355680">
              <a:lnSpc>
                <a:spcPct val="94000"/>
              </a:lnSpc>
              <a:spcBef>
                <a:spcPts val="601"/>
              </a:spcBef>
              <a:buClr>
                <a:srgbClr val="ffffff"/>
              </a:buClr>
              <a:buSzPct val="5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dokonanych ustaleniach dotyczących wykonywania pracy na rzecz polskiego pracodawcy lub przedsiębiorcy przez </a:t>
            </a:r>
            <a:r>
              <a:rPr b="1" lang="pl-PL" sz="1800" spc="-1" strike="noStrike">
                <a:solidFill>
                  <a:srgbClr val="ffd300"/>
                </a:solidFill>
                <a:latin typeface="Arial"/>
              </a:rPr>
              <a:t>osoby z innych państw UE, które nie zostały zgłoszone do ubezpieczeń społecznych w Polsce</a:t>
            </a:r>
            <a:br>
              <a:rPr sz="1800"/>
            </a:br>
            <a:r>
              <a:rPr b="1" lang="pl-PL" sz="1800" spc="-1" strike="noStrike">
                <a:solidFill>
                  <a:srgbClr val="ffd300"/>
                </a:solidFill>
                <a:latin typeface="Arial"/>
              </a:rPr>
              <a:t>i nie posiadają zaświadczenia (formularza E-101/ A1)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 o zastosowaniu wobec nich innych niż polskie przepisów z zakresu zabezpieczenia społecznego;</a:t>
            </a:r>
            <a:endParaRPr b="1" lang="en-US" sz="1800" spc="-1" strike="noStrike">
              <a:solidFill>
                <a:srgbClr val="ffffff"/>
              </a:solidFill>
              <a:latin typeface="Albertus MT"/>
            </a:endParaRPr>
          </a:p>
          <a:p>
            <a:pPr marL="355680" indent="0">
              <a:lnSpc>
                <a:spcPct val="94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lbertus MT"/>
            </a:endParaRPr>
          </a:p>
          <a:p>
            <a:pPr marL="355680" indent="0">
              <a:lnSpc>
                <a:spcPct val="9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lbertus MT"/>
            </a:endParaRPr>
          </a:p>
          <a:p>
            <a:pPr marL="355680" indent="0">
              <a:lnSpc>
                <a:spcPct val="9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lbertus MT"/>
            </a:endParaRPr>
          </a:p>
          <a:p>
            <a:pPr marL="355680" indent="0">
              <a:lnSpc>
                <a:spcPct val="94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lbertus MT"/>
            </a:endParaRPr>
          </a:p>
          <a:p>
            <a:pPr marL="355680" indent="0">
              <a:lnSpc>
                <a:spcPct val="9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lbertus MT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B6F3BA-8BFE-4F3E-BC70-ECF3B05D8C64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69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C8F083-6EE5-441B-BD19-F29967410671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70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5139D3-10E7-411A-977A-84F62AD158A0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71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53FFC9-3B4E-4C8D-A49C-F58981461CFE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72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51A947-54A3-47DF-997C-4E840AE1C54D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73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7DD8D5-B976-4C2E-9F21-3FF4D72C1C26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74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900DC0-204D-4D6B-8B0C-8C9E9231AB71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75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2C22D7-73D5-439F-B6DA-E06053914B42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76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9A266A-0A0E-44C3-97B2-BB5B667BF0B3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77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0B9E4F-A832-4E2B-B40C-9E17DA4F55E9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78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B816A6-9515-4EAC-981A-053213C13513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79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418756-7554-4BFE-81AC-1F9366E16550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80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4B1540-2F4B-4503-8ACD-395E3A768DCB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81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A1055A-BD49-4840-A815-738474CC3355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82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A7CD05-E7B8-4D5F-8F12-C92701348992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83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A987E1-D0BD-4A40-B24D-72B61C653182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84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BCC9E1-ED9B-4198-A69C-274BACA5CE7B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85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10E2D7-6098-4269-AB8B-B0719DE54CE8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86" name="AutoShape 1"/>
          <p:cNvSpPr/>
          <p:nvPr/>
        </p:nvSpPr>
        <p:spPr>
          <a:xfrm>
            <a:off x="324000" y="1484280"/>
            <a:ext cx="8645400" cy="3672000"/>
          </a:xfrm>
          <a:prstGeom prst="roundRect">
            <a:avLst>
              <a:gd name="adj" fmla="val 7778"/>
            </a:avLst>
          </a:prstGeom>
          <a:solidFill>
            <a:srgbClr val="000000">
              <a:alpha val="60000"/>
            </a:srgbClr>
          </a:solidFill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3464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l-PL" sz="2800" spc="-1" strike="noStrike">
                <a:solidFill>
                  <a:srgbClr val="ff950e"/>
                </a:solidFill>
                <a:latin typeface="Arial"/>
              </a:rPr>
              <a:t>WSPÓŁPRACA Z INNYMI ORGANAMI</a:t>
            </a:r>
            <a:endParaRPr b="1" lang="en-US" sz="2800" spc="-1" strike="noStrike">
              <a:solidFill>
                <a:srgbClr val="ff950e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pl-PL" sz="2400" spc="-1" strike="noStrike">
                <a:solidFill>
                  <a:srgbClr val="ffd3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  <a:p>
            <a:pPr marL="35568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d300"/>
                </a:solidFill>
                <a:latin typeface="Arial"/>
              </a:rPr>
              <a:t>    </a:t>
            </a:r>
            <a:r>
              <a:rPr b="1" lang="pl-PL" sz="2400" spc="-1" strike="noStrike">
                <a:solidFill>
                  <a:srgbClr val="ffd300"/>
                </a:solidFill>
                <a:latin typeface="Arial"/>
              </a:rPr>
              <a:t>ZUS (c.d.)</a:t>
            </a: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 – powiadamianie o:</a:t>
            </a: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  <a:p>
            <a:pPr marL="355680" indent="-355680">
              <a:lnSpc>
                <a:spcPct val="104000"/>
              </a:lnSpc>
              <a:spcBef>
                <a:spcPts val="601"/>
              </a:spcBef>
              <a:buClr>
                <a:srgbClr val="ffffff"/>
              </a:buClr>
              <a:buSzPct val="5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niezgłoszeniu przez pracodawcę wbrew obowiązkowi pracowników do ubezpieczenia społecznego</a:t>
            </a:r>
            <a:br>
              <a:rPr sz="2400"/>
            </a:b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w polskim systemie;</a:t>
            </a: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  <a:p>
            <a:pPr marL="355680" indent="-355680">
              <a:lnSpc>
                <a:spcPct val="104000"/>
              </a:lnSpc>
              <a:spcBef>
                <a:spcPts val="601"/>
              </a:spcBef>
              <a:buClr>
                <a:srgbClr val="ffffff"/>
              </a:buClr>
              <a:buSzPct val="5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nieodprowadzaniu za pracowników składek </a:t>
            </a:r>
            <a:br>
              <a:rPr sz="2400"/>
            </a:b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na ubezpieczenie społeczne w polskim systemie;</a:t>
            </a: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  <a:p>
            <a:pPr marL="35568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  <a:p>
            <a:pPr marL="35568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  <a:p>
            <a:pPr marL="35568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  <a:p>
            <a:pPr marL="35568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lbertus MT"/>
            </a:endParaRPr>
          </a:p>
          <a:p>
            <a:pPr marL="35568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lbertus MT"/>
            </a:endParaRPr>
          </a:p>
          <a:p>
            <a:pPr marL="35568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lbertus MT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676AA1-9541-4B16-8E89-63646D576421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90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3F940A-5124-47DD-A392-6E65DD8008F3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91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849CF5-A4C3-4699-9F3A-502E2DD0C06A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92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176C01-D4AF-46A6-9BD8-38D2548C99AF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CC2AB0-924B-4AEA-BF17-702414343787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94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B671AF-57F9-48EF-8B81-C53681139161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95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D46A4A-EE21-47EC-A21A-35A2C3366F27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96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6654BC-E5EB-48CB-A88A-BA6FFE4BB0AC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97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7D9A98-9B54-45CD-8289-99EA03754FD6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98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D2206A-5FF6-412D-A9B7-C84FCB0B3A92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399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A1D41B-D408-4A3B-87A0-D8AAAF94C6C8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00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4EF54F-1159-4BEC-BDF8-8D2AEED0D337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01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539534-D22B-449F-A618-8758D3FD4493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02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2A4EE4-81EE-4893-B2FA-B5CB78A695F9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03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42F291-13EF-441B-8F05-15909A178866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04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A53692-6813-4015-9D84-1657AB278C9A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05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00F2F9-5817-4FBC-85C0-52146D388ED3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06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D1EBAA-5A4D-4F0B-8902-8624A7FAA6AA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07" name="AutoShape 1"/>
          <p:cNvSpPr/>
          <p:nvPr/>
        </p:nvSpPr>
        <p:spPr>
          <a:xfrm>
            <a:off x="324000" y="1484280"/>
            <a:ext cx="8645400" cy="3672000"/>
          </a:xfrm>
          <a:prstGeom prst="roundRect">
            <a:avLst>
              <a:gd name="adj" fmla="val 7778"/>
            </a:avLst>
          </a:prstGeom>
          <a:solidFill>
            <a:srgbClr val="000000">
              <a:alpha val="60000"/>
            </a:srgbClr>
          </a:solidFill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3464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l-PL" sz="2800" spc="-1" strike="noStrike">
                <a:solidFill>
                  <a:srgbClr val="ff950e"/>
                </a:solidFill>
                <a:latin typeface="Arial"/>
              </a:rPr>
              <a:t>WSPÓŁPRACA Z INNYMI ORGANAMI</a:t>
            </a:r>
            <a:endParaRPr b="1" lang="en-US" sz="2800" spc="-1" strike="noStrike">
              <a:solidFill>
                <a:srgbClr val="ff950e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pl-PL" sz="2000" spc="-1" strike="noStrike">
                <a:solidFill>
                  <a:srgbClr val="ffd3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lbertus MT"/>
            </a:endParaRPr>
          </a:p>
          <a:p>
            <a:pPr marL="35568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d300"/>
                </a:solidFill>
                <a:latin typeface="Arial"/>
              </a:rPr>
              <a:t>    </a:t>
            </a:r>
            <a:r>
              <a:rPr b="1" lang="pl-PL" sz="2400" spc="-1" strike="noStrike">
                <a:solidFill>
                  <a:srgbClr val="ffd300"/>
                </a:solidFill>
                <a:latin typeface="Arial"/>
              </a:rPr>
              <a:t>urząd kontroli skarbowej</a:t>
            </a: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 – powiadamianie </a:t>
            </a:r>
            <a:br>
              <a:rPr sz="2000"/>
            </a:b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o przypadkach naruszania przez kontrolowanego prawa podatkowego (w tym niepłacenie należnych podatków);</a:t>
            </a:r>
            <a:endParaRPr b="1" lang="en-US" sz="2000" spc="-1" strike="noStrike">
              <a:solidFill>
                <a:srgbClr val="ffffff"/>
              </a:solidFill>
              <a:latin typeface="Albertus MT"/>
            </a:endParaRPr>
          </a:p>
          <a:p>
            <a:pPr marL="35568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lbertus MT"/>
            </a:endParaRPr>
          </a:p>
          <a:p>
            <a:pPr marL="35568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pl-PL" sz="2400" spc="-1" strike="noStrike">
                <a:solidFill>
                  <a:srgbClr val="ffd300"/>
                </a:solidFill>
                <a:latin typeface="Arial"/>
              </a:rPr>
              <a:t>Policja, Prokuratura, organ rejestrujący</a:t>
            </a: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 – powiadomienie </a:t>
            </a:r>
            <a:br>
              <a:rPr sz="2000"/>
            </a:b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o prowadzeniu przez przedsiębiorcę nielegalnej działalności gospodarczej na terytorium Polski (np. bez uzyskania wpisu </a:t>
            </a:r>
            <a:br>
              <a:rPr sz="2000"/>
            </a:b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do ewidencji działalności gospodarczej albo wpisu do rejestru przedsiębiorców w KRS). </a:t>
            </a:r>
            <a:endParaRPr b="1" lang="en-US" sz="2000" spc="-1" strike="noStrike">
              <a:solidFill>
                <a:srgbClr val="ffffff"/>
              </a:solidFill>
              <a:latin typeface="Albertus MT"/>
            </a:endParaRPr>
          </a:p>
          <a:p>
            <a:pPr marL="35568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lbertus MT"/>
            </a:endParaRPr>
          </a:p>
          <a:p>
            <a:pPr marL="35568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lbertus MT"/>
            </a:endParaRPr>
          </a:p>
          <a:p>
            <a:pPr marL="35568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lbertus MT"/>
            </a:endParaRPr>
          </a:p>
          <a:p>
            <a:pPr marL="35568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  <a:p>
            <a:pPr marL="35568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433672-01D6-42A1-84E5-13F7FA63E38E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11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11C349-B1F3-4EF0-B448-5A7AB386FEFC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12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056BDD-A48A-40B5-8BD6-47EAB1C6B359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13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0E004A-EA57-489C-A89C-A0F86660EC94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14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3FD731-F2EE-408F-B401-A4E7A242EE70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15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10DDC0-9B97-4337-BE8B-37C8E0E1B7D4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16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D20909-E537-4E5D-A3B5-5294F80D3D49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17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2419C8-7A6B-4B49-9C33-7B666366212F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18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31EDBA-FE28-430D-909A-7D74B0C68981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19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15D584-5B41-4853-9BB9-DC8BBBD00962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20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5895A8-AE5E-4DB6-B3A1-C8CCF5B619B0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21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8ABE12-0A3A-4318-B8F4-23A436AE2DBC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22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2A88AB-747F-4FC3-AB48-15E2841E2676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23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D6A0DF-D9CF-4AE5-A2AC-8D193FCC7D12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24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644ED0-E1EC-464C-AB8A-9C5358E26C2A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25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397306-C01F-45BA-989B-5153E0D0E7F0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26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175667-8CB1-460B-AF17-67B9AD6B41E9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27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657A12-01AA-4B5D-A017-649E0B8B22D7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28" name="AutoShape 1"/>
          <p:cNvSpPr/>
          <p:nvPr/>
        </p:nvSpPr>
        <p:spPr>
          <a:xfrm>
            <a:off x="324000" y="1484280"/>
            <a:ext cx="8645400" cy="3672000"/>
          </a:xfrm>
          <a:prstGeom prst="roundRect">
            <a:avLst>
              <a:gd name="adj" fmla="val 7778"/>
            </a:avLst>
          </a:prstGeom>
          <a:solidFill>
            <a:srgbClr val="000000">
              <a:alpha val="60000"/>
            </a:srgbClr>
          </a:solidFill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3464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l-PL" sz="2800" spc="-1" strike="noStrike">
                <a:solidFill>
                  <a:srgbClr val="ff950e"/>
                </a:solidFill>
                <a:latin typeface="Arial"/>
              </a:rPr>
              <a:t>WSPÓŁPRACA Z INNYMI ORGANAMI</a:t>
            </a:r>
            <a:endParaRPr b="1" lang="en-US" sz="2800" spc="-1" strike="noStrike">
              <a:solidFill>
                <a:srgbClr val="ff950e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568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pl-PL" sz="2400" spc="-1" strike="noStrike">
                <a:solidFill>
                  <a:srgbClr val="ffd3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  <a:p>
            <a:pPr marL="35568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d3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ffffff"/>
              </a:solidFill>
              <a:latin typeface="Albertus MT"/>
            </a:endParaRPr>
          </a:p>
          <a:p>
            <a:pPr marL="35568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d300"/>
                </a:solidFill>
                <a:latin typeface="Arial"/>
              </a:rPr>
              <a:t>   </a:t>
            </a:r>
            <a:r>
              <a:rPr b="1" lang="pl-PL" sz="2800" spc="-1" strike="noStrike">
                <a:solidFill>
                  <a:srgbClr val="ffd300"/>
                </a:solidFill>
                <a:latin typeface="Arial"/>
              </a:rPr>
              <a:t>organ rejestrujący</a:t>
            </a: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 – uzyskiwanie informacji </a:t>
            </a:r>
            <a:br>
              <a:rPr sz="2400"/>
            </a:b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na temat aktualnego adresu podmiotu kontrolowanego (w razie nieprowadzenia działalności pod adresem wskazanym w zapytaniu);</a:t>
            </a: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  <a:p>
            <a:pPr marL="35568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  <a:p>
            <a:pPr marL="35568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  <a:p>
            <a:pPr marL="35568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  <a:p>
            <a:pPr marL="35568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lbertus MT"/>
            </a:endParaRPr>
          </a:p>
          <a:p>
            <a:pPr marL="355680" indent="0">
              <a:lnSpc>
                <a:spcPct val="10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lbertus MT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7C85AE-3E04-4A44-8B55-C5400D38A1DE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32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D52C58-13AF-4E0B-B409-FA80E18CCC09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33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775FFE-C18B-4D0D-841E-BD9B8078E351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34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F14B4D-580F-4DFB-AA84-265A793035F1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35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DB3FFD-A6CC-4AAF-AB6A-4E4FFE7AC29F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36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3B2FBD-F069-484D-B40D-F99B522BC39F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37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EF43C4-B901-4911-B2A5-33F8462F93F4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38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E98914-B955-4926-B195-90008DF49448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39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026D46-AC1E-47A3-9871-FF282A15BD80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40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08076D-4486-4885-9E76-8F28DCD857F5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41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266FE0-C624-470D-89E8-93FF08AE986D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42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94B27D-6130-434D-85CA-A29AFC38A7CE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43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3FED41-ABB8-47BA-B19B-506B28FD1507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44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D711A5-5A8B-4156-B192-27D05A56D171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45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77EED3-07D2-46D9-991D-F97BF580B775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46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31712F-4D5A-49DF-81E7-D09DA91312D9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47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F87926-8052-4E28-83CE-1B321512E547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48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F2B636-204B-4232-9B04-F42A1ED730B6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49" name="AutoShape 1"/>
          <p:cNvSpPr/>
          <p:nvPr/>
        </p:nvSpPr>
        <p:spPr>
          <a:xfrm>
            <a:off x="324000" y="1484280"/>
            <a:ext cx="8645400" cy="3672000"/>
          </a:xfrm>
          <a:prstGeom prst="roundRect">
            <a:avLst>
              <a:gd name="adj" fmla="val 7778"/>
            </a:avLst>
          </a:prstGeom>
          <a:solidFill>
            <a:srgbClr val="000000">
              <a:alpha val="60000"/>
            </a:srgbClr>
          </a:solidFill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3464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l-PL" sz="2800" spc="-1" strike="noStrike">
                <a:solidFill>
                  <a:srgbClr val="ff950e"/>
                </a:solidFill>
                <a:latin typeface="Arial"/>
              </a:rPr>
              <a:t>WSPÓŁPRACA Z INNYMI ORGANAMI</a:t>
            </a:r>
            <a:endParaRPr b="1" lang="en-US" sz="2800" spc="-1" strike="noStrike">
              <a:solidFill>
                <a:srgbClr val="ff950e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44600" indent="0">
              <a:lnSpc>
                <a:spcPct val="8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pl-PL" sz="1400" spc="-1" strike="noStrike">
                <a:solidFill>
                  <a:srgbClr val="ffd300"/>
                </a:solidFill>
                <a:latin typeface="Arial"/>
              </a:rPr>
              <a:t> </a:t>
            </a:r>
            <a:endParaRPr b="1" lang="en-US" sz="1400" spc="-1" strike="noStrike">
              <a:solidFill>
                <a:srgbClr val="ffffff"/>
              </a:solidFill>
              <a:latin typeface="Albertus MT"/>
            </a:endParaRPr>
          </a:p>
          <a:p>
            <a:pPr marL="444600" indent="0">
              <a:lnSpc>
                <a:spcPct val="8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d300"/>
                </a:solidFill>
                <a:latin typeface="Arial"/>
              </a:rPr>
              <a:t>      </a:t>
            </a: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W 2010 r. organy PIP współpracowały z:</a:t>
            </a:r>
            <a:endParaRPr b="1" lang="en-US" sz="1600" spc="-1" strike="noStrike">
              <a:solidFill>
                <a:srgbClr val="ffffff"/>
              </a:solidFill>
              <a:latin typeface="Albertus MT"/>
            </a:endParaRPr>
          </a:p>
          <a:p>
            <a:pPr marL="444600" indent="-444600">
              <a:lnSpc>
                <a:spcPct val="84000"/>
              </a:lnSpc>
              <a:spcBef>
                <a:spcPts val="601"/>
              </a:spcBef>
              <a:buClr>
                <a:srgbClr val="ffffff"/>
              </a:buClr>
              <a:buSzPct val="5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d300"/>
                </a:solidFill>
                <a:latin typeface="Arial"/>
              </a:rPr>
              <a:t>ZUS </a:t>
            </a: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w zakresie:</a:t>
            </a:r>
            <a:endParaRPr b="1" lang="en-US" sz="1600" spc="-1" strike="noStrike">
              <a:solidFill>
                <a:srgbClr val="ffffff"/>
              </a:solidFill>
              <a:latin typeface="Albertus MT"/>
            </a:endParaRPr>
          </a:p>
          <a:p>
            <a:pPr marL="444600" indent="0">
              <a:lnSpc>
                <a:spcPct val="8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- poświadczania formularzy E-101/ A1, </a:t>
            </a:r>
            <a:endParaRPr b="1" lang="en-US" sz="1600" spc="-1" strike="noStrike">
              <a:solidFill>
                <a:srgbClr val="ffffff"/>
              </a:solidFill>
              <a:latin typeface="Albertus MT"/>
            </a:endParaRPr>
          </a:p>
          <a:p>
            <a:pPr marL="444600" indent="0">
              <a:lnSpc>
                <a:spcPct val="8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- ustalania właściwego ustawodawstwa w zakresie zabezpieczenia społecznego,</a:t>
            </a:r>
            <a:endParaRPr b="1" lang="en-US" sz="1600" spc="-1" strike="noStrike">
              <a:solidFill>
                <a:srgbClr val="ffffff"/>
              </a:solidFill>
              <a:latin typeface="Albertus MT"/>
            </a:endParaRPr>
          </a:p>
          <a:p>
            <a:pPr marL="444600" indent="0">
              <a:lnSpc>
                <a:spcPct val="8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- prawidłowości obliczania składek na ubezpieczenie społeczne;</a:t>
            </a:r>
            <a:endParaRPr b="1" lang="en-US" sz="1600" spc="-1" strike="noStrike">
              <a:solidFill>
                <a:srgbClr val="ffffff"/>
              </a:solidFill>
              <a:latin typeface="Albertus MT"/>
            </a:endParaRPr>
          </a:p>
          <a:p>
            <a:pPr marL="444600" indent="-444600">
              <a:lnSpc>
                <a:spcPct val="84000"/>
              </a:lnSpc>
              <a:spcBef>
                <a:spcPts val="601"/>
              </a:spcBef>
              <a:buClr>
                <a:srgbClr val="ffffff"/>
              </a:buClr>
              <a:buSzPct val="5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d300"/>
                </a:solidFill>
                <a:latin typeface="Arial"/>
              </a:rPr>
              <a:t>organami rejestrowymi:</a:t>
            </a:r>
            <a:endParaRPr b="1" lang="en-US" sz="1600" spc="-1" strike="noStrike">
              <a:solidFill>
                <a:srgbClr val="ffffff"/>
              </a:solidFill>
              <a:latin typeface="Albertus MT"/>
            </a:endParaRPr>
          </a:p>
          <a:p>
            <a:pPr marL="444600" indent="0">
              <a:lnSpc>
                <a:spcPct val="8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- uzyskiwanie informacji na temat kontrolowanych podmiotów, w tym adresów prowadzenia działalności;</a:t>
            </a:r>
            <a:endParaRPr b="1" lang="en-US" sz="1600" spc="-1" strike="noStrike">
              <a:solidFill>
                <a:srgbClr val="ffffff"/>
              </a:solidFill>
              <a:latin typeface="Albertus MT"/>
            </a:endParaRPr>
          </a:p>
          <a:p>
            <a:pPr marL="444600" indent="-444600">
              <a:lnSpc>
                <a:spcPct val="84000"/>
              </a:lnSpc>
              <a:spcBef>
                <a:spcPts val="601"/>
              </a:spcBef>
              <a:buClr>
                <a:srgbClr val="ffffff"/>
              </a:buClr>
              <a:buSzPct val="5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d300"/>
                </a:solidFill>
                <a:latin typeface="Arial"/>
              </a:rPr>
              <a:t>Policją:</a:t>
            </a:r>
            <a:endParaRPr b="1" lang="en-US" sz="1600" spc="-1" strike="noStrike">
              <a:solidFill>
                <a:srgbClr val="ffffff"/>
              </a:solidFill>
              <a:latin typeface="Albertus MT"/>
            </a:endParaRPr>
          </a:p>
          <a:p>
            <a:pPr marL="444600" indent="0">
              <a:lnSpc>
                <a:spcPct val="8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- wniosek o weryfikację legalności działalności pracodawcy na terenie RP;</a:t>
            </a:r>
            <a:endParaRPr b="1" lang="en-US" sz="1600" spc="-1" strike="noStrike">
              <a:solidFill>
                <a:srgbClr val="ffffff"/>
              </a:solidFill>
              <a:latin typeface="Albertus MT"/>
            </a:endParaRPr>
          </a:p>
          <a:p>
            <a:pPr marL="444600" indent="-444600">
              <a:lnSpc>
                <a:spcPct val="84000"/>
              </a:lnSpc>
              <a:spcBef>
                <a:spcPts val="601"/>
              </a:spcBef>
              <a:buClr>
                <a:srgbClr val="ffffff"/>
              </a:buClr>
              <a:buSzPct val="5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d300"/>
                </a:solidFill>
                <a:latin typeface="Arial"/>
              </a:rPr>
              <a:t>urzędem kontroli skarbowej:</a:t>
            </a:r>
            <a:endParaRPr b="1" lang="en-US" sz="1600" spc="-1" strike="noStrike">
              <a:solidFill>
                <a:srgbClr val="ffffff"/>
              </a:solidFill>
              <a:latin typeface="Albertus MT"/>
            </a:endParaRPr>
          </a:p>
          <a:p>
            <a:pPr marL="444600" indent="0">
              <a:lnSpc>
                <a:spcPct val="8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- przekazanie informacji na temat sposobu obliczania wynagrodzenia pracowników tymczasowych (od którego części nie odprowadzano podatku).  </a:t>
            </a:r>
            <a:endParaRPr b="1" lang="en-US" sz="1600" spc="-1" strike="noStrike">
              <a:solidFill>
                <a:srgbClr val="ffffff"/>
              </a:solidFill>
              <a:latin typeface="Albertus MT"/>
            </a:endParaRPr>
          </a:p>
          <a:p>
            <a:pPr marL="444600" indent="0">
              <a:lnSpc>
                <a:spcPct val="8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lbertus MT"/>
            </a:endParaRPr>
          </a:p>
          <a:p>
            <a:pPr marL="444600" indent="0">
              <a:lnSpc>
                <a:spcPct val="8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Albertus MT"/>
            </a:endParaRPr>
          </a:p>
          <a:p>
            <a:pPr marL="444600" indent="0">
              <a:lnSpc>
                <a:spcPct val="84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lbertus MT"/>
            </a:endParaRPr>
          </a:p>
          <a:p>
            <a:pPr marL="444600" indent="0">
              <a:lnSpc>
                <a:spcPct val="84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lbertus M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8D9F32-F1C8-41AF-9131-2E879F8F70D8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72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597C4A-A229-40F0-AF03-9BEE745594C3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67F829-0DF6-4E81-AF59-D36B4CD7955F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031596-FE35-4F42-94BA-18C8659BDBFE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AAB024-288E-4E27-9A6D-7ABEC9332DD3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6A8C29-4CA7-4F5C-8CAE-3EDD68DE23EA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77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278BFC-895C-4259-A45F-05E0DEC8BC28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2054DD-340D-499B-9768-1ECF3E808987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F0801C-1D42-4CB6-BB6F-4F76244FEF05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80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DB8450-FA4F-4B88-9586-62505942467F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81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CCA0D8-32ED-4F8D-82EC-7CBF38736D42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C563E8-6F7F-4891-8432-57676C11BD3E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4CE00B-5847-423A-82B7-337EE6BDB165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84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3DC4D9-4405-42B3-AF64-38CC50263806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13C939-35A8-4C74-892E-D2F4C3C5669F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6723EF-7273-4CA7-AACC-7DAEFFED7B47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C313F6-D902-410D-B1B5-EA06A17D1B07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563122-DD78-4990-81CD-A0320E6CF0B0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C2D08D-2278-40AE-93A0-53C5DF5ABFF1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86E951-D2B4-4102-BF13-F32F0D031C87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DB9536-B62D-4DCC-A807-41BA92A310EB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0416DA-71EA-4537-9F87-651B0D060782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0710E9-B87A-4CE8-ACAC-25C289BD875E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939546-8417-4A3C-B6E6-11F50D526EBB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DEF5F8-9DFB-4BC2-AAB5-4CA98A4CAA30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BBC16E-689D-4F78-808F-E4560D648672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4C8604-37E3-4475-AF4F-B7768F7C5A0A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644913-F1C8-4FC4-A6AE-9AC0B7B360E6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3464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l-PL" sz="3200" spc="-1" strike="noStrike">
                <a:solidFill>
                  <a:srgbClr val="ff950e"/>
                </a:solidFill>
                <a:latin typeface="Arial"/>
              </a:rPr>
              <a:t>SYTUACJA W ZAKRESIE DELEGOWANIA </a:t>
            </a:r>
            <a:endParaRPr b="1" lang="en-US" sz="3200" spc="-1" strike="noStrike">
              <a:solidFill>
                <a:srgbClr val="ff950e"/>
              </a:solidFill>
              <a:latin typeface="Arial"/>
            </a:endParaRPr>
          </a:p>
        </p:txBody>
      </p:sp>
      <p:sp>
        <p:nvSpPr>
          <p:cNvPr id="100" name="AutoShape 3"/>
          <p:cNvSpPr/>
          <p:nvPr/>
        </p:nvSpPr>
        <p:spPr>
          <a:xfrm>
            <a:off x="27000" y="1835280"/>
            <a:ext cx="8434440" cy="3547440"/>
          </a:xfrm>
          <a:prstGeom prst="roundRect">
            <a:avLst>
              <a:gd name="adj" fmla="val 16690"/>
            </a:avLst>
          </a:prstGeom>
          <a:solidFill>
            <a:srgbClr val="000000">
              <a:alpha val="6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Skala delegowania – </a:t>
            </a:r>
            <a:r>
              <a:rPr b="1" lang="pl-PL" sz="3000" spc="-1" strike="noStrike">
                <a:solidFill>
                  <a:srgbClr val="ffd300"/>
                </a:solidFill>
                <a:latin typeface="Arial"/>
              </a:rPr>
              <a:t>tendencje</a:t>
            </a: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3000" spc="-1" strike="noStrike">
              <a:solidFill>
                <a:srgbClr val="ffd300"/>
              </a:solidFill>
              <a:latin typeface="Arial"/>
            </a:endParaRPr>
          </a:p>
          <a:p>
            <a:pPr marL="355680" indent="-355680"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ata: 2005 – 2007 – wzrost,</a:t>
            </a:r>
            <a:endParaRPr b="1" lang="en-US" sz="3000" spc="-1" strike="noStrike">
              <a:solidFill>
                <a:srgbClr val="ffd300"/>
              </a:solidFill>
              <a:latin typeface="Arial"/>
            </a:endParaRPr>
          </a:p>
          <a:p>
            <a:pPr marL="355680" indent="-355680"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ata: 2008 i 2009 – spadek,</a:t>
            </a:r>
            <a:endParaRPr b="1" lang="en-US" sz="3000" spc="-1" strike="noStrike">
              <a:solidFill>
                <a:srgbClr val="ffd300"/>
              </a:solidFill>
              <a:latin typeface="Arial"/>
            </a:endParaRPr>
          </a:p>
          <a:p>
            <a:pPr marL="355680" indent="-355680"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I poł. 2010 r. – powrót do poziomu z 2007</a:t>
            </a:r>
            <a:br>
              <a:rPr sz="3000"/>
            </a:b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i 2008 r. </a:t>
            </a:r>
            <a:endParaRPr b="1" lang="en-US" sz="3000" spc="-1" strike="noStrike">
              <a:solidFill>
                <a:srgbClr val="ffd3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i="1" lang="pl-PL" sz="1800" spc="-1" strike="noStrike">
                <a:solidFill>
                  <a:srgbClr val="ffffff"/>
                </a:solidFill>
                <a:latin typeface="Arial"/>
              </a:rPr>
              <a:t>Dane z raportu MPiPS na podstawie liczby formularzy E101 poświadczonych przez ZUS.</a:t>
            </a:r>
            <a:endParaRPr b="1" lang="en-US" sz="1800" spc="-1" strike="noStrike">
              <a:solidFill>
                <a:srgbClr val="ffd3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3464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l-PL" sz="3200" spc="-1" strike="noStrike">
                <a:solidFill>
                  <a:srgbClr val="ff950e"/>
                </a:solidFill>
                <a:latin typeface="Arial"/>
              </a:rPr>
              <a:t>WSPÓŁPRACA ADMINISTRACYJNA</a:t>
            </a:r>
            <a:endParaRPr b="1" lang="en-US" sz="3200" spc="-1" strike="noStrike">
              <a:solidFill>
                <a:srgbClr val="ff950e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67560" y="1674000"/>
            <a:ext cx="8130600" cy="4374360"/>
          </a:xfrm>
          <a:prstGeom prst="rect">
            <a:avLst/>
          </a:prstGeom>
          <a:solidFill>
            <a:srgbClr val="000000">
              <a:alpha val="60000"/>
            </a:srgbClr>
          </a:solidFill>
          <a:ln w="9360">
            <a:solidFill>
              <a:srgbClr val="ffffff"/>
            </a:solidFill>
            <a:round/>
          </a:ln>
        </p:spPr>
        <p:txBody>
          <a:bodyPr lIns="0" rIns="0" tIns="0" bIns="0" anchor="t">
            <a:normAutofit/>
          </a:bodyPr>
          <a:p>
            <a:pPr marL="266760" indent="-266760">
              <a:lnSpc>
                <a:spcPct val="84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Państwa Członkowskie powinny przewidzieć współpracę pomiędzy urzędami, które zgodnie </a:t>
            </a:r>
            <a:br>
              <a:rPr sz="2400"/>
            </a:b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z prawodawstwem krajowym są odpowiedzialne </a:t>
            </a:r>
            <a:br>
              <a:rPr sz="2400"/>
            </a:b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za nadzorowanie warunków pracy i zatrudnienia, </a:t>
            </a:r>
            <a:br>
              <a:rPr sz="2400"/>
            </a:b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o których mowa w art. 3. </a:t>
            </a:r>
            <a:br>
              <a:rPr sz="2400"/>
            </a:b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Współpraca będzie polegać w szczególności </a:t>
            </a:r>
            <a:br>
              <a:rPr sz="2400"/>
            </a:b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na udzielaniu przez powyższe urzędy informacji </a:t>
            </a:r>
            <a:br>
              <a:rPr sz="2400"/>
            </a:b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na temat:</a:t>
            </a: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  <a:p>
            <a:pPr marL="266760" indent="-266760">
              <a:lnSpc>
                <a:spcPct val="84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1) wynajmowania pracowników,</a:t>
            </a: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  <a:p>
            <a:pPr marL="266760" indent="-266760">
              <a:lnSpc>
                <a:spcPct val="84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2) wyraźnych wykroczeń,</a:t>
            </a: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  <a:p>
            <a:pPr marL="266760" indent="-266760">
              <a:lnSpc>
                <a:spcPct val="84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3) domniemanych przypadków nielegalnej działalności wykraczającej poza granice państwowe.</a:t>
            </a: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  <a:p>
            <a:pPr marL="266760" indent="-266760">
              <a:lnSpc>
                <a:spcPct val="84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pl-PL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i="1" lang="pl-PL" sz="1800" spc="-1" strike="noStrike">
                <a:solidFill>
                  <a:srgbClr val="ffffff"/>
                </a:solidFill>
                <a:latin typeface="Arial"/>
              </a:rPr>
              <a:t>art. 4 ust. 2 Dyrektywy 96/71/WE </a:t>
            </a:r>
            <a:endParaRPr b="1" lang="en-US" sz="1800" spc="-1" strike="noStrike">
              <a:solidFill>
                <a:srgbClr val="ffffff"/>
              </a:solidFill>
              <a:latin typeface="Albertus MT"/>
            </a:endParaRPr>
          </a:p>
          <a:p>
            <a:pPr marL="266760" indent="-266760">
              <a:lnSpc>
                <a:spcPct val="84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lbertus MT"/>
            </a:endParaRPr>
          </a:p>
          <a:p>
            <a:pPr marL="266760" indent="-266760">
              <a:lnSpc>
                <a:spcPct val="84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lbertus MT"/>
            </a:endParaRPr>
          </a:p>
          <a:p>
            <a:pPr marL="266760" indent="-266760">
              <a:lnSpc>
                <a:spcPct val="84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lbertus MT"/>
            </a:endParaRPr>
          </a:p>
          <a:p>
            <a:pPr marL="266760" indent="-266760">
              <a:lnSpc>
                <a:spcPct val="84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ffffff"/>
              </a:solidFill>
              <a:latin typeface="Albertu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3464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l-PL" sz="3200" spc="-1" strike="noStrike">
                <a:solidFill>
                  <a:srgbClr val="ff950e"/>
                </a:solidFill>
                <a:latin typeface="Arial"/>
              </a:rPr>
              <a:t>WSPÓŁPRACA ADMINISTRACYJNA</a:t>
            </a:r>
            <a:endParaRPr b="1" lang="en-US" sz="3200" spc="-1" strike="noStrike">
              <a:solidFill>
                <a:srgbClr val="ff950e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67560" y="1674000"/>
            <a:ext cx="8130600" cy="4374360"/>
          </a:xfrm>
          <a:prstGeom prst="rect">
            <a:avLst/>
          </a:prstGeom>
          <a:solidFill>
            <a:srgbClr val="000000">
              <a:alpha val="60000"/>
            </a:srgbClr>
          </a:solidFill>
          <a:ln w="9360">
            <a:solidFill>
              <a:srgbClr val="ffffff"/>
            </a:solidFill>
            <a:round/>
          </a:ln>
        </p:spPr>
        <p:txBody>
          <a:bodyPr lIns="0" rIns="0" tIns="0" bIns="0" anchor="t">
            <a:normAutofit/>
          </a:bodyPr>
          <a:p>
            <a:pPr marL="266760" indent="-266760">
              <a:lnSpc>
                <a:spcPct val="104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1" lang="en-US" sz="2400" spc="-1" strike="noStrike">
              <a:solidFill>
                <a:srgbClr val="ffffff"/>
              </a:solidFill>
              <a:latin typeface="Albertus MT"/>
            </a:endParaRPr>
          </a:p>
          <a:p>
            <a:pPr marL="266760" indent="-266760">
              <a:lnSpc>
                <a:spcPct val="104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pl-PL" sz="3200" spc="-1" strike="noStrike">
                <a:solidFill>
                  <a:srgbClr val="ffffff"/>
                </a:solidFill>
                <a:latin typeface="Arial"/>
              </a:rPr>
              <a:t>Każde Państwo Członkowskie podejmie stosowne środki, aby informacje dotyczące warunków pracy </a:t>
            </a:r>
            <a:br>
              <a:rPr sz="3200"/>
            </a:br>
            <a:r>
              <a:rPr b="1" lang="pl-PL" sz="3200" spc="-1" strike="noStrike">
                <a:solidFill>
                  <a:srgbClr val="ffffff"/>
                </a:solidFill>
                <a:latin typeface="Arial"/>
              </a:rPr>
              <a:t>i zatrudnienia, o których mowa </a:t>
            </a:r>
            <a:br>
              <a:rPr sz="3200"/>
            </a:br>
            <a:r>
              <a:rPr b="1" lang="pl-PL" sz="3200" spc="-1" strike="noStrike">
                <a:solidFill>
                  <a:srgbClr val="ffffff"/>
                </a:solidFill>
                <a:latin typeface="Arial"/>
              </a:rPr>
              <a:t>w art. 3 były powszechnie dostępne.</a:t>
            </a:r>
            <a:endParaRPr b="1" lang="en-US" sz="3200" spc="-1" strike="noStrike">
              <a:solidFill>
                <a:srgbClr val="ffffff"/>
              </a:solidFill>
              <a:latin typeface="Albertus MT"/>
            </a:endParaRPr>
          </a:p>
          <a:p>
            <a:pPr marL="266760" indent="-266760">
              <a:lnSpc>
                <a:spcPct val="104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pl-PL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pl-PL" sz="2000" spc="-1" strike="noStrike">
                <a:solidFill>
                  <a:srgbClr val="ffffff"/>
                </a:solidFill>
                <a:latin typeface="Arial"/>
              </a:rPr>
              <a:t>art. 4 ust. 3 Dyrektywy 96/71/WE </a:t>
            </a:r>
            <a:endParaRPr b="1" lang="en-US" sz="2000" spc="-1" strike="noStrike">
              <a:solidFill>
                <a:srgbClr val="ffffff"/>
              </a:solidFill>
              <a:latin typeface="Albertus MT"/>
            </a:endParaRPr>
          </a:p>
          <a:p>
            <a:pPr marL="266760" indent="-266760">
              <a:lnSpc>
                <a:spcPct val="104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Albertus MT"/>
            </a:endParaRPr>
          </a:p>
          <a:p>
            <a:pPr marL="266760" indent="-266760">
              <a:lnSpc>
                <a:spcPct val="104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Albertu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A02982-7729-46B7-8F1D-274B7077B61D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9177AB-7A5E-4914-8146-C42AC4CB14F8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9406EB-F9EC-4A74-862D-C62EF2B07A7B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6EB323-9642-4645-B934-547F73A23DDA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5767EF-F987-4413-81D3-BC76FB63042A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BDA710-C7C1-4769-A953-E504969C36C1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C10DC8-69C3-4813-96FE-3F2BAA79F25B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E5688F-C7FE-4FC9-B082-9C5E327B13BC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3A5AAB-A39E-46BD-AE63-8CDFDC54910B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4E7E4A-058A-4557-88A2-9020C26C186F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7849B3-C675-4418-A1E8-15436E7D9457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6DE706-A52B-4573-9BC9-24F1CABA0959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9B1DFE-3BE2-484D-B2DE-638B11D0CF17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B0F5A5-BB23-4902-8EDF-BF9B13E6009F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5FD053-C921-40BD-87ED-E09CEF09C3F7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25FAFF-5B02-4FE8-B80A-0629FC52E9DF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C461CD-A3B4-462B-8C4F-39C037BF83EA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28D19C-0605-4B35-8062-26BA5D4898DA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5D1DCD-D861-48EB-8E1C-1C3B0AFEA3A8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BFDDA9-D3B1-4E59-9FD4-2AC0DA580143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EB4888-1CFF-423D-81E4-F97D22A403C6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027B8D-6321-4853-BE67-619E8C026ADB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CF6334-7D28-4557-9FBC-2E6A47B995EE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D03C14-6CEE-4C58-897B-9E052A165BEC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885B8B-6BCD-4247-A3DE-D638BAD67ABA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146824-753A-4DED-ACDF-8F630FE3A117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88F0C8-56D3-4399-B710-572E42CC8724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D80519-BADA-478C-AD35-CD26BA767742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0" y="0"/>
            <a:ext cx="9134640" cy="8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3200" spc="-1" strike="noStrike">
                <a:solidFill>
                  <a:srgbClr val="ff9900"/>
                </a:solidFill>
                <a:latin typeface="Arial"/>
              </a:rPr>
              <a:t>PIP JAKO INSTYTUCJA ŁĄCZNIKOWA</a:t>
            </a:r>
            <a:endParaRPr b="1" lang="en-US" sz="32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34" name="AutoShape 5"/>
          <p:cNvSpPr/>
          <p:nvPr/>
        </p:nvSpPr>
        <p:spPr>
          <a:xfrm>
            <a:off x="384120" y="1722240"/>
            <a:ext cx="8452080" cy="3245760"/>
          </a:xfrm>
          <a:prstGeom prst="roundRect">
            <a:avLst>
              <a:gd name="adj" fmla="val 8685"/>
            </a:avLst>
          </a:prstGeom>
          <a:solidFill>
            <a:srgbClr val="000000">
              <a:alpha val="6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ZADANIA:</a:t>
            </a:r>
            <a:endParaRPr b="1" lang="en-US" sz="2800" spc="-1" strike="noStrike">
              <a:solidFill>
                <a:srgbClr val="ffd300"/>
              </a:solidFill>
              <a:latin typeface="Arial"/>
            </a:endParaRPr>
          </a:p>
          <a:p>
            <a:pPr marL="266760" indent="-266760"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Wymiana informacji na temat delegowania z biurami łącznikowymi w innych państwach członkowskich;</a:t>
            </a:r>
            <a:endParaRPr b="1" lang="en-US" sz="2400" spc="-1" strike="noStrike">
              <a:solidFill>
                <a:srgbClr val="ffd3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d300"/>
              </a:solidFill>
              <a:latin typeface="Arial"/>
            </a:endParaRPr>
          </a:p>
          <a:p>
            <a:pPr marL="266760" indent="-266760"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Przekazywanie do zagranicznych biur łącznikowych informacji o nieprawidłowościach, sygnalizowanych w skargach polskich pracowników, w tym delegowanych;</a:t>
            </a:r>
            <a:endParaRPr b="1" lang="en-US" sz="2400" spc="-1" strike="noStrike">
              <a:solidFill>
                <a:srgbClr val="ffd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53A8B5-199E-4E05-BF35-44262996C409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F6E5FA-69FB-4C11-A925-07815161D947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6B9A8C-2B56-4034-B949-C58F938A9874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8FD8CE-E075-4CED-BF14-586CF409425B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5B1113-9B78-4E9B-B504-0E71896BA5FA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1B88AF-0E72-4978-B24E-D7BECD839EB8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556800-86C1-4CAE-B1F1-379B7E580860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1580D2-F80A-40AF-A696-3BC5ADF3D961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F9D5A2-DF90-42D3-AD4C-7A442F3C2DC6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748F66-003D-4725-8A22-31866E06F204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8D349C-8723-4C48-99C3-7B5C85FB2F4D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74F2FC-952B-4CCD-A207-08EB999DABFD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8C0FB5-D284-48C5-9F7A-6674A16269B8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D13CEC-CB48-4315-ADBC-530349666577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F14A0F-05F1-47FA-A58B-FB2A9F2229B4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50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82AE76-54F2-40E5-81C0-348E99B77B5D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5C735C-7FE2-4952-A990-F27AB70463F2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C94640-E8DC-4315-BB20-9DF132135F47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C10736-C21B-4E97-982D-59AF1159F4B4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CA91AC-C6BC-463A-B3CE-F7609E76AED8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FA15B1-ACE5-4124-9394-355D0358B447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ACE85E-5C7B-4FEC-89D2-E367DB581A2B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16876D-600B-482A-9E26-E266E401154C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5A6F9E-7F53-45F2-9D14-54C13479B14A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94B16E-E15F-40F0-A971-06C53395C9A1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D647E3-2644-444D-B8AA-56A49E32F378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9FE3F7-D22B-4AAE-9C40-23AFD466D880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661C44-3ED8-47ED-AD03-330F75492ED7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0" y="0"/>
            <a:ext cx="9134640" cy="8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3200" spc="-1" strike="noStrike">
                <a:solidFill>
                  <a:srgbClr val="ff9900"/>
                </a:solidFill>
                <a:latin typeface="Arial"/>
              </a:rPr>
              <a:t>PIP JAKO INSTYTUCJA ŁĄCZNIKOWA</a:t>
            </a:r>
            <a:endParaRPr b="1" lang="en-US" sz="32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64" name="AutoShape 5"/>
          <p:cNvSpPr/>
          <p:nvPr/>
        </p:nvSpPr>
        <p:spPr>
          <a:xfrm>
            <a:off x="307800" y="2020320"/>
            <a:ext cx="8455320" cy="3309480"/>
          </a:xfrm>
          <a:prstGeom prst="roundRect">
            <a:avLst>
              <a:gd name="adj" fmla="val 8685"/>
            </a:avLst>
          </a:prstGeom>
          <a:solidFill>
            <a:srgbClr val="000000">
              <a:alpha val="6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ZADANIA </a:t>
            </a:r>
            <a:r>
              <a:rPr b="1" lang="pl-PL" sz="3200" spc="-1" strike="noStrike">
                <a:solidFill>
                  <a:srgbClr val="ffffff"/>
                </a:solidFill>
                <a:latin typeface="Arial"/>
              </a:rPr>
              <a:t>(c.d.)</a:t>
            </a: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800" spc="-1" strike="noStrike">
              <a:solidFill>
                <a:srgbClr val="ffd300"/>
              </a:solidFill>
              <a:latin typeface="Arial"/>
            </a:endParaRPr>
          </a:p>
          <a:p>
            <a:pPr marL="266760" indent="-26676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Współpraca z polskimi organami, urzędami, instytucjami; </a:t>
            </a:r>
            <a:endParaRPr b="1" lang="en-US" sz="2400" spc="-1" strike="noStrike">
              <a:solidFill>
                <a:srgbClr val="ffd3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d300"/>
              </a:solidFill>
              <a:latin typeface="Arial"/>
            </a:endParaRPr>
          </a:p>
          <a:p>
            <a:pPr marL="266760" indent="-266760">
              <a:buClr>
                <a:srgbClr val="ffff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Udzielanie - na pisemny wniosek osoby zainteresowanej - informacji o minimalnych warunkach zatrudnienia wynikających z polskich przepisów.</a:t>
            </a:r>
            <a:endParaRPr b="1" lang="en-US" sz="2400" spc="-1" strike="noStrike">
              <a:solidFill>
                <a:srgbClr val="ffd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E8713E-12E6-4CD5-BB19-0DFD00E9258D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71886A-DEAF-4E03-AAA7-491E3A44ED28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F84699-789E-4B01-A73F-FA751BEF115E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C9AF6D-7A2D-418C-BF14-14BDA8D59D97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692981-2887-402B-B1FE-111587B791F6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46A5B4-2CD8-4623-A57C-8FD981FC8E39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571D56-10F2-46BF-9278-5BFDB70A680C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1BF56D-AC1A-4DB9-A200-2D4E7626A084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87ECE7-11E3-42CF-B44E-E662D9080F7C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79D44B-295E-404A-8EF2-672C23DD5CD6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87DB7E-0228-40D0-9DFE-4B42439DDFAE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2CEECB-34D6-4985-99C7-B7E484054340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E2FB46-C769-45FB-B7DB-6DA80206A3F4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78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CA32C8-387A-459E-8C3B-45F61989EC6A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79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1FC1E9-B1E7-4834-B164-ACB6F5222D9D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80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54A338-4F3A-420A-B642-CD362FC383D7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81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A42BBC-3C55-499E-8FD9-1A3698D70D23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549F44-2C4B-4CF0-A6E4-E0520C153839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6A203B-0FD0-4A18-8C49-2AE271C36E34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ADAC28-C5D5-43F5-AC0E-0ADF5E85E5BA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85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53686D-8EF5-491E-BA2C-64D85CECB7C6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86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928AD3-3430-424B-A91A-E15DB89C8E30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6BBD26-33F4-4698-9C05-292FF53361F5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CC9F8F-412B-48C7-8F05-1EA64DF4E3B8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89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D915EA-4563-41D9-BBE2-9E0041433E43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90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BAC543-9510-4B5C-8F57-A8E6D466998F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91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66B3EB-571A-4A00-8943-E618507209C1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ED0788-B520-4943-AFE6-2F1A7A1ACC15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93" name="Rectangle 5"/>
          <p:cNvSpPr/>
          <p:nvPr/>
        </p:nvSpPr>
        <p:spPr>
          <a:xfrm>
            <a:off x="0" y="0"/>
            <a:ext cx="9134640" cy="8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3200" spc="-1" strike="noStrike">
                <a:solidFill>
                  <a:srgbClr val="ff9900"/>
                </a:solidFill>
                <a:latin typeface="Arial"/>
              </a:rPr>
              <a:t>PIP JAKO INSTYTUCJA ŁĄCZNIKOWA </a:t>
            </a:r>
            <a:endParaRPr b="1" lang="en-US" sz="3200" spc="-1" strike="noStrike">
              <a:solidFill>
                <a:srgbClr val="ffd3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32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94" name="AutoShape 5"/>
          <p:cNvSpPr/>
          <p:nvPr/>
        </p:nvSpPr>
        <p:spPr>
          <a:xfrm>
            <a:off x="262080" y="1088280"/>
            <a:ext cx="8548560" cy="5173920"/>
          </a:xfrm>
          <a:prstGeom prst="roundRect">
            <a:avLst>
              <a:gd name="adj" fmla="val 8685"/>
            </a:avLst>
          </a:prstGeom>
          <a:solidFill>
            <a:srgbClr val="000000">
              <a:alpha val="6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Do zadań Państwowej Inspekcji Pracy należy współpraca z urzędami państw członkowskich UE/EOG, odpowiedzialnymi za nadzorowanie warunków pracy i zatrudnienia, w szczególności:</a:t>
            </a:r>
            <a:endParaRPr b="1" lang="en-US" sz="2400" spc="-1" strike="noStrike">
              <a:solidFill>
                <a:srgbClr val="ffd300"/>
              </a:solidFill>
              <a:latin typeface="Arial"/>
            </a:endParaRPr>
          </a:p>
          <a:p>
            <a:pPr marL="266760" indent="-266760"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udzielanie informacji o warunkach zatrudnienia pracowników skierowanych do wykonywania pracy na terytorium państwa członkowskiego UE/EOG, na określony czas, przez pracodawcę mającego swoją siedzibę w RP,</a:t>
            </a:r>
            <a:endParaRPr b="1" lang="en-US" sz="2000" spc="-1" strike="noStrike">
              <a:solidFill>
                <a:srgbClr val="ffd300"/>
              </a:solidFill>
              <a:latin typeface="Arial"/>
            </a:endParaRPr>
          </a:p>
          <a:p>
            <a:pPr marL="266760" indent="-266760"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informowanie o stwierdzonych wykroczeniach przeciwko prawom pracowników skierowanych do wykonywania pracy </a:t>
            </a:r>
            <a:br>
              <a:rPr sz="2000"/>
            </a:b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na terytorium RP na określony czas przez pracodawcę mającego siedzibę w państwie będącym członkiem UE/EOG,</a:t>
            </a:r>
            <a:endParaRPr b="1" lang="en-US" sz="2000" spc="-1" strike="noStrike">
              <a:solidFill>
                <a:srgbClr val="ffd300"/>
              </a:solidFill>
              <a:latin typeface="Arial"/>
            </a:endParaRPr>
          </a:p>
          <a:p>
            <a:pPr marL="266760" indent="-266760"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wskazywanie organu nadzoru nad rynkiem pracy, właściwego </a:t>
            </a:r>
            <a:br>
              <a:rPr sz="2000"/>
            </a:b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do udzielania żądanej informacji ze względu na zakres jego działania.</a:t>
            </a:r>
            <a:endParaRPr b="1" lang="en-US" sz="2000" spc="-1" strike="noStrike">
              <a:solidFill>
                <a:srgbClr val="ffd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7CC927-610F-4608-B564-B69B593B4498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96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DDBE52-CA78-402C-AFE1-2AD5126A7A90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F42E84-27E2-4302-8285-5C685943BD58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98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BE3C84-3EDA-45B1-8890-F089FA60B121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B5FBDA-A526-43DB-AD32-B3BC5460FD5E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A0BEE3-DB43-4CB9-B6F7-463864C7997D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01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FB103F-0C4F-43E7-A156-FD48343A8F22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02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49FF4B-DA08-4A37-945F-7BB43133C8FE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7AD192-CCA4-4794-BB4F-7C0317F6C6FD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870357-CE24-4011-B8B2-4118FFCF00C4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4C936E-3D06-43EA-AF21-F3E2B6D7AB9B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06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F2138D-414F-4199-81A8-06CAAD6EDEFF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3E2F50-B563-41CE-AE53-CED2DAC19363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AFC4D4-08E6-4AFA-97CA-F759BC330CB5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09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9A8375-4782-44C5-A5C1-4A85F57FA680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10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6303F8-8490-4890-9B5D-65CDEB1DEA04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D88BA7-116B-4F99-9A49-952AA3172D32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12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775027-3CAE-42F9-9DE8-ACEDFD639B95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pic>
        <p:nvPicPr>
          <p:cNvPr id="213" name="Picture 2" descr="mapka"/>
          <p:cNvPicPr/>
          <p:nvPr/>
        </p:nvPicPr>
        <p:blipFill>
          <a:blip r:embed="rId1"/>
          <a:stretch/>
        </p:blipFill>
        <p:spPr>
          <a:xfrm>
            <a:off x="5148360" y="2635200"/>
            <a:ext cx="3384360" cy="32292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3" descr="logo%2520U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24000" y="2274840"/>
            <a:ext cx="900000" cy="595440"/>
          </a:xfrm>
          <a:prstGeom prst="rect">
            <a:avLst/>
          </a:prstGeom>
          <a:ln w="28440">
            <a:solidFill>
              <a:srgbClr val="00cc99"/>
            </a:solidFill>
            <a:miter/>
          </a:ln>
        </p:spPr>
      </p:pic>
      <p:sp>
        <p:nvSpPr>
          <p:cNvPr id="215" name="Text Box 4"/>
          <p:cNvSpPr/>
          <p:nvPr/>
        </p:nvSpPr>
        <p:spPr>
          <a:xfrm>
            <a:off x="1476360" y="2131920"/>
            <a:ext cx="2158920" cy="3972240"/>
          </a:xfrm>
          <a:prstGeom prst="rect">
            <a:avLst/>
          </a:prstGeom>
          <a:solidFill>
            <a:srgbClr val="99ccff"/>
          </a:solidFill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d3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d3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d3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l-PL" sz="2400" spc="-1" strike="noStrike">
                <a:solidFill>
                  <a:srgbClr val="000099"/>
                </a:solidFill>
                <a:latin typeface="Arial"/>
              </a:rPr>
              <a:t>Główny Inspektorat Pracy</a:t>
            </a:r>
            <a:endParaRPr b="1" lang="en-US" sz="2400" spc="-1" strike="noStrike">
              <a:solidFill>
                <a:srgbClr val="ffd3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d3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16" name="Text Box 5"/>
          <p:cNvSpPr/>
          <p:nvPr/>
        </p:nvSpPr>
        <p:spPr>
          <a:xfrm>
            <a:off x="3924360" y="2131920"/>
            <a:ext cx="2016000" cy="1008720"/>
          </a:xfrm>
          <a:prstGeom prst="rect">
            <a:avLst/>
          </a:prstGeom>
          <a:solidFill>
            <a:srgbClr val="00cc99"/>
          </a:solidFill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l-PL" sz="2000" spc="-1" strike="noStrike">
                <a:solidFill>
                  <a:srgbClr val="000099"/>
                </a:solidFill>
                <a:latin typeface="Arial"/>
              </a:rPr>
              <a:t>okręgowy inspektorat pracy</a:t>
            </a:r>
            <a:endParaRPr b="1" lang="en-US" sz="20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17" name="Text Box 6"/>
          <p:cNvSpPr/>
          <p:nvPr/>
        </p:nvSpPr>
        <p:spPr>
          <a:xfrm>
            <a:off x="6300720" y="2492280"/>
            <a:ext cx="1944720" cy="459720"/>
          </a:xfrm>
          <a:prstGeom prst="rect">
            <a:avLst/>
          </a:prstGeom>
          <a:solidFill>
            <a:srgbClr val="ccccff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l-PL" sz="2400" spc="-1" strike="noStrike">
                <a:solidFill>
                  <a:srgbClr val="000099"/>
                </a:solidFill>
                <a:latin typeface="Arial"/>
              </a:rPr>
              <a:t>kontrola</a:t>
            </a:r>
            <a:endParaRPr b="1" lang="en-US" sz="24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18" name="Text Box 7"/>
          <p:cNvSpPr/>
          <p:nvPr/>
        </p:nvSpPr>
        <p:spPr>
          <a:xfrm>
            <a:off x="3924360" y="3500280"/>
            <a:ext cx="2016000" cy="1008720"/>
          </a:xfrm>
          <a:prstGeom prst="rect">
            <a:avLst/>
          </a:prstGeom>
          <a:solidFill>
            <a:srgbClr val="00cc99"/>
          </a:solidFill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l-PL" sz="2000" spc="-1" strike="noStrike">
                <a:solidFill>
                  <a:srgbClr val="000099"/>
                </a:solidFill>
                <a:latin typeface="Arial"/>
              </a:rPr>
              <a:t>okręgowy inspektorat pracy</a:t>
            </a:r>
            <a:endParaRPr b="1" lang="en-US" sz="20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19" name="Text Box 8"/>
          <p:cNvSpPr/>
          <p:nvPr/>
        </p:nvSpPr>
        <p:spPr>
          <a:xfrm>
            <a:off x="3924360" y="4881600"/>
            <a:ext cx="2016000" cy="1008720"/>
          </a:xfrm>
          <a:prstGeom prst="rect">
            <a:avLst/>
          </a:prstGeom>
          <a:solidFill>
            <a:srgbClr val="00cc99"/>
          </a:solidFill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l-PL" sz="2000" spc="-1" strike="noStrike">
                <a:solidFill>
                  <a:srgbClr val="000099"/>
                </a:solidFill>
                <a:latin typeface="Arial"/>
              </a:rPr>
              <a:t>okręgowy inspektorat pracy</a:t>
            </a:r>
            <a:endParaRPr b="1" lang="en-US" sz="20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20" name="Text Box 9"/>
          <p:cNvSpPr/>
          <p:nvPr/>
        </p:nvSpPr>
        <p:spPr>
          <a:xfrm>
            <a:off x="6732720" y="3859200"/>
            <a:ext cx="1944720" cy="459720"/>
          </a:xfrm>
          <a:prstGeom prst="rect">
            <a:avLst/>
          </a:prstGeom>
          <a:solidFill>
            <a:srgbClr val="ccccff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l-PL" sz="2400" spc="-1" strike="noStrike">
                <a:solidFill>
                  <a:srgbClr val="000099"/>
                </a:solidFill>
                <a:latin typeface="Arial"/>
              </a:rPr>
              <a:t>kontrola</a:t>
            </a:r>
            <a:endParaRPr b="1" lang="en-US" sz="24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21" name="Text Box 10"/>
          <p:cNvSpPr/>
          <p:nvPr/>
        </p:nvSpPr>
        <p:spPr>
          <a:xfrm>
            <a:off x="6372360" y="5011560"/>
            <a:ext cx="1944720" cy="459720"/>
          </a:xfrm>
          <a:prstGeom prst="rect">
            <a:avLst/>
          </a:prstGeom>
          <a:solidFill>
            <a:srgbClr val="ccccff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l-PL" sz="2400" spc="-1" strike="noStrike">
                <a:solidFill>
                  <a:srgbClr val="000099"/>
                </a:solidFill>
                <a:latin typeface="Arial"/>
              </a:rPr>
              <a:t>kontrola</a:t>
            </a:r>
            <a:endParaRPr b="1" lang="en-US" sz="24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22" name="AutoShape 11"/>
          <p:cNvSpPr/>
          <p:nvPr/>
        </p:nvSpPr>
        <p:spPr>
          <a:xfrm rot="10800000">
            <a:off x="3347640" y="2781000"/>
            <a:ext cx="792360" cy="360360"/>
          </a:xfrm>
          <a:prstGeom prst="rightArrow">
            <a:avLst>
              <a:gd name="adj1" fmla="val 50000"/>
              <a:gd name="adj2" fmla="val 54970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23" name="AutoShape 12"/>
          <p:cNvSpPr/>
          <p:nvPr/>
        </p:nvSpPr>
        <p:spPr>
          <a:xfrm rot="10800000">
            <a:off x="3347640" y="4149360"/>
            <a:ext cx="792360" cy="360360"/>
          </a:xfrm>
          <a:prstGeom prst="rightArrow">
            <a:avLst>
              <a:gd name="adj1" fmla="val 50000"/>
              <a:gd name="adj2" fmla="val 54970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24" name="AutoShape 13"/>
          <p:cNvSpPr/>
          <p:nvPr/>
        </p:nvSpPr>
        <p:spPr>
          <a:xfrm rot="10800000">
            <a:off x="3347640" y="5516280"/>
            <a:ext cx="792360" cy="360360"/>
          </a:xfrm>
          <a:prstGeom prst="rightArrow">
            <a:avLst>
              <a:gd name="adj1" fmla="val 50000"/>
              <a:gd name="adj2" fmla="val 54970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25" name="AutoShape 14"/>
          <p:cNvSpPr/>
          <p:nvPr/>
        </p:nvSpPr>
        <p:spPr>
          <a:xfrm>
            <a:off x="3419640" y="2274840"/>
            <a:ext cx="793440" cy="360360"/>
          </a:xfrm>
          <a:prstGeom prst="rightArrow">
            <a:avLst>
              <a:gd name="adj1" fmla="val 50000"/>
              <a:gd name="adj2" fmla="val 5504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26" name="AutoShape 15"/>
          <p:cNvSpPr/>
          <p:nvPr/>
        </p:nvSpPr>
        <p:spPr>
          <a:xfrm>
            <a:off x="3419640" y="3571920"/>
            <a:ext cx="793440" cy="360360"/>
          </a:xfrm>
          <a:prstGeom prst="rightArrow">
            <a:avLst>
              <a:gd name="adj1" fmla="val 50000"/>
              <a:gd name="adj2" fmla="val 5504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27" name="AutoShape 16"/>
          <p:cNvSpPr/>
          <p:nvPr/>
        </p:nvSpPr>
        <p:spPr>
          <a:xfrm>
            <a:off x="3419640" y="4940280"/>
            <a:ext cx="793440" cy="360360"/>
          </a:xfrm>
          <a:prstGeom prst="rightArrow">
            <a:avLst>
              <a:gd name="adj1" fmla="val 50000"/>
              <a:gd name="adj2" fmla="val 5504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28" name="AutoShape 17"/>
          <p:cNvSpPr/>
          <p:nvPr/>
        </p:nvSpPr>
        <p:spPr>
          <a:xfrm>
            <a:off x="5796000" y="2563920"/>
            <a:ext cx="720720" cy="358560"/>
          </a:xfrm>
          <a:custGeom>
            <a:avLst/>
            <a:gdLst>
              <a:gd name="textAreaLeft" fmla="*/ 112320 w 720720"/>
              <a:gd name="textAreaRight" fmla="*/ 630720 w 720720"/>
              <a:gd name="textAreaTop" fmla="*/ 89640 h 358560"/>
              <a:gd name="textAreaBottom" fmla="*/ 268920 h 3585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32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29" name="AutoShape 18"/>
          <p:cNvSpPr/>
          <p:nvPr/>
        </p:nvSpPr>
        <p:spPr>
          <a:xfrm>
            <a:off x="5867280" y="5011560"/>
            <a:ext cx="720720" cy="358920"/>
          </a:xfrm>
          <a:custGeom>
            <a:avLst/>
            <a:gdLst>
              <a:gd name="textAreaLeft" fmla="*/ 112320 w 720720"/>
              <a:gd name="textAreaRight" fmla="*/ 630720 w 720720"/>
              <a:gd name="textAreaTop" fmla="*/ 89640 h 358920"/>
              <a:gd name="textAreaBottom" fmla="*/ 269280 h 3589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32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30" name="AutoShape 19"/>
          <p:cNvSpPr/>
          <p:nvPr/>
        </p:nvSpPr>
        <p:spPr>
          <a:xfrm>
            <a:off x="6227640" y="3932280"/>
            <a:ext cx="720720" cy="358560"/>
          </a:xfrm>
          <a:custGeom>
            <a:avLst/>
            <a:gdLst>
              <a:gd name="textAreaLeft" fmla="*/ 112320 w 720720"/>
              <a:gd name="textAreaRight" fmla="*/ 630720 w 720720"/>
              <a:gd name="textAreaTop" fmla="*/ 89640 h 358560"/>
              <a:gd name="textAreaBottom" fmla="*/ 268920 h 3585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32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31" name="AutoShape 20"/>
          <p:cNvSpPr/>
          <p:nvPr/>
        </p:nvSpPr>
        <p:spPr>
          <a:xfrm>
            <a:off x="611280" y="2995560"/>
            <a:ext cx="793800" cy="360360"/>
          </a:xfrm>
          <a:prstGeom prst="rightArrow">
            <a:avLst>
              <a:gd name="adj1" fmla="val 50000"/>
              <a:gd name="adj2" fmla="val 5507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32" name="AutoShape 21"/>
          <p:cNvSpPr/>
          <p:nvPr/>
        </p:nvSpPr>
        <p:spPr>
          <a:xfrm rot="10800000">
            <a:off x="826560" y="3211200"/>
            <a:ext cx="792360" cy="360360"/>
          </a:xfrm>
          <a:prstGeom prst="rightArrow">
            <a:avLst>
              <a:gd name="adj1" fmla="val 50000"/>
              <a:gd name="adj2" fmla="val 54970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33" name="AutoShape 22"/>
          <p:cNvSpPr/>
          <p:nvPr/>
        </p:nvSpPr>
        <p:spPr>
          <a:xfrm>
            <a:off x="611280" y="3859200"/>
            <a:ext cx="793800" cy="360360"/>
          </a:xfrm>
          <a:prstGeom prst="rightArrow">
            <a:avLst>
              <a:gd name="adj1" fmla="val 50000"/>
              <a:gd name="adj2" fmla="val 5507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34" name="AutoShape 23"/>
          <p:cNvSpPr/>
          <p:nvPr/>
        </p:nvSpPr>
        <p:spPr>
          <a:xfrm rot="10800000">
            <a:off x="826560" y="4074840"/>
            <a:ext cx="792360" cy="360360"/>
          </a:xfrm>
          <a:prstGeom prst="rightArrow">
            <a:avLst>
              <a:gd name="adj1" fmla="val 50000"/>
              <a:gd name="adj2" fmla="val 54970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35" name="AutoShape 24"/>
          <p:cNvSpPr/>
          <p:nvPr/>
        </p:nvSpPr>
        <p:spPr>
          <a:xfrm>
            <a:off x="684360" y="4724280"/>
            <a:ext cx="793440" cy="360360"/>
          </a:xfrm>
          <a:prstGeom prst="rightArrow">
            <a:avLst>
              <a:gd name="adj1" fmla="val 50000"/>
              <a:gd name="adj2" fmla="val 5504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36" name="AutoShape 25"/>
          <p:cNvSpPr/>
          <p:nvPr/>
        </p:nvSpPr>
        <p:spPr>
          <a:xfrm rot="10800000">
            <a:off x="899640" y="4939920"/>
            <a:ext cx="792360" cy="360360"/>
          </a:xfrm>
          <a:prstGeom prst="rightArrow">
            <a:avLst>
              <a:gd name="adj1" fmla="val 50000"/>
              <a:gd name="adj2" fmla="val 54970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37" name="Text Box 26"/>
          <p:cNvSpPr/>
          <p:nvPr/>
        </p:nvSpPr>
        <p:spPr>
          <a:xfrm>
            <a:off x="468360" y="1268280"/>
            <a:ext cx="828036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l-PL" sz="2000" spc="-1" strike="noStrike">
                <a:solidFill>
                  <a:srgbClr val="ff0000"/>
                </a:solidFill>
                <a:latin typeface="Arial"/>
              </a:rPr>
              <a:t>4 tygodnie na udzielenie odpowiedzi (Standards of Cooperation)</a:t>
            </a:r>
            <a:endParaRPr b="1" lang="en-US" sz="20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38" name="Rectangle 27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l-PL" sz="2800" spc="-1" strike="noStrike">
                <a:solidFill>
                  <a:srgbClr val="ff9900"/>
                </a:solidFill>
                <a:latin typeface="Arial"/>
              </a:rPr>
              <a:t>REALIZOWANIE ZADAŃ INSTYTUCJI ŁĄCZNIKOWEJ</a:t>
            </a:r>
            <a:endParaRPr b="1" lang="en-US" sz="2800" spc="-1" strike="noStrike">
              <a:solidFill>
                <a:srgbClr val="ffd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4000"/>
                            </p:stCondLst>
                            <p:childTnLst>
                              <p:par>
                                <p:cTn id="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60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8000"/>
                            </p:stCondLst>
                            <p:childTnLst>
                              <p:par>
                                <p:cTn id="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0000"/>
                            </p:stCondLst>
                            <p:childTnLst>
                              <p:par>
                                <p:cTn id="9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1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4000"/>
                            </p:stCondLst>
                            <p:childTnLst>
                              <p:par>
                                <p:cTn id="11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0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7000"/>
                            </p:stCondLst>
                            <p:childTnLst>
                              <p:par>
                                <p:cTn id="13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9000"/>
                            </p:stCondLst>
                            <p:childTnLst>
                              <p:par>
                                <p:cTn id="1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C4F449-E55F-4D3F-9F2E-5EF6CB6F1BFF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40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2F303A-CFF1-4A00-A5EB-9C8AA8C90A88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41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9462C1-93D1-4D29-8346-3049EA8E619E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42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113401-C884-495A-9B3C-E08BE8805FFA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43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B78C64-B2EE-48CD-B902-4280204C1227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44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124117-AEBD-4B7C-BA28-CEF762A4F806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45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AA090E-BE68-4F36-972C-9794B9BD0CA4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46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D31270-23FB-413D-9FF9-1A09A758D5DE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CF4804-E974-4ADA-B17D-BE12B1146383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48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720453-E84A-4B1E-80DA-4EE74F934C56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49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E39E5D-B586-4EFB-A9E1-8118DA2428C4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50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E56227-276B-468C-BE87-CBD873145346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51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BEFD55-0FEE-4464-BCB8-EB160B81E8E6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52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AA81A6-0637-4598-A61B-9E52B0CDB055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53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1D002F-9A42-4B22-8267-264C7265F237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54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C5BAA4-62B8-4611-BF0B-F9B1598656DC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55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038FC8-4FB2-4CBE-8A41-46F2110F88C2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56" name="Rectangle 4"/>
          <p:cNvSpPr/>
          <p:nvPr/>
        </p:nvSpPr>
        <p:spPr>
          <a:xfrm>
            <a:off x="8459640" y="6526080"/>
            <a:ext cx="684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14CA1F-7A7F-4FE8-8991-F31D0ADCA1DA}" type="slidenum">
              <a:rPr b="1" lang="pl-P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57" name="AutoShape 1"/>
          <p:cNvSpPr/>
          <p:nvPr/>
        </p:nvSpPr>
        <p:spPr>
          <a:xfrm>
            <a:off x="900000" y="2349360"/>
            <a:ext cx="3024360" cy="2880000"/>
          </a:xfrm>
          <a:prstGeom prst="roundRect">
            <a:avLst>
              <a:gd name="adj" fmla="val 7778"/>
            </a:avLst>
          </a:prstGeom>
          <a:solidFill>
            <a:srgbClr val="000000">
              <a:alpha val="60000"/>
            </a:srgbClr>
          </a:solidFill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58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59" name="Rectangle 4"/>
          <p:cNvSpPr/>
          <p:nvPr/>
        </p:nvSpPr>
        <p:spPr>
          <a:xfrm>
            <a:off x="19080" y="92160"/>
            <a:ext cx="914400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l-PL" sz="2800" spc="-1" strike="noStrike">
                <a:solidFill>
                  <a:srgbClr val="ff9900"/>
                </a:solidFill>
                <a:latin typeface="Arial"/>
              </a:rPr>
              <a:t>REALIZOWANIE ZADAŃ INSTYTUCJI ŁĄCZNIKOWEJ</a:t>
            </a:r>
            <a:r>
              <a:rPr b="1" lang="pl-PL" sz="3200" spc="-1" strike="noStrike">
                <a:solidFill>
                  <a:srgbClr val="ff950e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d300"/>
              </a:solidFill>
              <a:latin typeface="Arial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684360" y="1628640"/>
            <a:ext cx="7740360" cy="32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33320" indent="-276120">
              <a:lnSpc>
                <a:spcPct val="108000"/>
              </a:lnSpc>
              <a:spcBef>
                <a:spcPts val="601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"/>
                <a:ea typeface="Arial Unicode MS"/>
              </a:rPr>
              <a:t>Prowadzenie korespondencji w językach:</a:t>
            </a:r>
            <a:endParaRPr b="1" lang="en-US" sz="2400" spc="-1" strike="noStrike">
              <a:solidFill>
                <a:srgbClr val="ffd300"/>
              </a:solidFill>
              <a:latin typeface="Arial"/>
            </a:endParaRPr>
          </a:p>
          <a:p>
            <a:pPr lvl="1" marL="733320" indent="-276120">
              <a:lnSpc>
                <a:spcPct val="108000"/>
              </a:lnSpc>
              <a:spcBef>
                <a:spcPts val="601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1" lang="en-US" sz="2400" spc="-1" strike="noStrike">
              <a:solidFill>
                <a:srgbClr val="ffd300"/>
              </a:solidFill>
              <a:latin typeface="Arial"/>
            </a:endParaRPr>
          </a:p>
          <a:p>
            <a:pPr lvl="1" marL="733320" indent="-276120">
              <a:lnSpc>
                <a:spcPct val="108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"/>
                <a:ea typeface="Arial Unicode MS"/>
              </a:rPr>
              <a:t>angielskim</a:t>
            </a:r>
            <a:endParaRPr b="1" lang="en-US" sz="2400" spc="-1" strike="noStrike">
              <a:solidFill>
                <a:srgbClr val="ffd300"/>
              </a:solidFill>
              <a:latin typeface="Arial"/>
            </a:endParaRPr>
          </a:p>
          <a:p>
            <a:pPr lvl="1" marL="733320" indent="-276120">
              <a:lnSpc>
                <a:spcPct val="108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"/>
                <a:ea typeface="Arial Unicode MS"/>
              </a:rPr>
              <a:t>niemieckim</a:t>
            </a:r>
            <a:endParaRPr b="1" lang="en-US" sz="2400" spc="-1" strike="noStrike">
              <a:solidFill>
                <a:srgbClr val="ffd300"/>
              </a:solidFill>
              <a:latin typeface="Arial"/>
            </a:endParaRPr>
          </a:p>
          <a:p>
            <a:pPr lvl="1" marL="733320" indent="-276120">
              <a:lnSpc>
                <a:spcPct val="108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"/>
                <a:ea typeface="Arial Unicode MS"/>
              </a:rPr>
              <a:t>francuskim </a:t>
            </a:r>
            <a:endParaRPr b="1" lang="en-US" sz="2400" spc="-1" strike="noStrike">
              <a:solidFill>
                <a:srgbClr val="ffd300"/>
              </a:solidFill>
              <a:latin typeface="Arial"/>
            </a:endParaRPr>
          </a:p>
          <a:p>
            <a:pPr lvl="1" marL="733320" indent="-276120">
              <a:lnSpc>
                <a:spcPct val="108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"/>
                <a:ea typeface="Arial Unicode MS"/>
              </a:rPr>
              <a:t>hiszpańskim</a:t>
            </a:r>
            <a:endParaRPr b="1" lang="en-US" sz="2400" spc="-1" strike="noStrike">
              <a:solidFill>
                <a:srgbClr val="ffd300"/>
              </a:solidFill>
              <a:latin typeface="Arial"/>
            </a:endParaRPr>
          </a:p>
          <a:p>
            <a:pPr lvl="1" marL="733320" indent="-276120">
              <a:lnSpc>
                <a:spcPct val="108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"/>
                <a:ea typeface="Arial Unicode MS"/>
              </a:rPr>
              <a:t>włoskim</a:t>
            </a:r>
            <a:endParaRPr b="1" lang="en-US" sz="2400" spc="-1" strike="noStrike">
              <a:solidFill>
                <a:srgbClr val="ffd300"/>
              </a:solidFill>
              <a:latin typeface="Arial"/>
            </a:endParaRPr>
          </a:p>
        </p:txBody>
      </p:sp>
      <p:pic>
        <p:nvPicPr>
          <p:cNvPr id="261" name="Picture 6" descr="wspolpraca"/>
          <p:cNvPicPr/>
          <p:nvPr/>
        </p:nvPicPr>
        <p:blipFill>
          <a:blip r:embed="rId6"/>
          <a:stretch/>
        </p:blipFill>
        <p:spPr>
          <a:xfrm>
            <a:off x="6012000" y="4005360"/>
            <a:ext cx="2449440" cy="165564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500"/>
                            </p:stCondLst>
                            <p:childTnLst>
                              <p:par>
                                <p:cTn id="1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3500"/>
                            </p:stCondLst>
                            <p:childTnLst>
                              <p:par>
                                <p:cTn id="1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4500"/>
                            </p:stCondLst>
                            <p:childTnLst>
                              <p:par>
                                <p:cTn id="1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500"/>
                            </p:stCondLst>
                            <p:childTnLst>
                              <p:par>
                                <p:cTn id="1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6500"/>
                            </p:stCondLst>
                            <p:childTnLst>
                              <p:par>
                                <p:cTn id="1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rdejn</dc:creator>
  <dc:description/>
  <dc:language>en-US</dc:language>
  <cp:lastModifiedBy>000538</cp:lastModifiedBy>
  <dcterms:modified xsi:type="dcterms:W3CDTF">2011-12-02T09:41:06Z</dcterms:modified>
  <cp:revision>357</cp:revision>
  <dc:subject/>
  <dc:title>PIP-prezentacja</dc:title>
</cp:coreProperties>
</file>