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C9F6-BDDC-4132-AF75-547D4CF76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8B9A4-86D4-4C3C-A388-C6B975CB7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05E1-2A0C-4CF2-96F6-3EB5200AC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703E-4FD8-487F-BE45-5CE857FFD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E1F6-5A90-493F-80CD-6436593903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C0A1-AA91-4A4C-AE35-C38B69DD2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877A-FC64-4011-8229-E15D8AE443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7BE0-55E4-475C-8221-EC6FF932A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97065-F8C0-4237-84D6-C6F136EFC4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6F02-27F7-46C7-9296-B766FE53C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B2AB-95A6-4340-9E5E-04BC35013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DA74-24AF-4D3F-ABDE-67365B7D4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Clr>
                <a:srgbClr val="000000"/>
              </a:buClr>
              <a:buFont typeface="ZapfHumnst L2"/>
              <a:buAutoNum type="alphaLcPeriod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453A72-BC26-492B-BA87-272BE78F854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AAB70E-A375-44CA-8122-938C604FE6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BF616-F001-4C0A-8A53-51B3D17859E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73E0D-E3D3-406C-8DAF-C2FE4A190F1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D84A2-5F69-435E-880D-6404A569010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153C7-19A1-49B2-96BF-0D011D711C8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81075-4954-416A-9216-843104A588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12CDA4-C9DE-46EF-ACE0-E843CE55284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6CC88-6759-4253-8941-FF4E8AE7422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E1770E-05A6-4D9A-A02C-14266BC594F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325F-B724-4F0C-A5A8-DE490138FD4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A2C1-968C-4D37-843F-26468301FEB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A8C2F-CEF3-4E0A-A3D3-D0A22505D2F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321C1-8A9C-4166-9E3D-FE25FFA27CF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2F33-1E39-4164-AD9F-65ADAEF1313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AB0AD-F9A6-4EB6-98B7-40E7ACE73D8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0AC4C-2737-41DC-B628-AD2E91F4686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B80EC-E1C5-413C-B594-A82F92482A9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C8496-2048-4DD8-8D9E-04928FF0E45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4D2B4-4D6B-45A1-AF10-9B9BBB8D879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0E531-D69A-4F46-8CCC-6657EDE6CAF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233BB-0B96-4A41-9D06-11578CB909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DD4E3-0EE4-4F9E-B718-84AB54BF849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FEE01-8F02-49D4-BC28-0973C790FC2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DE7CC9-49AC-475B-A64E-0FDC81E234B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496D8-AD14-4AD4-882F-7D263C227B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74A93-6BAA-4891-838C-0BAD461770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473A4-8E85-4475-A381-7C92418C890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535DF-124C-441B-B437-F271F176992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4E2EA-2290-4EC7-A6FE-BCC623620C7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THE STATUS OF SECONDMENT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249120" y="678960"/>
            <a:ext cx="8510760" cy="577620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oland is a country whose workers are 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mainly sent to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other countries of the European Union or European Economic Area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in the framework of cross-border services (workers are seconded to Poland mainly by </a:t>
            </a: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companies in third countrie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ost seconded workers are employed in the building and public works sector in countries such as</a:t>
            </a:r>
            <a:br>
              <a:rPr sz="2600"/>
            </a:br>
            <a:r>
              <a:rPr b="1" lang="en-US" sz="2600" spc="-1" strike="noStrike">
                <a:solidFill>
                  <a:srgbClr val="ffd300"/>
                </a:solidFill>
                <a:latin typeface="Arial"/>
              </a:rPr>
              <a:t>Belgium, France, Germany, the Netherlands and the Scandinavian countries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5A128-D5FA-4A2A-94DE-6933AC51E12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33811-DC0A-4416-9C81-28491811094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2028F-2300-4956-8DC9-32D14E5C321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471C-E505-45DA-B699-1D27B469715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C3100-D6CE-4DEF-A6DB-44E976EED9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EF9D8-905A-477B-A91A-AB81DCD7E69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A8FE2-677E-4B62-8BEA-CD33BECAD9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B8811-832D-4B74-A6F9-140B4FE22DD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51B45-B0C7-4858-B6FE-DB618FE5156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836DC-1A82-45EF-8499-9CB3D9B2BBD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4CE21-7E29-4DC9-AD6E-A8F49DAACE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9CF5B-5B8D-4013-8FB0-F25D72930D6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D6703-4D72-413B-B0D0-FFAD132FAB5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CA742-9545-426C-AE4D-1B8F6C796AA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99ABA-587A-4261-A15F-B99A154AF9B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7A5D5-F7B0-4289-82BA-284252C3085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74DAA-EE36-405E-9484-D7FBE30479F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0DB6A-CA19-4000-8702-08D72DAE5BA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TION EXCHANGE BETWEEN THE PIP</a:t>
            </a:r>
            <a:br>
              <a:rPr sz="2000"/>
            </a:b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D EUROPEAN UNION/EUROPEAN ECONOMIC AREA MEMBER STATES' ADMINISTRATIONS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413000"/>
            <a:ext cx="8207280" cy="460836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280" y="1486080"/>
            <a:ext cx="74883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quently sent to the National Labour Inspectorate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company doing business legally on Polish territory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company doing a significant amount of business on Polish territory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company employ seconded workers within the framework of a working relationship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which sector does the company carry out business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8C62A-0356-46BC-B24A-0C677029243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02734-3CCB-490A-BE34-2D7EA6FE62C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EE720-71BE-49A3-ABD6-0BD1F28135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9CD95-401E-473F-AB59-992000D60A7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F1BD-5F94-4825-B757-0A6ECE4A152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BD37E-770C-4CEF-A971-50C829BB646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F2852-5A25-4D9B-8442-68E903799B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76FDE-166E-464A-B1D3-ECB8C6F92B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2BFCB-1CB3-488A-B16D-F1848E11407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2E205-971F-4DC4-B6A5-55668FC1776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AAF3B-9F3A-4D0A-ABA5-D9163C599D8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4FA1D-FD18-43A5-B343-1AE425961D2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6516A-6A5A-4080-8FF0-1725080AB09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1FD1D-CE6C-433D-AF16-A9F17F42612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7E98F-E830-43C4-97BD-457DDC35F59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B5332-8F14-4A78-85B8-ABEEA4D002D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C0A58-1DD6-4CA4-8E9B-24008ECC393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1BFC-07EB-410F-8C71-7D38FA41D81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INFORMATION EXCHANGE BETWEEN THE PIP </a:t>
            </a:r>
            <a:br>
              <a:rPr sz="1900"/>
            </a:br>
            <a:r>
              <a:rPr b="1" lang="en-US" sz="1900" spc="-1" strike="noStrike">
                <a:solidFill>
                  <a:srgbClr val="ff9900"/>
                </a:solidFill>
                <a:latin typeface="Arial"/>
              </a:rPr>
              <a:t>AND EUROPEAN UNION/EUROPEAN ECONOMIC AREA ADMINISTRATIONS</a:t>
            </a:r>
            <a:endParaRPr b="1" lang="en-US" sz="19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frequently sent to the National Labour Inspectorate (continued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the company provide temporary services? If so, is it on the register of entities which own recruitment agencies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about working conditions, including working hours, paid leave and the amount of salary paid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7006A-5871-457D-8432-C735AC5515F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CD965-3F8A-4790-9602-69F39689BA0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1C0CF-04E7-441F-92E6-2DFA2446AEB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4DE6B-D735-4749-860A-56516D711E2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5E9B2-B24F-4934-A6EB-3851E9902E6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4702CF-3CE9-4C62-9F9B-38CC3CA4F8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CD95A-6469-4767-AB24-50C185FB14D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44FE7-6B7B-4DDD-AAAD-FA1A341FA70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99147-D185-4203-B105-417D859F1F5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C3DB00-A4AA-4DBF-8F8F-B0EED0FF61E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10875-A418-464D-96EE-A75E5905B7C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F9FFA-51F4-4924-9D46-35EEC147D3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1005A-53F4-4173-831D-5F9201D2C04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E8AEF-E859-4FE1-B138-16BF43C3A88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94B9D-E2B5-4ADF-A597-76F20413448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6EF0D-CFB8-41DC-99B6-B01B306EBD3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0EA30-0DD3-4254-ADE2-8A4C8F968F0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93634-188B-4918-B89D-102A08522D2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MPLAINTS RELATED TO SECONDED WORKER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lems associated with complaints (continued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ch of the regulations pertaining to working hou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rregularities in the records kept of working hou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ch of health and safety regulations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idents in the workplac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lish workers' housing condition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B5017-FED6-4B40-9A14-61D5C764C45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767AF-D656-4B3D-892F-7B4079E7C3C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B03AE-A76C-4AE7-AC24-79C81654FC6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878C0-2A7B-492B-A90F-9C88983B421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4F548-62F2-4B41-8E73-D4941A6A479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F78E3-D158-40F5-9A58-D5A2E1373B9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C7C71-FB4E-47D6-914B-78CC83D42DB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8FB0C-B4D1-45C1-B439-0CC645962D6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95D99-9952-4A40-90DB-F2004672126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CA2BF-B1BB-45AD-9043-F62E335A8C0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25651-C39B-491B-A048-84E776EEAD6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AC58E-2824-462D-A396-1BDC79B93C1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2136E-9764-4EAD-ACEE-A2A3052301A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627D3-1C2B-4812-9F06-50E3E3742D5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DFC0C-E5FC-4D1C-9571-7D5A789CA67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0C229-8067-4CC6-B5F9-A56EE06E58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D9B98-8E18-487C-9CBB-88F9A419B5D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150D8-7FCD-4BCB-ABBE-24BE4FA6BC3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AutoShape 1"/>
          <p:cNvSpPr/>
          <p:nvPr/>
        </p:nvSpPr>
        <p:spPr>
          <a:xfrm>
            <a:off x="249120" y="1341360"/>
            <a:ext cx="8645760" cy="3888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s, in particular relating t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mstances which may have an impact on whether the E-101/A1 form can be issued or not (for example if the company is not carrying out any business or a significant amount of business in Poland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form A1 certification for a worker recruited for the purpose of being second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o, for at least a month before being recruited by the employer,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has not been covered by national insurance in the country of orig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by the company or its workers of E-101/A1 forms which give rise to justifiable doubts concerning their authenticity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153DB-B8E7-4154-A2FF-60DE57C9B9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6D5B-E85A-4917-B1FF-EE0B7F4281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AFF2C-23AA-422D-ACC5-61D341052EE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60297-B5D9-4DD0-9329-F7DADD3EB31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4AB07-A53E-4A0B-85D8-93E3A9F204F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C9635-148B-4919-A478-6FC8319380E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76691-A300-40EB-81F7-A162618486C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17C9D-6B6C-43B7-BCE0-41EBB9EC48F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C7A49-B49F-45FB-AC2E-61BD2AB641A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86FD9-0A85-417C-8C5A-2DA264B4897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E675B-A9BA-48F6-A622-A534AE6C6E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4F58F-0FDC-4B29-B207-115269EC16A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4DE703-352B-498B-94D9-3B816264E51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AC319-DA55-44C2-88D7-58AAAC8DAD4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5ACE-01AC-49A2-BB79-C8C04280977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4C284-7029-4C02-823C-74091C9B168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98963-E606-44E9-8C19-8411C0CCAC4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E7160-80EF-4E6A-8585-5DC88D4695A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ZUS (continued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notifications about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ed cases of secondment to other European Union countries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of workers from a Polish compan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ho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are registered for national insurance in Poland but do not have a certificate (form E-101/A1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oving that they are covered by national insurance in Poland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rted findings relating to work carried out for a Polish company or employer by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people from other European Union countries who are not covered by national insurance in Poland and who are not in possession of a certificate (form E-101/A1)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stifying that they are registered with a social security system other than the Polish one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C0DEB-D39F-4CF8-AE8E-DADF3B734F6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ECCC3-768F-4BA9-B4F1-93FAB51A51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B3CC9-E076-44AF-B9D9-ABF510AE58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0F1DC-BD05-4B9B-964B-A3A6A43437E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21C03-D3CE-4010-97E3-ED4924D39E1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82543-6458-4B3E-B2ED-08122656CF0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7D34E-1FE6-4E40-A4FA-5A7B13475DB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C5B63-4484-4D76-B119-3C7A5B7CF88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2A258-CDEE-48B3-89C5-CD5D574B8FF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D4ECF-D724-438F-8D22-963D89727AA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8E72A-3C56-4CC8-954C-73EFB265E65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E492C-278C-48EF-B83F-8B9A7532D7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A220-C861-489E-9802-3F9451BEABA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35233-7B74-4B62-BBC4-82919BC793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0BF74-DB8F-450A-83E5-231C65285C4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AB86-B0FD-4F7C-B210-0EB3E9FA8C1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C51365-02AC-4D7E-84C5-E63D8471BC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20CB5-39A2-4E68-9491-D7E7D2F2335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ZUS (continued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- notifications abou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registration by the employer, despite the employer's obligations, of workers with the Polish social security system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payment of Polish national insurance contributions for worker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979FC-3CE3-4E3B-B8CB-5A645A45D88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A42CC-7DEA-45AA-8C54-46ECFA95021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B16CB-BD83-405F-A467-07A39E1F03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07771-5715-4078-B100-59A84EEED2A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A9C0-7665-40F5-9689-19F96A2AFE3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542ED-4241-40AC-A6C5-2EA4A0798A0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19E1E-FE4E-4471-917E-ABF009AB7F8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28C465-AAE0-49F0-A035-85059D26B8D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6DB85-0F2A-451E-9A6F-7F3CD3E3A33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7AEAA-E149-4953-8351-BFA97C35110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61C4-F97C-4492-8DDE-4335C60A9E3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9F07C-AA93-4D9A-8C59-D2D92156377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27918-B321-4D9F-A6C1-86CB655C7F4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3B6C1-F729-4585-BC4A-9D6B42ABE99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6531-23D3-495C-A57D-6C7C58B9ACC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AE204-0F01-463D-8687-F53FFDB1742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2A28B-9876-41C8-A266-39B42B4E330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0376F2-DF52-4B7F-94D3-E80A1EAE9FA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Tax administrati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 about cases which are in breach of fiscal obligations (including non-payment of taxes due).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The Police, the Public Prosecutor, the registration authori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otification of work being carried out illegally by a company on Polish territory (for example failure to register as a sole trader or on the register of companies (KRS))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940E4-AEE6-4C44-9538-F1E6E701599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AC138-8005-48EE-AA9F-6CE1C8EB870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D418F-EC48-436B-BB75-E1FD355FF4E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15E71-4ABB-4EF4-89F1-137F269B4A5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8709B-1BB6-4447-97D6-2FBFCA4DDEF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8A6F1-70DC-41E3-ADC2-44835D3C0C4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298D0-F054-4EDE-8668-2CF3C86EDC8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9E0322-0EE0-4253-82DD-00F800C7C10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8CAF5-174E-4494-AE14-EB9225046F1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DCA82-69BB-443E-B446-060362926F6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201BB-38DF-4083-AA33-0265D7A8551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377AE-4E08-4BFC-B996-07BD79F1F8E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B7D5C-17C5-4DCE-9D08-75B4328957D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0E090-93EF-4474-834F-6728CD9BC8D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A18401-0F7D-491E-949C-3F896A0C82B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B8E775-ADB2-4EEF-866B-6E15ECF5C0B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87381-5E37-439D-B35D-B13EF10C88F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4A37-CD5E-4C17-A2FB-2DD334EA21C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d300"/>
                </a:solidFill>
                <a:latin typeface="Arial"/>
              </a:rPr>
              <a:t>The registration author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btaining information about the inspected company's current address (if no business activity is being carried out at the address given in the information request)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2BFC3-6231-4E90-B671-247FA3DFC0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FAD07-D9C1-40AB-9200-02DC81F9ED7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5541D-8DEF-4170-A0CA-2ED1656BEE9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AAEA5-5673-4324-AB0D-C660AD459E4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1F437-64C4-4113-9D40-679A024CA77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86132-253E-4D2C-AABE-021DD3426D2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7C0B09-96E2-4117-8E39-5BDB0A8F9E3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3C9AA-FE37-47A9-B00D-8B93EA7C24F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C45F4-5B97-484F-9880-32D2E969A2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65AAB9-2D2B-45A7-84EF-74D996F9A83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4C733-D792-4123-8807-95A2BAA7DD5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06914-8F0B-460E-AE75-A9B8AE49BB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07AF5-9256-4840-9B81-EB33370692C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2456E-A518-4EC3-952E-C19B5ABCFA7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F7AB-BD32-4E38-BB62-CDF54DCC41F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68865-353B-4914-8DDC-BBE0B865DF1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1DB7E-16C9-42C2-A972-480E0D7A825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C388F2-D6B7-43C6-85D6-A03B677EC88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AutoShape 1"/>
          <p:cNvSpPr/>
          <p:nvPr/>
        </p:nvSpPr>
        <p:spPr>
          <a:xfrm>
            <a:off x="324000" y="1484280"/>
            <a:ext cx="8645400" cy="403236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50e"/>
                </a:solidFill>
                <a:latin typeface="Arial"/>
              </a:rPr>
              <a:t>COOPERATION WITH OTHER ADMINISTRATIONS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2010, PIP bodies cooperated with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ZU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the following area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certifying E-101/A1 forms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deciding which law applies in matters relating to social security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checking the regularity of national insurance contribution calculations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registration authorities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obtaining information about inspected companies, including matters relating to the addresses at which their business is carried out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the Police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requesting a control of the legality of an employer's activity on Polish territory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d300"/>
                </a:solidFill>
                <a:latin typeface="Arial"/>
              </a:rPr>
              <a:t>the Fiscal administration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 transmitting information about the way in which temporary workers' salaries are calculated (if all taxes have not been deducted at source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719E1-CFEF-4E39-9CDC-9C2DB578E7F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C68DC-665E-49EC-B568-6B1D74E288D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EF662-0567-4084-92DC-9AF39187525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15283-EF29-4E9A-9E5D-66FEF28ADED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8ADEB-5935-4FD2-B1EF-F4DA180162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196DD-42B7-4A7A-9C06-AB442A7D47D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0A80B2-C29D-4550-8B34-EDD6395DD4D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B3112-0CBB-4A61-AF33-BDDB40DDAB8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5E1E4-C6D9-4D63-94EF-0AB9A9F28B6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EA135-0BE3-42F0-B82C-84F4E510A93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02AB5-CBFD-4D13-A734-AD97F6CCDC2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DDF6AE-0EEB-4BE0-9088-3222E453BF4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ABF84-4EC7-46CF-861D-722EF309D9C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5161D-3B1E-409F-ABAD-EF36F94BF08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AA384-3A58-41B1-BAB7-3E9E56DDDCB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FFFD9-DED6-43CD-A3A2-64CF3849E15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A52A0-42D9-41D3-BF29-133B3A42A6B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4984C-AE39-45F8-84E2-E2F1B8CE73D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9DF9B-E08B-4794-8C0E-D270C41BCE2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68247-3807-4CD4-BC63-3B31AD54500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672F7-F4FD-4674-B435-2CC375A9D20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D0D5B-3A98-4640-A953-CEC57CEBA58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C3488-E474-4602-83E1-DE4B8058E60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70943-4DC8-4BAE-8196-36CFE610319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3DCA8-6B16-4D9B-AC5C-72CC75401ED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19497-982C-4A6C-BBD6-1216FC358A3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502A9-4928-47EA-9827-59D0F098FA2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8ADAF-99F8-43BC-BA32-2ECD9901241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THE STATUS OF SECONDMENT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04760" y="2163600"/>
            <a:ext cx="8356680" cy="35816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Volume of secondment – </a:t>
            </a:r>
            <a:r>
              <a:rPr b="1" lang="en-US" sz="3000" spc="-1" strike="noStrike">
                <a:solidFill>
                  <a:srgbClr val="ffd300"/>
                </a:solidFill>
                <a:latin typeface="Arial"/>
              </a:rPr>
              <a:t>trends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ars: 2005-2007 - an increase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years: 2008-2009 - a decrease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3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quarter 2010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a return to 2007 and 2008 levels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 based on the number of E101 forms approved by the Polish Social Security organisation (ZUS) from the Ministry of Labour and Social Policy report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34640" cy="8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ADMINISTRATIVE COOPERATION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7920" y="1718640"/>
            <a:ext cx="8408160" cy="437472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ber States must organise cooperation between administrations which, in compliance with national legislation, are responsible for monitoring the working and employment conditions referred to in Article 3.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cooperation ensures in particular that the administrations provide information abou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) provision of workers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) evidence of abuse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) cases of alleged illegal transnational activities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rt. 4, Para. 2 of Directive 96/71/EC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ADMINISTRATIVE COOPERATION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ery Member State must take the appropriate measures to ensure that information about the working conditions referred to in Article 3 are available for general consultation. 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rt. 4, Para. 3 of Directive 96/71/EC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59AAE-4E6E-4D84-BCE4-7239679A64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27B31A-72A8-490E-A91D-5FD55A922A4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801A5-BCDC-4CFF-9C60-1A8900ACF94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E22F5-A9CF-4E70-A1CC-5BD151EEE60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9F098-A82C-49ED-A78A-36FE4C37C7C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F8CA1-D11C-448C-B44C-757C5F7F136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DE168-BA92-4E9C-A517-63C7DF0056C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A516D-2BB7-4E64-B124-B6C3BECB519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4DEA6-D072-4CF8-903F-17C4441DD80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7DB30-3DB8-4634-9F82-0AE0D0D6A3A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309E6-0843-473F-88B6-9543DF26F59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978B9-C460-465D-BCB7-D074F6F6AEF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F3D5-DD2C-41D4-BBD7-15061314C97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5754E-DA90-4739-8589-C694610FD0C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4E2A9-C070-42AE-B677-91A82A7DDC7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CDAC-8176-4670-9D29-F0F5240DCE3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D4B8-BB5C-48CA-8281-4D4A68FA72B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7BEEE-9AAF-4050-A9C9-55CE320196E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27E88-B4E9-4C18-94F3-DF9D56793FF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ABF74-ECDD-47C2-AEF3-3AAF5E6AA99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BE65C-B6E7-4EA1-B1A1-2E844CA6A01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ECB32-7F9B-422F-91E3-A8E3036166D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7A725-BDE6-47BA-BA88-1691EC12B82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21989-AC59-4AF6-B127-F8F0AA700CC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03D8D-70F3-4A55-8A67-9EE9D9EE0AD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472648-843D-4E4F-B4E0-E4850BFFA3A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824BA-6852-4264-B0CC-0C9F5CF5E24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379B1-67EF-4C39-8E8F-8803698D392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404640" y="2109240"/>
            <a:ext cx="8412480" cy="28605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exchange information about secondment of workers with other Member States' liaison office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send information to foreign liaison offices about any irregularities reported in Polish workers' complaints, including seconded workers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8685-F566-4C2B-8553-F6C7C6370B2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51BF8-0B34-4F16-94C7-59C529F90A5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1ABCA-0856-4D6B-8EC0-FDC6A9E5EBE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D3012-21B9-42BC-A811-A633436300B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4E4B6-2FC9-462D-B1F9-AFD2B913D8A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EB515-02E1-4D90-90F7-7841C38F932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FE9AC-DD9F-47C0-BC76-06519A95529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7F1972-2ED0-4020-A5E7-BAD0DB2AFE1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88B74-F95E-4D5F-85CE-2779DEE48B6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72E6E-E437-4F1F-ACC5-565288636D6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4CFE2-E1B5-4B13-87E3-A541AD1C640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8EF1B-FE0E-4B69-BED6-21EBCD0CAE8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80F28-1481-46A2-87D9-BE974058CA8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E7B03-3654-4C38-8A17-4A6B46EED3D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749AC-81FD-44C4-A3B2-D2FA2E5DD77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55190-C5FF-46EF-A9F9-183543527D9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6F47F-BAC2-4AAF-964F-12AA64E598B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EF99F-AE74-494F-B87C-1B381052AD7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F1DA4-D242-4A24-B19E-021202344D6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4B63B-A59F-4D65-8D07-FCF9144E127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2EB60-8E4B-45A8-A60C-2ABE2422268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77C89-6F1E-4AD3-86B9-11D2EC0D9A0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ED17A-B57B-4824-9940-026A6332FB3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791EF-2D3E-41EC-8105-50185413DBB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2256F-8C14-4A54-A5EC-3961DA1F2B1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92499-0A64-4EFB-9281-1ED11889FB6F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1757-7DB8-4856-A7AA-6B59A3714D9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0BB1B-DF99-47F0-9702-E4AB34FD416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07800" y="2021760"/>
            <a:ext cx="8455320" cy="29242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IM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continued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cooperate with Polish authorities, administrations and institutions.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 provide information about minimum working conditions with reference to Polish law, upon written request from the interested party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81744-1F24-4D55-B427-98EB0E5394F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865C-ADDB-4EE7-AD5C-5A0F6664842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A36F5-0442-4082-9247-D29FE47A2CB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30DCC-E78D-4A0E-9143-A4A1AC08457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37EB1-4EF7-408D-A3C1-32A466835D3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D3833-0701-4BF0-AD0D-F452DB111BF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A863C-3B54-4D01-819E-261B02C1FB6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4BA3D-F370-4A4E-BEE6-75637CE1754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67CD8-CA19-4F3E-AF98-605D850D2B7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01450-E4B4-428C-908A-076EC3421DA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6D70A-C61E-4AF4-ABD7-05888CFD787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1358B-B88A-4393-9CF0-6690D6263B3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4664F-1293-46AF-B6C4-7D58D2C1993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33A2C-1874-4ED1-9A93-34583AED217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D1858-719C-40E7-A3D8-D3A63AF8397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5DE79-A838-47E8-B348-B8C32F34AF5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1246-4B18-4E86-BE71-F6D70158355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618C-13D9-4058-A911-C66647DCA1CD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8522E-11A0-4F03-9A3A-8F1FFDA3F10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74B63-19C8-4A08-A639-848804D92F8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FA7B4-49A7-48EF-A67D-33AF136A048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E12D5-F363-40FE-B767-28BEF4827F9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D068B-9AE1-4628-8F02-B8042C955F3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2EF11-98E1-4ADF-AC57-3045DAAFABB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C7CD9-AAD4-4875-A83F-7B1230CDFC2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CCF81-070B-43D0-BC7B-96124086B90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6939F-85DE-4A4C-9649-0FEA5AF9754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4FD27-3AB4-454C-B91B-D61CCC91F57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THE NATIONAL LABOUR INSPECTORATE (PIP) AS LIAISON OFFICE 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54160" y="907920"/>
            <a:ext cx="8564400" cy="55591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National Labour Inspectorate is responsible for cooperating with European Union and European Economic Area Member State administrations in charge of monitoring working and employment conditions, and in particular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providing information about the working conditions of employees who are seconded for a fixed duration by an employer with its head office in Poland to a country which is a Member State of the European Union/European Economic Area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providing information about any infringements of the rights of workers who are seconded to Polish territory for a fixed duration by an employer with its head office in a Member State of the European Union or European Economic Area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indicating which is the relevant labour market monitoring authority that will provide the requested information in the area concerned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E72D19-65E1-4BC3-8D46-F178649FC05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40A80-3D20-4404-92D2-2D2B4B6C5DD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D35E83-2788-4B4B-AA3E-399D762DBAC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07722-410C-4DED-A9E2-76BB4408FF3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62A35-2C15-4E73-ACEA-A4F12E61E84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D6FF2-E32E-46ED-BD20-3612304E94B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77392-A5F4-47B7-A05D-07E8C136FBD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3A37E-C893-4569-B1F9-6D43F390FD9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760AD-BC25-4509-8236-F20454E2A94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824A3-CD4D-483E-A454-CDBB6282D8E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0147-E0B7-43F1-9141-EAC56C3778B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B0D2C-AACA-43B0-A6DE-646CA7158FF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CF5C4C-C3F5-4174-986A-AC6674C0A21C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0FE09-28DA-4241-9A23-7E1181B624C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2F6C3-06E2-467A-9866-5E3F4847029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A4958-3B49-40D7-8491-0287EF69A5E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83EE9-FF3B-4679-AE04-6987F4A2D05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C52D-31BB-478D-9B61-552DE1C9059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13" name="Picture 2" descr="mapka"/>
          <p:cNvPicPr/>
          <p:nvPr/>
        </p:nvPicPr>
        <p:blipFill>
          <a:blip r:embed="rId2"/>
          <a:stretch/>
        </p:blipFill>
        <p:spPr>
          <a:xfrm>
            <a:off x="5219640" y="2635200"/>
            <a:ext cx="3384720" cy="322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logo%2520U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15" name="Text Box 4"/>
          <p:cNvSpPr/>
          <p:nvPr/>
        </p:nvSpPr>
        <p:spPr>
          <a:xfrm>
            <a:off x="1476360" y="2114640"/>
            <a:ext cx="2158920" cy="378180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eneral Labour Inspectorate (GIP)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7236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ur Inspection Agen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0400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44364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spectio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weeks for providing a reply (cooperation standards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OW THE LIAISON OFFICE ACHIEVES ITS AIMS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DA790-446D-4891-88B2-3ABFC0C859D5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A9F6B-2654-4130-8753-69ACD8C7EC5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1DC34-033D-4847-BB91-C15A58505B1B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97785-2C89-4EB3-9C0D-E38F7DDAC1E6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48E7D-7B25-4A3A-8D1C-C4CDA0893567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F6B2A6-BAF3-4323-A85A-44C19CD29AE0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A5067-18D6-403B-9619-1776803BA501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86093-C19B-4AD0-B999-054E27A689FE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8A752-E175-4ECD-9069-2CC3D6F8DA1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3B5830-E73E-4027-99BB-039541F8308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CFC8F-8A48-4AAD-8C2F-5CF5EDD1A358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7AC73-E40E-41F1-8A30-E328EA34656A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1460D-7B2C-4F0B-9599-48922FB5F579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D933-D43B-44EF-9573-D4AA65BCB6E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A58E9-8D8F-4639-869F-ED84E9888002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9470F-61EB-43CA-8E38-FE4E833DCA6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2BAC-9740-4976-9896-9BEA5E274074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9D808-6780-429B-81E5-577E16EE96C3}" type="slidenum">
              <a:rPr b="1" lang="en-GB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HOW THE LIAISON OFFICE ACHIEVES ITS AIMS</a:t>
            </a: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Languages used for correspondence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English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Germa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ench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Spanish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Italian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61" name="Picture 6" descr="wspolpraca"/>
          <p:cNvPicPr/>
          <p:nvPr/>
        </p:nvPicPr>
        <p:blipFill>
          <a:blip r:embed="rId7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écile VITAL</cp:lastModifiedBy>
  <dcterms:modified xsi:type="dcterms:W3CDTF">2011-12-08T16:32:37Z</dcterms:modified>
  <cp:revision>387</cp:revision>
  <dc:subject/>
  <dc:title>SYTUACJA W ZAKRESIE DELEGOWANIA </dc:title>
</cp:coreProperties>
</file>