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9475-CB29-4F28-B23B-7F163453C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16A4-6403-4737-B20B-5D8FEAE21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7AFE3-EC95-4774-BCD0-561BF9052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52F3-E975-4D99-B714-222A525537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BF7EA-5EBB-49D1-8B3E-C950C5529F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CAEF8-3EA3-4679-B783-5C4167902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E791-236B-4546-98C0-D72AE2C56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4B61E-0210-4E93-B6CD-9B490C48D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3464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15613-DC94-40D1-B52B-1000FFFD3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9985A-305C-4FF1-839E-41B1CD804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EF03C-6191-4404-AE2E-B136A20C8F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FBF35-8007-4544-9E16-CD6293555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ordArt 1"/>
          <p:cNvSpPr txBox="1"/>
          <p:nvPr/>
        </p:nvSpPr>
        <p:spPr>
          <a:xfrm>
            <a:off x="108000" y="6405480"/>
            <a:ext cx="4680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ffff">
                    <a:alpha val="32000"/>
                  </a:srgbClr>
                </a:solidFill>
                <a:latin typeface="Square721 BT"/>
              </a:rPr>
              <a:t>www.pip.gov.pl</a:t>
            </a:r>
            <a:endParaRPr b="1" lang="en-US" sz="3200" spc="1" strike="noStrike">
              <a:ln w="0">
                <a:noFill/>
              </a:ln>
              <a:solidFill>
                <a:srgbClr val="ffffff">
                  <a:alpha val="32000"/>
                </a:srgbClr>
              </a:solidFill>
              <a:latin typeface="Square721 BT"/>
              <a:ea typeface="Square721 B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95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1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2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3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4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5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6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45928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261470-7AC0-40F3-A905-1DBF74CB96C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928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9A5C08-9643-4B01-9107-E2999FFF9BF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images.google.com/imgres?imgurl=http://www.biblioteka.lebork.pl/zdjecia/logo%20UE.jpg&amp;imgrefurl=http://www.biblioteka.lebork.pl/index.php?sid=61&amp;tid=98&amp;h=600&amp;w=900&amp;sz=27&amp;tbnid=qqqD6HQ_m2YJ:&amp;tbnh=96&amp;tbnw=145&amp;hl=pl&amp;start=1&amp;prev=/images?q=logo+ue&amp;svnum=10&amp;hl=pl&amp;lr=&amp;rls=GGLR,GGLR:2005-40,GGLR:en&amp;sa=N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07B46-3104-491F-9C72-D1FE542AB851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9DD19-2D98-4973-B56A-EACE8C4B696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FE8EA-23E4-42BA-AE1C-1501FEEE07D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0F6CC-75F1-4CD7-9E73-5840BB8EAC1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CB0E3-9195-40CA-92DE-B75D96D6F09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EBFA8-7740-4B35-9EB5-6EE9382F6EE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BA0DD-E884-4A4D-9F08-7568A8BE7AC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E4A63-4B18-44FB-A19F-DBFD6657553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59218-4690-47CF-A5B2-E8A2BA5C87A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43662-6657-4461-88A4-A466964CE43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C0D36-5BC2-4DCB-A063-C3B02E242C7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5556A-8EE7-4BC3-89D9-4C7D64BFC24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55749-9E23-4815-B81B-8FB8D7524AF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968CB-15A9-4AA5-A865-C8E847A992D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587D7-49B8-45E8-8D3A-E15AB004A55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AD0C8-C57C-4163-9324-DFC1BBC220A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DD304-5E63-4124-B720-3F068CC7C80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6E6F5-4C22-4BD9-868D-12E9AA377EA1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6AE25-C868-4C87-AB29-DA8D556F94A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20E1B-DEC9-4D33-AF1E-BB90A7B6A72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0BE5B-03B2-445E-942D-930AA182C21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C2E8E-AEDC-4BB8-A01A-F224A1B67DC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218A9-1BE5-491A-992E-00F759208C2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234E6-E315-4E00-9FFB-667BE150746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1CD59-18E5-48B6-8F52-830D33D3809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622DD-E874-402D-925A-5DE0BA6A3A8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967BA-AC38-4DEE-837B-7262FA55AC6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08077-DA85-4BEA-AA96-2E510640154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950e"/>
                </a:solidFill>
                <a:latin typeface="Arial"/>
              </a:rPr>
              <a:t>THE STATUS OF SECONDMENT 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70" name="AutoShape 3"/>
          <p:cNvSpPr/>
          <p:nvPr/>
        </p:nvSpPr>
        <p:spPr>
          <a:xfrm>
            <a:off x="249120" y="678960"/>
            <a:ext cx="8510760" cy="5776200"/>
          </a:xfrm>
          <a:prstGeom prst="roundRect">
            <a:avLst>
              <a:gd name="adj" fmla="val 16690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oland is a country whose workers are </a:t>
            </a:r>
            <a:r>
              <a:rPr b="1" lang="en-US" sz="2600" spc="-1" strike="noStrike">
                <a:solidFill>
                  <a:srgbClr val="ffd300"/>
                </a:solidFill>
                <a:latin typeface="Arial"/>
              </a:rPr>
              <a:t>mainly sent to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other countries of the European Union or European Economic Area</a:t>
            </a:r>
            <a:r>
              <a:rPr b="1" lang="en-US" sz="2600" spc="-1" strike="noStrike">
                <a:solidFill>
                  <a:srgbClr val="ffd3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ithin the framework of cross-border services (workers are seconded to Poland mainly by </a:t>
            </a:r>
            <a:r>
              <a:rPr b="1" lang="en-US" sz="2600" spc="-1" strike="noStrike">
                <a:solidFill>
                  <a:srgbClr val="ffd300"/>
                </a:solidFill>
                <a:latin typeface="Arial"/>
              </a:rPr>
              <a:t>companies in third countrie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1" lang="en-US" sz="26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ost seconded workers are employed in the building and public works sector in countries such as</a:t>
            </a:r>
            <a:br>
              <a:rPr sz="2600"/>
            </a:br>
            <a:r>
              <a:rPr b="1" lang="en-US" sz="2600" spc="-1" strike="noStrike">
                <a:solidFill>
                  <a:srgbClr val="ffd300"/>
                </a:solidFill>
                <a:latin typeface="Arial"/>
              </a:rPr>
              <a:t>Belgium, France, Germany, the Netherlands and the Scandinavian countries</a:t>
            </a:r>
            <a:r>
              <a:rPr b="1" lang="en-US" sz="2400" spc="-1" strike="noStrike">
                <a:solidFill>
                  <a:srgbClr val="ffd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C5020-B0F4-41C8-9126-B058E540ACB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4E10C-8085-45E0-8798-DB59E543064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3F262-F04A-4321-820D-9AFD585773F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FDBDA-B12B-46AB-8B38-067B4038548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4C6D6-450C-4B6B-935C-4A4BB7EF79E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29501-0BCF-4BAA-A9D6-C387274ADA6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52853-372F-45AA-B398-EC0D2ABCB39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3F4FA-6F91-4AA4-B092-1614DBB512B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721A8-2FD7-47B5-ABD2-6829E0F386F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FEC09-49FD-43D6-83CB-E27B2FB0D46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A66FB-1DEC-471C-B65C-2543385B51A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F1A61-8232-434B-B1AD-A2454AB5786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94E41-FFCE-4764-952B-49658D3D637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45038-393B-42E5-AC12-AD5D585B6AA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D85F6-3862-437B-8168-ADFBE2918A4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3CD5E-72F8-47CE-89C7-2F954EFACC3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F761B-5B80-48FB-AB58-9F7A3D229D4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54255-0B8F-43E3-AF3E-61B2FF1AF9C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19080" y="92160"/>
            <a:ext cx="914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FORMATION EXCHANGE BETWEEN THE PIP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D EUROPEAN UNION/EUROPEAN ECONOMIC AREA MEMBER STATES' ADMINISTRATIONS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68360" y="1413000"/>
            <a:ext cx="8207280" cy="4608360"/>
          </a:xfrm>
          <a:prstGeom prst="roundRect">
            <a:avLst>
              <a:gd name="adj" fmla="val 8593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755280" y="1486080"/>
            <a:ext cx="748836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quently sent to the National Labour Inspectorate: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company doing business legally on Polish territory?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company doing a significant amount of business on Polish territory?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es the company employ seconded workers within the framework of a working relationship?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which sector does the company carry out business?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9305C-330C-4E3F-99F2-B1ACCC49CD6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87A18-0FD4-4641-B245-DE178949D7F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2F78E-D696-4FAA-9AE5-152A773E3B5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3BEE1-2107-4378-B191-B2FAF1392F2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CCF6E-7760-43D8-BF17-D8E50B85AB9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9D08E-CCF8-4834-B864-B723893F36E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AFBB9-7FF9-4E0C-93C1-6EE5DE3F87A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B824D-A3F5-400C-87CE-2BA8BA0ADC8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5F752-5E7E-4B5D-A172-7B1E20E384C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B446A-7B4F-4EAB-B3DF-3484B326AD6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25060-1D05-4F84-90BE-7D6433E7461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49673-D27C-4257-8D0A-AFD6C0FE3D2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8DB72-FC92-457A-A71B-7E7948967AC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87CCA-D29E-49E7-ABD0-5B48FE62B37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B13BC-C602-43C7-B4A6-E01C00BC31E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946F6-647C-49D9-AA5A-6F8A4EFA679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2F0E7-35A4-4684-9AC6-C3496365772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32B63-3BBB-42D6-927D-A65C7C5C0C8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2" name="AutoShape 1"/>
          <p:cNvSpPr/>
          <p:nvPr/>
        </p:nvSpPr>
        <p:spPr>
          <a:xfrm>
            <a:off x="249120" y="1341360"/>
            <a:ext cx="864576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900" spc="-1" strike="noStrike">
                <a:solidFill>
                  <a:srgbClr val="ff9900"/>
                </a:solidFill>
                <a:latin typeface="Arial"/>
              </a:rPr>
              <a:t>INFORMATION EXCHANGE BETWEEN THE PIP </a:t>
            </a:r>
            <a:br>
              <a:rPr sz="1900"/>
            </a:br>
            <a:r>
              <a:rPr b="1" lang="en-US" sz="1900" spc="-1" strike="noStrike">
                <a:solidFill>
                  <a:srgbClr val="ff9900"/>
                </a:solidFill>
                <a:latin typeface="Arial"/>
              </a:rPr>
              <a:t>AND EUROPEAN UNION/EUROPEAN ECONOMIC AREA ADMINISTRATIONS</a:t>
            </a:r>
            <a:endParaRPr b="1" lang="en-US" sz="19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frequently sent to the National Labour Inspectorate (continued):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es the company provide temporary services? If so, is it on the register of entities which own recruitment agencies?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94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ions about working conditions, including working hours, paid leave and the amount of salary paid.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53A57-0FE7-4102-9EA7-833AAFB9283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06134-794D-49D3-AB0F-547DB9D2D45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FB488-C3FE-4665-9893-5DD56C5C522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F136A-4EE9-4DF5-AF45-A9F73303F9F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AB311-2F85-4D08-9721-64822B3B7A3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AF952-A4B7-4BA1-AFDA-1D4AA55F563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4798A-30FA-4406-86F7-51559194115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48C71-6F25-4823-99B0-C838CEA429D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C0554-EE38-4DAA-B1B0-F76F81DD4AB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9AC0C-1C04-4E88-84B3-7C4B1E35CDD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9B1AB-015D-407C-A258-52355166165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D0937-376C-4CC6-B94B-684FB7A20CD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39544-D955-443C-A50A-4EC24D3A8C0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FA55E-FE86-4577-8F0A-A5A68337F86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9D1D5-518D-4697-8561-C732B6E3BC3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B6061-886D-493D-9C21-80F768755A9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8612B-DEB3-462C-B7AC-149C37CCE71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314FD-C453-4736-957A-6C2C1D10A9B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3" name="AutoShape 1"/>
          <p:cNvSpPr/>
          <p:nvPr/>
        </p:nvSpPr>
        <p:spPr>
          <a:xfrm>
            <a:off x="249120" y="1341360"/>
            <a:ext cx="864576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950e"/>
                </a:solidFill>
                <a:latin typeface="Arial"/>
              </a:rPr>
              <a:t>COMPLAINTS RELATED TO SECONDED WORKERS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lems associated with complaints (continued):</a:t>
            </a:r>
            <a:endParaRPr b="1" lang="en-US" sz="28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each of the regulations pertaining to working hours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rregularities in the records kept of working hours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each of health and safety regulations, 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idents in the workplace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lish workers' housing conditions.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04E36-8723-4FEE-BA29-2D4506D18E4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07263-7707-4719-8017-70BE41A5F69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68AB5-0819-4C7E-AFAE-98AADE71FF5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B8542-B7BC-4AD7-BEFD-07DF38959B1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26460-3ED8-4B6E-9F1D-7EBA3E14705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66934-49F5-46E9-BE8F-FCCFA32F156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82D48-978D-4F85-AEE4-65A9F27E151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02128-DDC1-49F2-941D-8C747B10F07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1CFFC-BCB9-4CE1-86A9-28515531A24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48037-49E0-4506-8585-14AF82DD13C1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8A601-8931-42F4-9BFC-A7CB837EC9E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C64DE-BB3E-4D48-85C4-F016078247E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FF6AC-785F-4594-8209-BCDDDD088E0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E2F7E-1760-4A45-822D-2CA9963EC2E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2CFCF-2DDB-474C-B085-956D8B5164B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13663-D2D5-4CC1-AE89-D7F370FF271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CF5C7-684A-4D2F-929A-1057E6702D5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D5A87-3C10-4C83-BD98-ED2FF242F33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4" name="AutoShape 1"/>
          <p:cNvSpPr/>
          <p:nvPr/>
        </p:nvSpPr>
        <p:spPr>
          <a:xfrm>
            <a:off x="249120" y="1341360"/>
            <a:ext cx="8645760" cy="3888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950e"/>
                </a:solidFill>
                <a:latin typeface="Arial"/>
              </a:rPr>
              <a:t>COOPERATION WITH OTHER ADMINISTRATIONS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d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d300"/>
                </a:solidFill>
                <a:latin typeface="Arial"/>
              </a:rPr>
              <a:t>ZUS </a:t>
            </a:r>
            <a:r>
              <a:rPr b="1" lang="en-US" sz="2000" spc="-1" strike="noStrike">
                <a:solidFill>
                  <a:srgbClr val="ffffff"/>
                </a:solidFill>
                <a:latin typeface="Albertus MT"/>
              </a:rPr>
              <a:t>–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otifications, in particular relating to: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mstances which may have an impact on whether the E-101/A1 form can be issued or not (for example if the company is not carrying out any business or a significant amount of business in Poland);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300"/>
                </a:solidFill>
                <a:latin typeface="Arial"/>
              </a:rPr>
              <a:t>form A1 certification for a worker recruited for the purpose of being second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o, for at least a month before being recruited by the employer, </a:t>
            </a:r>
            <a:r>
              <a:rPr b="1" lang="en-US" sz="2000" spc="-1" strike="noStrike">
                <a:solidFill>
                  <a:srgbClr val="ffd300"/>
                </a:solidFill>
                <a:latin typeface="Arial"/>
              </a:rPr>
              <a:t>has not been covered by national insurance in the country of origi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by the company or its workers of E-101/A1 forms which give rise to justifiable doubts concerning their authenticity;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C0480-A3BE-4C1E-B8EF-434937CE784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36690-82EA-44EF-AD3E-38481F6A4E4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A51B6-262A-41DA-9B35-826B0032930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D9C48-C16E-4961-B45C-B103BBFB6B4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77A33-BCD0-4CBF-9350-83F3D472C2E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34D9B-F8BA-4ED1-BAE0-4BF24F87017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34E4B-9053-479A-9A3C-14288F9A250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41E63-17B4-4696-86C6-DF401C958F2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695F1-AA2A-49E0-BAC1-8D652EE79FE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51E01-6E18-4666-BC40-8073898FD82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67DF2-FC7A-4512-BA86-8DECFF4FF2C1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68610-A3BF-4FA2-AC6F-9370F2AAA35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DC6C6-DED3-4B62-B8A7-A912BB0C085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CE18A-0277-4AB3-804A-A167943AEB3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91FEC-48DF-4961-8D64-7413B1527F3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59E7E-DF06-46BD-A340-4B4D6669133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8159D-BE09-4DA4-B787-30D55B420B41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A058D-8DFE-41EC-A7E6-DA28695C4E6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5" name="AutoShape 1"/>
          <p:cNvSpPr/>
          <p:nvPr/>
        </p:nvSpPr>
        <p:spPr>
          <a:xfrm>
            <a:off x="324000" y="1484280"/>
            <a:ext cx="864540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950e"/>
                </a:solidFill>
                <a:latin typeface="Arial"/>
              </a:rPr>
              <a:t>COOPERATION WITH OTHER ADMINISTRATIONS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d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3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d300"/>
                </a:solidFill>
                <a:latin typeface="Arial"/>
              </a:rPr>
              <a:t>ZUS (continued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 notifications about: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rted cases of secondment to other European Union countries </a:t>
            </a:r>
            <a:r>
              <a:rPr b="1" lang="en-US" sz="2000" spc="-1" strike="noStrike">
                <a:solidFill>
                  <a:srgbClr val="ffd300"/>
                </a:solidFill>
                <a:latin typeface="Arial"/>
              </a:rPr>
              <a:t>of workers from a Polish compan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o </a:t>
            </a:r>
            <a:r>
              <a:rPr b="1" lang="en-US" sz="2000" spc="-1" strike="noStrike">
                <a:solidFill>
                  <a:srgbClr val="ffd300"/>
                </a:solidFill>
                <a:latin typeface="Arial"/>
              </a:rPr>
              <a:t>are registered for national insurance in Poland but do not have a certificate (form E-101/A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oving that they are covered by national insurance in Poland;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rted findings relating to work carried out for a Polish company or employer by </a:t>
            </a:r>
            <a:r>
              <a:rPr b="1" lang="en-US" sz="2000" spc="-1" strike="noStrike">
                <a:solidFill>
                  <a:srgbClr val="ffd300"/>
                </a:solidFill>
                <a:latin typeface="Arial"/>
              </a:rPr>
              <a:t>people from other European Union countries who are not covered by national insurance in Poland and who are not in possession of a certificate (form E-101/A1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stifying that they are registered with a social security system other than the Polish one;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122BE-39E7-4068-B97F-8C13D0DDBF5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618BC-E3A3-40B0-B4B3-8FC9A7A0A15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90168-014B-4F1B-A8B6-5F8C3C113A5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91C18-D691-496A-BB24-614E158FA57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119FA-A3E0-4D57-9F08-6A355C94A5A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D298B-7334-4950-9906-C02AD45F571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A40F3-A54D-4F7F-BBD4-796CAFCEF25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60F3E-2773-4690-A07A-FCE945432A6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2907E-8A4A-40F7-92C1-45538005EAA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421AE-69DF-4E1A-85FB-890D562A072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8E473-3BB0-46A8-94CC-E2C476FEFF0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60891-AB76-408D-86E2-C6B8475FB21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A674B-1E22-4651-B47B-FE9E121C906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91FF0-A1E8-4C52-B34C-F9AF755D2C6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9826D-045F-45A7-8488-F70ABC668CF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39D04-4A64-48EF-954E-69C110550CB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CDC7A-DA05-42FA-B5BE-3CD599861D5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FEED8-A7FE-435B-AFB5-1751D9BBC60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6" name="AutoShape 1"/>
          <p:cNvSpPr/>
          <p:nvPr/>
        </p:nvSpPr>
        <p:spPr>
          <a:xfrm>
            <a:off x="324000" y="1484280"/>
            <a:ext cx="864540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950e"/>
                </a:solidFill>
                <a:latin typeface="Arial"/>
              </a:rPr>
              <a:t>COOPERATION WITH OTHER ADMINISTRATIONS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d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d300"/>
                </a:solidFill>
                <a:latin typeface="Arial"/>
              </a:rPr>
              <a:t>ZUS (continued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notifications about: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registration by the employer, despite the employer's obligations, of workers with the Polish social security system;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payment of Polish national insurance contributions for workers.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48FD0-E1EF-41FF-ACC8-7EF0A1EE80B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8B719-77B2-4DD2-9A8C-F523134D2F1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0FD35-A9F0-4CAF-BA83-7AA40FB1764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06122-C430-42AB-8FAC-8E1224A2AB4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50247-5DC4-4800-A65A-BCF3AD4E5E2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E4963-EF0A-4CB5-B2FC-01335719581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ABD9F-43AD-41A1-A12E-8BF933B5EA7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D6314-645C-448E-9F5B-5A56378CB8F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5FFF8-D9E6-4EDA-811F-9511C6C2E0A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35576-37CF-4522-9A06-1690FDF57A9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C273D-2BCA-4829-9E46-A66B2A4BD4F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22E6E-2C0F-4404-8781-9174E650C48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01321-3EA1-4772-8E51-CC52C2EE089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41F3B-F41D-4696-B5EC-533CC9F55E2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9A0C4-1C88-4362-B623-43C3E353BF9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A9980-F340-412E-A060-CC2795278E2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5232C-80BC-41F6-A3A2-1B0EB5DD733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592CD-E3EC-4FEC-BDCC-2A93DC13213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7" name="AutoShape 1"/>
          <p:cNvSpPr/>
          <p:nvPr/>
        </p:nvSpPr>
        <p:spPr>
          <a:xfrm>
            <a:off x="324000" y="1484280"/>
            <a:ext cx="864540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950e"/>
                </a:solidFill>
                <a:latin typeface="Arial"/>
              </a:rPr>
              <a:t>COOPERATION WITH OTHER ADMINISTRATIONS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d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d300"/>
                </a:solidFill>
                <a:latin typeface="Arial"/>
              </a:rPr>
              <a:t>Tax administra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lbertus MT"/>
              </a:rPr>
              <a:t>–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otification about cases which are in breach of fiscal obligations (including non-payment of taxes due).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d300"/>
                </a:solidFill>
                <a:latin typeface="Arial"/>
              </a:rPr>
              <a:t>The Police, the Public Prosecutor, the registration authori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lbertus MT"/>
              </a:rPr>
              <a:t>–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otification of work being carried out illegally by a company on Polish territory (for example failure to register as a sole trader or on the register of companies (KRS)).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75D4A-EC79-42C8-9CC8-EB2D0DFD53B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87BC6-C531-4A76-91B3-FFE6FFABFB9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F6213-B919-413D-8286-BE1CFEB77F2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29C56-B261-4CCD-8CEA-1959DAFD3F0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AD1BB-5AC8-4ED4-9141-96453B15235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0A23D-70EF-42C0-967D-D745A5A7B0F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E17F7-8926-4533-AA2A-DC357BE12BD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81D3C-B3FE-40CA-AFDC-B5C04C1F740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26844-1F41-4E7A-8F96-AD55CDCAE0C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9E4C1-9AB7-44F9-805C-2A66708EF0B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7FCC0-6F73-4184-8122-65576AB0F42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93384-5815-459A-882E-22E6C7C0DEA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DCD9D-9FD0-4D8C-8E87-F438ED9B1C6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1C543-8F67-4C58-BF64-8F62A7F51B1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50A98-D8F4-4A4B-A814-BAE9409B713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9CF61-D9F8-4E0B-B606-8A29C352D71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100BA-BD40-495C-B531-5D81A9642B71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D48EB-E2D9-40CC-8883-CE323EF8006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8" name="AutoShape 1"/>
          <p:cNvSpPr/>
          <p:nvPr/>
        </p:nvSpPr>
        <p:spPr>
          <a:xfrm>
            <a:off x="324000" y="1484280"/>
            <a:ext cx="864540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950e"/>
                </a:solidFill>
                <a:latin typeface="Arial"/>
              </a:rPr>
              <a:t>COOPERATION WITH OTHER ADMINISTRATIONS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d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3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d300"/>
                </a:solidFill>
                <a:latin typeface="Arial"/>
              </a:rPr>
              <a:t>The registration author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btaining information about the inspected company's current address (if no business activity is being carried out at the address given in the information request).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608DA-F0DC-47DD-B440-6B1C370190C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7552D-F6E3-4F93-AAC4-3CA42A37AAF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BCD75-CE38-4691-918A-485A9AA04631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141A3-98DE-4499-A143-60F311F422D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C581C-ACF5-4611-8ABA-75C2BECD9AC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ED751-4377-4C29-BFB3-36939A6C69F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003F9-A737-451D-BD80-F869A539B08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E58E2-2D86-4445-B16A-20508272BBC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9ABB3-0790-4AB9-AF58-F5F863C4787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439A3-9834-4A22-A929-BD9091D6E11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CEA83-9359-41D0-B4B3-A86C8AC23AF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1BB30-AB44-48B3-B9A7-521FEDA2C58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29A8C-5351-4DA8-A48B-877AEB89FC9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92223-8144-4587-BFD9-DE0D5D4CA94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66ED9-1476-4699-A499-08BEC87C8F9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94E01-A78D-482D-B601-B2AFA76793A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2B6B3-F494-433B-8908-5D494A9177A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7C2ED-56E8-4039-B00E-448E4E8DEB4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9" name="AutoShape 1"/>
          <p:cNvSpPr/>
          <p:nvPr/>
        </p:nvSpPr>
        <p:spPr>
          <a:xfrm>
            <a:off x="324000" y="1484280"/>
            <a:ext cx="8645400" cy="403236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950e"/>
                </a:solidFill>
                <a:latin typeface="Arial"/>
              </a:rPr>
              <a:t>COOPERATION WITH OTHER ADMINISTRATIONS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d3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d3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 2010, PIP bodies cooperated with: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-44460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d300"/>
                </a:solidFill>
                <a:latin typeface="Arial"/>
              </a:rPr>
              <a:t>ZU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ffd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 the following areas: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certifying E-101/A1 forms, 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deciding which law applies in matters relating to social security,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checking the regularity of national insurance contribution calculations;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-44460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d300"/>
                </a:solidFill>
                <a:latin typeface="Arial"/>
              </a:rPr>
              <a:t>registration authorities: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obtaining information about inspected companies, including matters relating to the addresses at which their business is carried out;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-44460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d300"/>
                </a:solidFill>
                <a:latin typeface="Arial"/>
              </a:rPr>
              <a:t>the Police: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requesting a control of the legality of an employer's activity on Polish territory;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-44460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d300"/>
                </a:solidFill>
                <a:latin typeface="Arial"/>
              </a:rPr>
              <a:t>the Fiscal administration: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transmitting information about the way in which temporary workers' salaries are calculated (if all taxes have not been deducted at source).  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26F64-ED67-4217-8DD4-C2FDDD18CD2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50481-8284-4ECC-977A-D5FCDC4B12E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3D12E-1DA3-4E48-BD62-6529C7C735D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24EA2-FA18-471C-A7CC-96CBD6A2658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ABF9C-9F45-4FF4-B4E4-21B48C2D247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38AE6-02DB-4E41-86BE-E44EE2B87D4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5C043-F5E6-4FF5-A337-DC2589D5EBA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23B59-05D8-445B-9568-AEC4C16194D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36D2B-CB29-4C52-AC1E-7EB2B1509FD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5C19A-AEAE-42C2-AEFB-62953C29700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92E58-897E-48FE-9F07-2DE705A6E5A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2DE14-DF1C-4B97-AA7D-DB8FF7D8724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084B3-DFE3-4114-8FB2-6C82E7DB6F2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5B9E1-F3F1-4B03-88AA-F6E325A6511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4BE1F-B267-4EF9-9964-8ECC3C438E9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2F67D-DDC7-430F-84F7-56DD5957D7E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3B3C0-F144-40D5-9519-0A18D151F71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B73E0-54E7-4A0C-8FAC-C6BDBECE18A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91960-4B99-4464-8552-6EBF3BA07C9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C57F4-DD33-4044-A919-8B16A405F99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54A82-6D86-487E-A075-ECC792ED3C3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3F810-D612-427E-A13C-62BBE25ADDE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68737-6DB7-4D46-B361-90AA0797880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17408-CF27-44BC-8A99-539BF868687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3F89E-1BCE-41F2-AD0B-1C821E3CD05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85DBA-2004-4212-9E94-39086A99CBE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95091-AF3E-4220-B593-1F9421C8F69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D4A10-349E-44B8-B33D-94739691053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950e"/>
                </a:solidFill>
                <a:latin typeface="Arial"/>
              </a:rPr>
              <a:t>THE STATUS OF SECONDMENT 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104760" y="2163600"/>
            <a:ext cx="8356680" cy="3581640"/>
          </a:xfrm>
          <a:prstGeom prst="roundRect">
            <a:avLst>
              <a:gd name="adj" fmla="val 16690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olume of secondment – </a:t>
            </a:r>
            <a:r>
              <a:rPr b="1" lang="en-US" sz="3000" spc="-1" strike="noStrike">
                <a:solidFill>
                  <a:srgbClr val="ffd300"/>
                </a:solidFill>
                <a:latin typeface="Arial"/>
              </a:rPr>
              <a:t>trend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3000" spc="-1" strike="noStrike">
              <a:solidFill>
                <a:srgbClr val="ffd300"/>
              </a:solidFill>
              <a:latin typeface="Arial"/>
            </a:endParaRPr>
          </a:p>
          <a:p>
            <a:pPr marL="355680" indent="-355680"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years: 2005-2007 - an increase</a:t>
            </a:r>
            <a:endParaRPr b="1" lang="en-US" sz="3000" spc="-1" strike="noStrike">
              <a:solidFill>
                <a:srgbClr val="ffd300"/>
              </a:solidFill>
              <a:latin typeface="Arial"/>
            </a:endParaRPr>
          </a:p>
          <a:p>
            <a:pPr marL="355680" indent="-355680"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years: 2008-2009 - a decrease</a:t>
            </a:r>
            <a:endParaRPr b="1" lang="en-US" sz="3000" spc="-1" strike="noStrike">
              <a:solidFill>
                <a:srgbClr val="ffd300"/>
              </a:solidFill>
              <a:latin typeface="Arial"/>
            </a:endParaRPr>
          </a:p>
          <a:p>
            <a:pPr marL="355680" indent="-355680"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quarter 2010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a return to 2007 and 2008 levels </a:t>
            </a:r>
            <a:endParaRPr b="1" lang="en-US" sz="3000" spc="-1" strike="noStrike">
              <a:solidFill>
                <a:srgbClr val="ffd3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 based on the number of E101 forms approved by the Polish Social Security organisation (ZUS) from the Ministry of Labour and Social Policy report.</a:t>
            </a:r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34640" cy="8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950e"/>
                </a:solidFill>
                <a:latin typeface="Arial"/>
              </a:rPr>
              <a:t>ADMINISTRATIVE COOPERATION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67920" y="1718640"/>
            <a:ext cx="8408160" cy="437472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round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mber States must organise cooperation between administrations which, in compliance with national legislation, are responsible for monitoring the working and employment conditions referred to in Article 3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cooperation ensures in particular that the administrations provide information about: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) provision of workers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) evidence of abuse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) cases of alleged illegal transnational activities.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rt. 4, Para. 2 of Directive 96/71/EC </a:t>
            </a: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950e"/>
                </a:solidFill>
                <a:latin typeface="Arial"/>
              </a:rPr>
              <a:t>ADMINISTRATIVE COOPERATION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67560" y="1674000"/>
            <a:ext cx="8130600" cy="437436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round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ery Member State must take the appropriate measures to ensure that information about the working conditions referred to in Article 3 are available for general consultation. </a:t>
            </a:r>
            <a:endParaRPr b="1" lang="en-US" sz="32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rt. 4, Para. 3 of Directive 96/71/EC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D3789-EC1F-4031-9B8C-FB718D40C3E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E76ED-DAAC-4596-8F1E-7E655761337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BED43-C14E-45C8-AB72-84E704497F6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6A3D3-C421-4A64-B0E9-FAD90CAE0E3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21F5E-3E24-4D0D-83E9-7558C977EE6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699DD-AC19-4126-8CF6-A33BD279D3C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44BA1-68F2-4519-99C6-57F1E1294C4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879CC-5062-4264-B639-A127339D982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32A8E-24B4-4FE5-A7AB-795C5E7F18C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5B4A2-F668-421A-BC23-095E1622712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671A8-3983-4F5A-8A23-31C51AB71AF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522BD-27E2-439F-9D60-ED4AFE67A5B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2A002-6139-4991-880B-825EB35E9BD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AC457-92A8-41A6-BB68-0907F43AC63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374DC-4D5D-4CF9-9411-B07C6CC41A8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7F65F-65CE-451A-88CD-7D1B6EBBED61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74319-4213-4CC2-B9EB-BDEC4BF788A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BA5F0-EECA-4FF0-8A2C-D4C8539247C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C05CB-7E5A-4E72-AB30-92B58A7A58D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A5AED-21A6-44A8-8777-709D333E8C3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B9B3D-4145-475B-9E67-15C0117926F1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C4EE4-83DB-4EB8-9B00-46047DE09D1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E4722-8563-438E-B0AD-77D3950D7BD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8EEB0-66C9-445A-9AD7-D6BFFF603D9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9E9EA-74BA-4979-A972-879A6AD95681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B305C-734C-4DF7-A2F0-AE3E535B525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D1F74-7479-4DCA-8CD3-77C9A729484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7EE51-F056-43A6-B116-6BD89774685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91346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HE NATIONAL LABOUR INSPECTORATE (PIP) AS LIAISON OFFICE</a:t>
            </a: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404640" y="2109240"/>
            <a:ext cx="8412480" cy="2860560"/>
          </a:xfrm>
          <a:prstGeom prst="roundRect">
            <a:avLst>
              <a:gd name="adj" fmla="val 8685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IMS:</a:t>
            </a:r>
            <a:endParaRPr b="1" lang="en-US" sz="28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exchange information about secondment of workers with other Member States' liaison offices.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send information to foreign liaison offices about any irregularities reported in Polish workers' complaints, including seconded workers.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27137-07D5-4CF8-99E7-CE15C1F4B60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77F5D-6996-4F36-B32F-D2B9D38AAA2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3C0CB-8AAE-4ABF-893C-5F204DAF342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AF886-9A73-4ADD-BD0B-7B40100F82E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73A8F-A86B-4C48-AC12-6939D983299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F5766-7639-41FB-8601-21E7B2A98F9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E2BFC-C120-45D7-B008-803C1B14732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A9354-C808-498E-9707-2E9B3AD170D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17CCB-319C-40E8-AE29-634F2683E1F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5E64C-8481-4C2B-90FD-5D41CA7BD04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EF993-06A9-4425-9185-5508C878ED7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B3531-84BE-4157-9E9F-777B0FFE878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49FE3-3116-4183-B20D-F15D0D29BBB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64DF2-84E2-4C9B-AF92-98A5F8ECF91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F99DA-BF75-44E6-A8EC-76A4E140F25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E74DE-5890-440F-A769-E334378C4A1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AE8CF-5A0F-47AB-9DB3-353AD804E4C1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C328D-2F3B-49AE-A3AD-46E9B495F46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2075F-4820-4B42-BD39-C8B528B53B0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015CD-AC70-4813-AC51-07657ABDB11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26ABC-FA55-46B1-BF89-6670FB0A373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73BE7-4450-4864-9ADC-EB97CFC966F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53447-A80C-4FA0-B19E-D072432DAC7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B1F51-7939-4B80-A203-849367BDF5E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7CA81-35F1-4E3C-8C97-3AB4067C1F2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BD425-BCCE-4F29-B9D6-ADD6EC8AC56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17A91-561F-499D-B144-B7C6B98B44F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14C08-6C46-4369-8CEC-DB899949930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0" y="0"/>
            <a:ext cx="91346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HE NATIONAL LABOUR INSPECTORATE (PIP) AS LIAISON OFFICE</a:t>
            </a: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307800" y="2021760"/>
            <a:ext cx="8455320" cy="2924280"/>
          </a:xfrm>
          <a:prstGeom prst="roundRect">
            <a:avLst>
              <a:gd name="adj" fmla="val 8685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IM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continued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cooperate with Polish authorities, administrations and institutions. 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provide information about minimum working conditions with reference to Polish law, upon written request from the interested party.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E55BB-477F-48D8-BE61-8885B5A21DD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6862D-DC82-4E41-96C0-5928CE8269A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2836B-278A-4C7A-AB99-801217C78F4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5A41F-8744-47D8-B5E4-1BF39B4E43C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6B43E-12DE-412F-8F90-572DBAAE394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7DE49-3B2F-4E8B-AB32-40B4137A9D7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EB8AA-99E9-4662-AFFA-2E42ABAA4F3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F57A0-745D-46F5-A52A-4D179CC0943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107DC-5789-44B9-83CC-B536BB7778D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70956-906B-4CDC-8C69-8F15B75EFCE1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E0CE3-2CAF-4B3B-9BE1-059ED030BA1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33FE9-E80B-4CD0-898C-8A8D42B6279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8C4D9-0B9F-4861-B7F8-C0A169BC6FF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4FFB8-CEA5-46D1-8461-A249B339940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0A6FA-64A8-49A6-A3F9-D28783B6E63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205D2-7A90-4966-9BCC-06BD3EF1F2D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1B4CD-AE03-450C-8A74-8447796044A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1D6B6-97A2-47B4-8F9A-A8D4EC4CAD9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9774B-0936-483F-A019-EAE03952D14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25272-B004-4659-971D-633626E41DA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A5FC3-E900-4CD1-99CB-BB4DB09176F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D125E-7D60-4B40-B5AE-938ADAC0C38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B7558-997A-4365-8E48-CD4864F811A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DC1F9-5DB1-4EEC-994C-69086EF0610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6F0F0-5F6E-4BB0-97A6-B457A1AB19F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9B918-06CB-4628-A02E-42CA32C3CE0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85D73-C500-4B52-B138-761DC7AF17F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45DCD-D306-4D03-A1DA-0C5DD81A199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0" y="0"/>
            <a:ext cx="91346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HE NATIONAL LABOUR INSPECTORATE (PIP) AS LIAISON OFFICE  </a:t>
            </a: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254160" y="907920"/>
            <a:ext cx="8564400" cy="5559120"/>
          </a:xfrm>
          <a:prstGeom prst="roundRect">
            <a:avLst>
              <a:gd name="adj" fmla="val 8685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ational Labour Inspectorate is responsible for cooperating with European Union and European Economic Area Member State administrations in charge of monitoring working and employment conditions, and in particular: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providing information about the working conditions of employees who are seconded for a fixed duration by an employer with its head office in Poland to a country which is a Member State of the European Union/European Economic Area,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providing information about any infringements of the rights of workers who are seconded to Polish territory for a fixed duration by an employer with its head office in a Member State of the European Union or European Economic Area.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indicating which is the relevant labour market monitoring authority that will provide the requested information in the area concerned.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DD05C-B5DB-43EF-BC59-5FEEF0433F9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3B2A8-186E-4D18-B560-1DAC46F8D33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B6DFB-3D3D-433F-85FA-06435878785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439EA-02BA-415B-B071-CFB3538D541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6A587-9E96-4A62-9936-CB657606E41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9C8B2-9D3C-4521-9F93-C5FA80F82B6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BC6C1-FAB5-41B4-8EFD-D35744530C7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610CF-AECF-481F-B7B5-78247440B2B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83181-1E6B-4731-ADA8-3FDE52A3464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18438-F85E-402A-B513-EAA2E4A8246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32C70-C8ED-4DD1-A30E-06803AC84F1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3EAF8-81F9-40CE-869B-E3994145E02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C2978-766B-4571-ABE6-AEE634EB98D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3C96F-6468-40DF-9944-42280398317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94BA7-039B-41DB-820F-CF9D49FDE4A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40E16-9377-43F9-884C-EC1C1C4F039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08FA4-55A8-416E-BB48-5414F89A633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8E330-DC1A-4FD3-920F-9B5BC071390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pic>
        <p:nvPicPr>
          <p:cNvPr id="213" name="Picture 2" descr="mapka"/>
          <p:cNvPicPr/>
          <p:nvPr/>
        </p:nvPicPr>
        <p:blipFill>
          <a:blip r:embed="rId2"/>
          <a:stretch/>
        </p:blipFill>
        <p:spPr>
          <a:xfrm>
            <a:off x="5219640" y="2635200"/>
            <a:ext cx="3384720" cy="3229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logo%2520U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2274840"/>
            <a:ext cx="900000" cy="59544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215" name="Text Box 4"/>
          <p:cNvSpPr/>
          <p:nvPr/>
        </p:nvSpPr>
        <p:spPr>
          <a:xfrm>
            <a:off x="1476360" y="2114640"/>
            <a:ext cx="2158920" cy="37818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eneral Labour Inspectorate (GIP)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3924360" y="2131920"/>
            <a:ext cx="2016000" cy="1008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abour Inspection Agency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6372360" y="2492280"/>
            <a:ext cx="1944720" cy="45972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spection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924360" y="3500280"/>
            <a:ext cx="2016000" cy="1008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abour Inspection Agency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3924360" y="4881600"/>
            <a:ext cx="2016000" cy="1008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abour Inspection Agency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6804000" y="3859200"/>
            <a:ext cx="1944720" cy="45972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spection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6443640" y="5011560"/>
            <a:ext cx="1944720" cy="45972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spection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 rot="10800000">
            <a:off x="3347640" y="2781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3" name="AutoShape 12"/>
          <p:cNvSpPr/>
          <p:nvPr/>
        </p:nvSpPr>
        <p:spPr>
          <a:xfrm rot="10800000">
            <a:off x="3347640" y="414936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4" name="AutoShape 13"/>
          <p:cNvSpPr/>
          <p:nvPr/>
        </p:nvSpPr>
        <p:spPr>
          <a:xfrm rot="10800000">
            <a:off x="3347640" y="551628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5" name="AutoShape 14"/>
          <p:cNvSpPr/>
          <p:nvPr/>
        </p:nvSpPr>
        <p:spPr>
          <a:xfrm>
            <a:off x="3419640" y="2274840"/>
            <a:ext cx="793440" cy="360360"/>
          </a:xfrm>
          <a:prstGeom prst="rightArrow">
            <a:avLst>
              <a:gd name="adj1" fmla="val 50000"/>
              <a:gd name="adj2" fmla="val 5504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6" name="AutoShape 15"/>
          <p:cNvSpPr/>
          <p:nvPr/>
        </p:nvSpPr>
        <p:spPr>
          <a:xfrm>
            <a:off x="3419640" y="3571920"/>
            <a:ext cx="793440" cy="360360"/>
          </a:xfrm>
          <a:prstGeom prst="rightArrow">
            <a:avLst>
              <a:gd name="adj1" fmla="val 50000"/>
              <a:gd name="adj2" fmla="val 5504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7" name="AutoShape 16"/>
          <p:cNvSpPr/>
          <p:nvPr/>
        </p:nvSpPr>
        <p:spPr>
          <a:xfrm>
            <a:off x="3419640" y="4940280"/>
            <a:ext cx="793440" cy="360360"/>
          </a:xfrm>
          <a:prstGeom prst="rightArrow">
            <a:avLst>
              <a:gd name="adj1" fmla="val 50000"/>
              <a:gd name="adj2" fmla="val 5504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8" name="AutoShape 17"/>
          <p:cNvSpPr/>
          <p:nvPr/>
        </p:nvSpPr>
        <p:spPr>
          <a:xfrm>
            <a:off x="5796000" y="2563920"/>
            <a:ext cx="720720" cy="358560"/>
          </a:xfrm>
          <a:custGeom>
            <a:avLst/>
            <a:gdLst>
              <a:gd name="textAreaLeft" fmla="*/ 112320 w 720720"/>
              <a:gd name="textAreaRight" fmla="*/ 630720 w 72072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9" name="AutoShape 18"/>
          <p:cNvSpPr/>
          <p:nvPr/>
        </p:nvSpPr>
        <p:spPr>
          <a:xfrm>
            <a:off x="5867280" y="5011560"/>
            <a:ext cx="720720" cy="358920"/>
          </a:xfrm>
          <a:custGeom>
            <a:avLst/>
            <a:gdLst>
              <a:gd name="textAreaLeft" fmla="*/ 112320 w 720720"/>
              <a:gd name="textAreaRight" fmla="*/ 630720 w 7207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0" name="AutoShape 19"/>
          <p:cNvSpPr/>
          <p:nvPr/>
        </p:nvSpPr>
        <p:spPr>
          <a:xfrm>
            <a:off x="6227640" y="3932280"/>
            <a:ext cx="720720" cy="358560"/>
          </a:xfrm>
          <a:custGeom>
            <a:avLst/>
            <a:gdLst>
              <a:gd name="textAreaLeft" fmla="*/ 112320 w 720720"/>
              <a:gd name="textAreaRight" fmla="*/ 630720 w 72072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1" name="AutoShape 20"/>
          <p:cNvSpPr/>
          <p:nvPr/>
        </p:nvSpPr>
        <p:spPr>
          <a:xfrm>
            <a:off x="611280" y="2995560"/>
            <a:ext cx="793800" cy="360360"/>
          </a:xfrm>
          <a:prstGeom prst="rightArrow">
            <a:avLst>
              <a:gd name="adj1" fmla="val 50000"/>
              <a:gd name="adj2" fmla="val 550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2" name="AutoShape 21"/>
          <p:cNvSpPr/>
          <p:nvPr/>
        </p:nvSpPr>
        <p:spPr>
          <a:xfrm rot="10800000">
            <a:off x="826560" y="32112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3" name="AutoShape 22"/>
          <p:cNvSpPr/>
          <p:nvPr/>
        </p:nvSpPr>
        <p:spPr>
          <a:xfrm>
            <a:off x="611280" y="3859200"/>
            <a:ext cx="793800" cy="360360"/>
          </a:xfrm>
          <a:prstGeom prst="rightArrow">
            <a:avLst>
              <a:gd name="adj1" fmla="val 50000"/>
              <a:gd name="adj2" fmla="val 550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4" name="AutoShape 23"/>
          <p:cNvSpPr/>
          <p:nvPr/>
        </p:nvSpPr>
        <p:spPr>
          <a:xfrm rot="10800000">
            <a:off x="826560" y="407484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684360" y="4724280"/>
            <a:ext cx="793440" cy="360360"/>
          </a:xfrm>
          <a:prstGeom prst="rightArrow">
            <a:avLst>
              <a:gd name="adj1" fmla="val 50000"/>
              <a:gd name="adj2" fmla="val 5504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6" name="AutoShape 25"/>
          <p:cNvSpPr/>
          <p:nvPr/>
        </p:nvSpPr>
        <p:spPr>
          <a:xfrm rot="10800000">
            <a:off x="899640" y="493992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7" name="Text Box 26"/>
          <p:cNvSpPr/>
          <p:nvPr/>
        </p:nvSpPr>
        <p:spPr>
          <a:xfrm>
            <a:off x="468360" y="1268280"/>
            <a:ext cx="82803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 weeks for providing a reply (cooperation standards)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8" name="Rectangle 27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OW THE LIAISON OFFICE ACHIEVES ITS AIMS</a:t>
            </a:r>
            <a:endParaRPr b="1" lang="en-US" sz="28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03FC2-3D69-4C49-BE1F-6FDAC835629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7F392-DDC9-4D3C-8064-CEFCA72736E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09EF8-FBD3-4145-BEFD-BD3FCB1994C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65DCB-DD97-47F4-9FD1-E10570A75D2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51F8C-B1C3-442A-A399-EB179229AC9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6B067-76DF-441E-9E14-F45D3A8951F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79603-A8B6-4685-BE6F-14383CDC1AC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DEC86-EAF9-417D-B813-56F02B21E4D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F46C7-DC43-4859-A0A3-9F66A5CA98A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D8FEA-D5BE-4842-922B-5D8482FD504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4D96D-9B4C-48AD-8B96-7C6320A0E67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4879D-241C-4B22-B1C8-E8D506B2D4D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AF35A-C950-45F7-9F6E-CD13C2A51C2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F0AA3-9C66-4CF3-B7DE-DC06F48DFA31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BDF23-DA38-4677-B890-7FA47356D43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16EA2-B21C-4E17-B42C-DE16F177A03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1BFF1-6010-4A6C-BEEA-4B50E9B4129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60233-4043-4932-80FC-9BBEEAD36301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7" name="AutoShape 1"/>
          <p:cNvSpPr/>
          <p:nvPr/>
        </p:nvSpPr>
        <p:spPr>
          <a:xfrm>
            <a:off x="900000" y="2349360"/>
            <a:ext cx="3024360" cy="2880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19080" y="9216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OW THE LIAISON OFFICE ACHIEVES ITS AIMS</a:t>
            </a:r>
            <a:r>
              <a:rPr b="1" lang="en-US" sz="3200" spc="-1" strike="noStrike">
                <a:solidFill>
                  <a:srgbClr val="ff950e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84360" y="1628640"/>
            <a:ext cx="774036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33320" indent="-276120">
              <a:lnSpc>
                <a:spcPct val="108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Languages used for correspondence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English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German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French 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Spanish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Italian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  <p:pic>
        <p:nvPicPr>
          <p:cNvPr id="261" name="Picture 6" descr="wspolpraca"/>
          <p:cNvPicPr/>
          <p:nvPr/>
        </p:nvPicPr>
        <p:blipFill>
          <a:blip r:embed="rId7"/>
          <a:stretch/>
        </p:blipFill>
        <p:spPr>
          <a:xfrm>
            <a:off x="6012000" y="4005360"/>
            <a:ext cx="2449440" cy="16556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écile VITAL</cp:lastModifiedBy>
  <dcterms:modified xsi:type="dcterms:W3CDTF">2011-12-08T16:32:37Z</dcterms:modified>
  <cp:revision>387</cp:revision>
  <dc:subject/>
  <dc:title>SYTUACJA W ZAKRESIE DELEGOWANIA </dc:title>
</cp:coreProperties>
</file>