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4948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480" y="743040"/>
            <a:ext cx="49611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494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1F18181B-A4F5-4720-9851-E393B4EC86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6B478D18-B9FB-42A9-BC58-5534FCFA51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E381758D-D19A-401C-9570-64D346CA3D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3A40E252-6B87-4AC8-BAC1-0D441808B8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7927CABA-4339-421E-BC27-98AB0BF5BB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323D57F4-0A96-4715-AF11-A85F7E5996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8AC73DFF-3D0B-4F54-A897-2F09E73286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5D0935FE-88E0-4801-9901-D161BBAE5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4847EC99-3652-47EE-BA56-17119142C0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28D4E5D0-6A33-449F-8930-57EFF5FF8C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ECE25D8A-219C-48FE-8FAA-3599B9F921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4EA22BB3-21AD-4114-99E7-777E2D3756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D8059D82-20D0-4241-AD34-DD74762B6D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4D290A85-C0DD-40C9-B9CB-AF44D7844D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52144E42-442C-4A99-89C3-3FAC2B9512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0C9AEBCC-5DF5-4D02-B65C-B32AB04A0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801C85E1-ADFB-44A5-9A6B-EC547AE16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74899002-BFAC-43CE-9A84-4881110B9B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988C-9A2A-4FE0-999D-5D38BDD41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3531-9EFD-496F-A4EA-5A47D2A8E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EAF0-3CC4-4EB1-9F32-86760B374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7CB3-2DA1-431B-8A9E-5F59AFCEE9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8A1F-D7C7-4D24-8C73-23A8FC65C1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2351-5FD3-4D2A-B1A3-9F05E7E48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4A14-5A10-4BF5-94E1-7543BE075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1899-13CF-4A80-AE77-184F2BEB4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3464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58BE-D591-4678-9E2E-3E0E155C4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40EDE-BC17-431A-95E4-C034171FC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ABADF-045B-4334-B758-12A5B70C18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D666-197C-470A-A58A-22C238217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ordArt 1"/>
          <p:cNvSpPr txBox="1"/>
          <p:nvPr/>
        </p:nvSpPr>
        <p:spPr>
          <a:xfrm>
            <a:off x="108000" y="6405480"/>
            <a:ext cx="4680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ffff">
                    <a:alpha val="32000"/>
                  </a:srgbClr>
                </a:solidFill>
                <a:latin typeface="Square721 BT"/>
              </a:rPr>
              <a:t>www.pip.gov.pl</a:t>
            </a:r>
            <a:endParaRPr b="1" lang="en-US" sz="3200" spc="1" strike="noStrike">
              <a:ln w="0">
                <a:noFill/>
              </a:ln>
              <a:solidFill>
                <a:srgbClr val="ffffff">
                  <a:alpha val="32000"/>
                </a:srgbClr>
              </a:solidFill>
              <a:latin typeface="Square721 BT"/>
              <a:ea typeface="Square721 B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1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2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3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4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5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6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45928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D088AB-7588-4A2A-8507-03551857AB7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928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9E8E43-B087-4E50-9049-4B549FE674C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images.google.com/imgres?imgurl=http://www.biblioteka.lebork.pl/zdjecia/logo%20UE.jpg&amp;imgrefurl=http://www.biblioteka.lebork.pl/index.php?sid=61&amp;tid=98&amp;h=600&amp;w=900&amp;sz=27&amp;tbnid=qqqD6HQ_m2YJ:&amp;tbnh=96&amp;tbnw=145&amp;hl=pl&amp;start=1&amp;prev=/images?q=logo+ue&amp;svnum=10&amp;hl=pl&amp;lr=&amp;rls=GGLR,GGLR:2005-40,GGLR:en&amp;sa=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10317-0205-4FA2-9455-89CED43D4E5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3C2AE-3190-461A-982D-2CC4164BF58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5C6AB-BC75-48E4-B0A9-BAE3D0925EF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54397F-F3B1-42DD-AB92-F1499BFBC60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EEAE8-A57A-49F3-86AB-56EEF9EFA37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195CA-7387-4025-A1CC-276C9DDA7EF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4A806-1B82-4D6E-A8A3-ED1AC0CD327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297D3-A4D2-4D15-B373-26A01679D91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A91A39-766F-41BC-9F9A-DB5119AECB7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D9450-58DC-4241-A3EC-393F98161A6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B93F1-9738-4BFD-8A72-9D731783589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8C23E-C7DE-4284-80A9-E58BBF40C62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3D499-F47E-437B-BF24-678C381541C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34986-F5E2-4177-88C9-5E67458292B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90E96-48F0-464C-BFED-D3B13120C7C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C9FBB-6260-4F32-AC0C-310189151E5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F018A3-3B28-41E6-8E05-C2A57B56625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D3180-1510-4BB4-A20D-14330F384D5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CA38C-5701-4772-8C29-E0906223640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95C09-8704-49E6-87EA-28009D8E8D2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27DE5-3C7D-4B7E-B04F-DAC3A1DC069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6536B-71EA-4A74-80C0-30DC7FB71D8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DCEAA-C520-4C44-90A9-2B7B94F7D59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40A4E-043B-4452-9ECB-A914556FCD2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FFDBF-94D2-4D35-A909-D6F8E338E7C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2D214-387F-4D02-B2FA-DD443534598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11346-32AF-4753-A645-D8F95137030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432E9-4A61-48EE-8AD6-20E69BF0860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200" spc="-1" strike="noStrike">
                <a:solidFill>
                  <a:srgbClr val="ff950e"/>
                </a:solidFill>
                <a:latin typeface="Arial"/>
              </a:rPr>
              <a:t>SITUAÇÃO EM MATÉRIA DE DESTACAMENTO 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249120" y="678960"/>
            <a:ext cx="8510760" cy="5776200"/>
          </a:xfrm>
          <a:prstGeom prst="roundRect">
            <a:avLst>
              <a:gd name="adj" fmla="val 16690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A Polónia é um país cujos trabalhadores são </a:t>
            </a:r>
            <a:r>
              <a:rPr b="1" lang="pt-PT" sz="2600" spc="-1" strike="noStrike">
                <a:solidFill>
                  <a:srgbClr val="ffd300"/>
                </a:solidFill>
                <a:latin typeface="Arial"/>
              </a:rPr>
              <a:t>sobretudo enviados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 para outros países da UE/EEE no quadro de prestações de serviços transfronteiriças (são principalmente </a:t>
            </a:r>
            <a:r>
              <a:rPr b="1" lang="pt-PT" sz="2600" spc="-1" strike="noStrike">
                <a:solidFill>
                  <a:srgbClr val="ffd300"/>
                </a:solidFill>
                <a:latin typeface="Arial"/>
              </a:rPr>
              <a:t>empresas de países terceiros 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que destacam trabalhadores para a Polónia).</a:t>
            </a: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Encontra-se o maior número de trabalhadores destacados para o sector da construção e obras públicas em países como a </a:t>
            </a:r>
            <a:r>
              <a:rPr b="1" lang="pt-PT" sz="2600" spc="-1" strike="noStrike">
                <a:solidFill>
                  <a:srgbClr val="ffd300"/>
                </a:solidFill>
                <a:latin typeface="Arial"/>
              </a:rPr>
              <a:t>Alemanha, França, Bélgica, Países Baixos e os países escandinavos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982AE-0FF5-4CE8-863B-CCF5DB7E688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524DB-A285-478D-BBE0-DC7C507B71F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67446-F926-4493-B8A3-EA8CF6A2BDC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EAA67-5AA7-4325-9515-193CA87B628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92CCB-1255-45FE-99BB-BC206541905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9408F-71A0-44B6-931C-0C7001B42B4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957D9-EDA8-4B9E-A5D7-C5716DD49C2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A2F64-7063-4C5A-B00A-1BDFF592A68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3F034-FC60-4E14-A5A6-163BF8A78B8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3C65F-B4A6-4ACB-A4E6-9849E65CA99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44D03-76C0-4236-B849-DA00A8BB564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FAA4D-D1E2-4DC7-92E1-5A91874F0A0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0EF79-1A74-4EA3-9452-D8DEE69B9FF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54FA2-8815-406E-AE9C-82412451D0D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745CB-207C-44FC-AFE8-D3A5D54ACA6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B83A1-394F-4833-8262-AC575325349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B57F7-5160-4950-BF34-469F753BF74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22B1D-071F-4454-B59B-DDB006E939E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19080" y="9216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9900"/>
                </a:solidFill>
                <a:latin typeface="Arial"/>
              </a:rPr>
              <a:t>TROCA DE INFORMAÇÕES ENTRE A PIP </a:t>
            </a:r>
            <a:br>
              <a:rPr sz="2000"/>
            </a:br>
            <a:r>
              <a:rPr b="1" lang="pt-PT" sz="2000" spc="-1" strike="noStrike">
                <a:solidFill>
                  <a:srgbClr val="ff9900"/>
                </a:solidFill>
                <a:latin typeface="Arial"/>
              </a:rPr>
              <a:t>E AS ADMINISTRAÇÕES DOS ESTADOS-MEMBROS DA UE/EEE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468360" y="1413000"/>
            <a:ext cx="8207280" cy="4608360"/>
          </a:xfrm>
          <a:prstGeom prst="roundRect">
            <a:avLst>
              <a:gd name="adj" fmla="val 8593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755280" y="1486080"/>
            <a:ext cx="748836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erguntas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olocadas frequentemente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Inspec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Nacional do Trabalho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 empresa exerce legalmente a sua actividade no territ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 polaco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 empresa exerce uma actividade significativa no territ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 polaco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 empresa emprega trabalhadores destacados no quadro de uma rel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de trabalho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Em que sector exerce a empresa a sua actividade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8382D-C627-405B-BD07-26E64D33EC0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A5DA3-DAD8-4F51-B729-F1CD7F75602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B737A-1B42-4688-B396-E9F97D6199E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BFE69B-7B80-40E0-B52B-15E87BFB43D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BA1C2-ACF3-4F32-B72B-BE840039F6B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69D61-A595-43D8-AB59-8D93F4992BB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AC03A-8218-4BFB-9854-949EA5B4E84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E5646-55AB-4067-9725-A1B73751B6D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AC15F-A353-411A-94E2-C20FB314AEA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F869B-68A1-44C9-85E3-28B793B8A63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13B6A-20C2-485A-A872-E7D1ECBA9CC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37D89-CD06-4A42-BDE6-692BE1DEBDB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2BF8E-0C57-43D9-95B7-34E895CE01E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AAD81-6786-4B6B-9E01-5D546690396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7B1D4-9FF2-44BF-895D-AB5173F5929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76C42-FC31-4B2E-99EA-50D7B3B428E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B5DD0-2E86-4ED8-A86F-FF97CF1DC11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E28F9-6349-4BBD-8900-BF221CF4C16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1" name="AutoShape 1"/>
          <p:cNvSpPr/>
          <p:nvPr/>
        </p:nvSpPr>
        <p:spPr>
          <a:xfrm>
            <a:off x="249120" y="1341360"/>
            <a:ext cx="864576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600"/>
            </a:br>
            <a:r>
              <a:rPr b="1" lang="pt-PT" sz="2000" spc="-1" strike="noStrike">
                <a:solidFill>
                  <a:srgbClr val="ff9900"/>
                </a:solidFill>
                <a:latin typeface="Arial"/>
              </a:rPr>
              <a:t>TROCA DE INFORMAÇÕES ENTRE A PIP </a:t>
            </a:r>
            <a:br>
              <a:rPr sz="2000"/>
            </a:br>
            <a:r>
              <a:rPr b="1" lang="pt-PT" sz="2000" spc="-1" strike="noStrike">
                <a:solidFill>
                  <a:srgbClr val="ff9900"/>
                </a:solidFill>
                <a:latin typeface="Arial"/>
              </a:rPr>
              <a:t>E AS ADMINISTRAÇÕES DOS ESTADOS-MEMBROS DA UE/EEE</a:t>
            </a:r>
            <a:br>
              <a:rPr sz="2600"/>
            </a:br>
            <a:endParaRPr b="1" lang="en-US" sz="20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Perguntas colocadas frequentemente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Inspec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Nacional do Trabalho (continu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)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 empresa realiza prest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de trabalho tempor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? Se for o caso, est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inscrita no registo das entidades que possuem agências de recrutamento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4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Perguntas sobre as condi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de emprego, incluindo sobre as horas de trabalho, f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é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as pagas e montante dos sal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s pagos.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7C939-448A-4ED7-AE96-9FA5E9FC308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4653C8-5D78-40D5-8971-DBD5EEEF9A5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E2F87-EBDE-4431-996D-F34760EE32B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7D835-6387-4028-B809-EEA35A4B5E7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2F602-817A-447D-9954-73A56730BF5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C8094-880E-4297-A45B-FAE4901FA03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3C0E2-0B47-4F66-9649-CAFF18D08DF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CB944-AF78-4575-9ECF-9B984A56231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49F53-2646-417D-A2F8-5F1028D8061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C46B9-1FEE-412F-ADCD-58DFB629AD6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8FB69-D0D3-491C-8FFA-1DE5B1228C7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30D5A-0C39-45C9-A8C7-1D44A29B305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83144-52DA-478A-9902-34279E3A17E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AB2E6-CCF0-44ED-A06E-9F7D4AEEBE7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B689A-6498-41A3-AB97-8F7F86B1B5D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7DDF6-A712-452B-916E-D4DAD0E439F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1C5A4-072D-413E-BD0E-0E5C0F1911B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A7A14-FD04-476E-B731-44DDFB5F936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2" name="AutoShape 1"/>
          <p:cNvSpPr/>
          <p:nvPr/>
        </p:nvSpPr>
        <p:spPr>
          <a:xfrm>
            <a:off x="249120" y="1341360"/>
            <a:ext cx="864576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QUEIXAS RELATIVAS A TRABALHADORES DESTACADO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Problem</a:t>
            </a:r>
            <a:r>
              <a:rPr b="1" lang="pt-PT" sz="28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tica das queixas (continua</a:t>
            </a:r>
            <a:r>
              <a:rPr b="1" lang="pt-PT" sz="28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ão):</a:t>
            </a: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viol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das regras relativas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 horas de trabalho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irregularidades na manuten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do registo das horas de trabalho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incumprimento das regras de higiene e seguran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 no trabalho,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cidentes de trabalho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ondi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de alojamento dos trabalhadores polacos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BBAD3-62C6-4EC3-B783-2764F6F28A0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10DE8-D8D4-4D53-A2B4-E13CD3D090D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C9DBC-0C47-41E6-8B8B-80EBA504BD0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9AFCE-8DDA-4B8D-B921-7484E887DF9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9BC1A-7792-4619-A581-5A8937E3AF4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9FDE3-7031-4B9A-B1A5-B1F4915A7AB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9FC8A-B1B0-4A9B-B1B9-3CB06CE7B3F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14AF2-C3B0-40C9-B901-9D90203A207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EBC76-7C49-4CD5-B26B-04CFAFAFB40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FCF17-F49E-46A3-A9C2-ECA78647D6A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46F88F-F747-4857-87D6-895AC0C4549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A5768-CFFC-47B0-A281-74395C6F01F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49C5D-DC13-4774-A308-D741D60D63F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4E85AF-ABEB-4F29-8546-14772F8A3B5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41DF1-D8CB-4C99-9B8B-935E07C5920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0349F-9F21-47CF-9EC6-C5975C21E99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33B70-C24F-4DEC-8FD8-F87FDDA024D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1263A-71C2-4E93-B7F2-9F253EF43FB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3" name="AutoShape 1"/>
          <p:cNvSpPr/>
          <p:nvPr/>
        </p:nvSpPr>
        <p:spPr>
          <a:xfrm>
            <a:off x="249120" y="1197000"/>
            <a:ext cx="8645760" cy="431964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COOPERAÇÃO COM AS OUTRAS ADMINISTRAÇÕE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268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ZUS 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notific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, nomeadamente no que se refere: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26880" indent="-3268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s circunstâncias que podem ter um impacto negativo na entrega ou não do formul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 E-101/A1 (por exemplo, se a empresa não exerce qualquer actividade ou não exerce uma actividade significativa na Pol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nia)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26880" indent="-3268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 certifica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ão do formul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rio A1 para um trabalhador recrutado </a:t>
            </a:r>
            <a:br>
              <a:rPr sz="2000"/>
            </a:b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com vista ao seu destacamento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, o qual pelo menos um mês antes do seu recrutamento pelo empregador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não estava inscrito como benefici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rio da Seguran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a Social no pa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s de origem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26880" indent="-3268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utiliz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dos formul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s E-101/A1 pela empresa ou os seus trabalhadores que suscita d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ú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vidas justificadas quanto 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sua autenticidade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268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268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268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A6DF5-6611-4D32-BE09-DED8CF60CB2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CABF2-B8C9-4D92-8D7B-9317BE60AB9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21D47-B5BD-4CE6-8867-9DB906D81B3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6BDCC-76AD-40A1-AB75-E6D8CE3D9B4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4A820-615A-4B8E-A973-3D9D633F3BC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48B19-09BB-4BB7-8BD5-9826E2A5EF7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6C44A-69D6-44F5-8B88-6698BBF7973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04F1E-0E3A-4C5D-9EE5-D5255F6A501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E21AC-E516-45D1-B4DE-0571F0FB67A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FACDF-85EB-4F72-B24A-E650FF7F94F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EDEB8-641A-4FBD-B1B1-F6D1EF925C4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3FE5F-5AAC-485C-A867-A345EDACC96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51356-563F-4C72-986B-F6CF9B64CB9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8F0B7-3A72-438D-A1A1-2D3B894D24A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7F665-66CF-4E75-AA16-42BF4A060B7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98414-4BE5-42C1-AA6F-82DA0CCCE88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0C6B9-0B21-4F36-A1B5-802544DB561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0FBE9-9B55-495D-B036-BF8491722BA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4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COOPERAÇÃO COM AS OUTRAS ADMINISTRAÇÕE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ZUS (continua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ão)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notific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relativas: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os casos constatados de destacamentos noutro p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s da UE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de trabalhadores de uma empresa polaca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que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são declarados 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 Seguran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a Social na Pol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nia e não possuem um atestado (formul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rio E-101/A1)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que prove a sua qualidade de benefici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 da Seguran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 Social na Pol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nia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s constat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feitas em rel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execu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de um trabalho em proveito de uma empresa ou de um empregador polaco por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pessoas de outros pa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ses da UE não declaradas aos servi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os de seguran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a social na Pol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nia e não titulares de um atestado (formul</a:t>
            </a:r>
            <a:r>
              <a:rPr b="1" lang="pt-PT" sz="2000" spc="-1" strike="noStrike">
                <a:solidFill>
                  <a:srgbClr val="ffd300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rio E-101/ A1)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que prove a sua afili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a um regime de seguran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 social que não o regime polaco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63766-9D10-4A16-A411-1BD82440D94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0EF9D-40B4-4109-AC6E-25946B46B7B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C06C6-D8C3-41DC-A626-8A2F0F1287A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28428-AD75-4AA9-816F-55D640085F9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C37AB-AE85-4E25-AB31-2C98876693F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469FA-6B07-4F4F-97B0-0A02E658854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246E4-86E3-422D-A5C4-40DE0D9364F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7B7CF-03F5-45D9-8B93-8665C60AF1C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17905-356F-4C4B-99CC-3E22AEBE20B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00142-A254-4AC1-AE2F-AD78B311B8D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62697-5214-46D7-B873-E33A9DC6182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56C94-FA6E-47B0-8B97-B9F88DCADC0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BD09F-49AF-4893-9825-E040BF395A3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1D5151-8392-46FA-BFF1-47D386AE883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747E3-1C24-46C7-A060-EC98DD3B247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8C72F-5B33-4B3A-8E18-64BA38E488A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8AD91A-49A9-4739-9D7A-D92A5FE8FF3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AD89D-AC95-41F4-944B-556ABBAB08E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5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COOPERAÇÃO COM AS OUTRAS ADMINISTRAÇÕE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ZUS (continua</a:t>
            </a:r>
            <a:r>
              <a:rPr b="1" lang="pt-PT" sz="24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ão)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notific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relativas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lbertu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não declar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pelo empregador, apesar das suas obrig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, de trabalhadores ao regime polaco </a:t>
            </a:r>
            <a:br>
              <a:rPr sz="2400"/>
            </a:b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de seguran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 social;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o não pagamento para os trabalhadores das quotiz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da seguran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 social polaca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3E06B-5192-4155-84FC-D09253D6234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E7197-1DDF-4F93-9020-8361B1894D5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B00079-4A27-4369-88AD-3D020C1FCD6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FA631-C597-414F-8CE2-A9B672D6634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1D125-D61A-49C8-9899-E575577F682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57B75-EA2E-42D2-997E-531247F0E6B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6651B-6CE9-497D-A437-EFC1CD5953C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052C5-08DF-4A50-B3AB-076A699AFC2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EC31A-23FD-4AE4-B549-311962D3256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C5EBD-E35D-47BF-9AD2-54039613E46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032A7-1F38-4159-8A76-FB34BA7C821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C3C86-8506-462A-ABC0-43BFB2F110D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82E3C-9DC7-4906-92DF-69DE141B698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795B7-A703-46F2-ABC7-B85D027663A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9B450-953C-4365-A678-599C75D9DE9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C5DD7-9CF4-4A47-9DC2-001E6278400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40E89-4CAC-484F-9080-A313C566FBF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C6E25-D052-4C6F-9C35-046E81961AA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6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COOPERAÇÃO COM AS OUTRAS ADMINISTRAÇÕE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Administra</a:t>
            </a:r>
            <a:r>
              <a:rPr b="1" lang="pt-PT" sz="24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ão fiscal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notific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dos casos de viol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das obrig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fiscais (incluindo o não pagamento dos impostos devidos).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Pol</a:t>
            </a:r>
            <a:r>
              <a:rPr b="1" lang="pt-PT" sz="2400" spc="-1" strike="noStrike">
                <a:solidFill>
                  <a:srgbClr val="ffd300"/>
                </a:solidFill>
                <a:latin typeface="Albertus MT"/>
              </a:rPr>
              <a:t>í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cia, Minist</a:t>
            </a:r>
            <a:r>
              <a:rPr b="1" lang="pt-PT" sz="2400" spc="-1" strike="noStrike">
                <a:solidFill>
                  <a:srgbClr val="ffd300"/>
                </a:solidFill>
                <a:latin typeface="Albertus MT"/>
              </a:rPr>
              <a:t>é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rio P</a:t>
            </a:r>
            <a:r>
              <a:rPr b="1" lang="pt-PT" sz="2400" spc="-1" strike="noStrike">
                <a:solidFill>
                  <a:srgbClr val="ffd300"/>
                </a:solidFill>
                <a:latin typeface="Albertus MT"/>
              </a:rPr>
              <a:t>ú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blico, autoridade de registo 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notific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do exerc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cio de uma actividade ilegal no territ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 polaco (por exemplo, ausência de inscri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no registo das empresas individuais ou no registo das empresas KRS) por parte de uma empresa.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D1F5E-B17C-42B6-A32A-25D0BA63B55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2B15F-A6A5-4514-BC1D-DE9CECE8DB5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61F81-6F0D-41FA-9D8B-F94DEA80365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CA82A-9B73-463F-8BC5-F11A18AFAA2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4748F-FBCC-4472-8920-3D3C86C4F45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A65F96-FFE0-44C7-9F5A-B221A083690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5BC75-9C55-4192-9033-E49A42D9EEB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097D92-FDE6-4F2F-89C8-8F458AB3178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5D7BE-2817-4D0F-AF83-9CC913710EC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FD253-37A4-4B6B-9386-2B166D48125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77C55-B545-4888-A757-6624142578F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1CFD7-47B8-49DD-807F-91615DC19CB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EC0BB-FDF4-4277-AF75-23F417F07BA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04FA8-D8DE-40D5-97BD-09CA691D370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92B30-3245-4841-84E9-756C317B311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3E116-BF73-4D98-98E8-0F46C67BB90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18709-E1EC-460C-9407-B71264B3302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07A57-D22D-462F-8C28-6AFF72A51CC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7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COOPERAÇÃO COM AS OUTRAS ADMINISTRAÇÕE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d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d300"/>
                </a:solidFill>
                <a:latin typeface="Arial"/>
              </a:rPr>
              <a:t>   </a:t>
            </a:r>
            <a:r>
              <a:rPr b="1" lang="pt-PT" sz="2800" spc="-1" strike="noStrike">
                <a:solidFill>
                  <a:srgbClr val="ffd300"/>
                </a:solidFill>
                <a:latin typeface="Arial"/>
              </a:rPr>
              <a:t>Autoridade de registo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obten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de inform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sobre a morada da empresa controlada (se não for exercida qualquer actividade na morada indicada no pedido de inform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)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9A52B-3A34-43DF-8943-4DA6AF7AF94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C7E5B-E4BC-4960-8D0F-566A0C373F4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24637-55A5-4A3D-9A77-EBF8528C18D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4B739-8D00-469B-AF7A-A49917BDD4C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B0083-65A9-4D99-9439-3DBE0946BC5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831EF9-772C-436B-ADBB-16D46E62644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0E266-36EE-4580-B923-37122B1D2F0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D2083-BF20-4247-9C25-91058C66158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C394F-221B-411E-BE07-A0E45D45585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60165B-C8F6-4BDB-9843-D806CBBDBB6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11534-75EA-4C3C-941D-22B8A78C4FB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47A38-3750-4AE5-B310-D1BB0BA9543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9F254-4CFF-48C1-AE77-89BBBA40362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4C111-3140-43ED-A933-2868BFF2D69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6DE65-992F-4B47-A406-3374741A6DF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E20F5-10FD-4557-BF75-B06640963DF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6AD7F-78A2-4A61-9E41-3BAAE368690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6925A-11E5-40FD-B8D9-775F731B461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8" name="AutoShape 1"/>
          <p:cNvSpPr/>
          <p:nvPr/>
        </p:nvSpPr>
        <p:spPr>
          <a:xfrm>
            <a:off x="324000" y="1484280"/>
            <a:ext cx="8645400" cy="403236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COOPERAÇÃO COM AS OUTRAS ADMINISTRAÇÕE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1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d300"/>
                </a:solidFill>
                <a:latin typeface="Arial"/>
              </a:rPr>
              <a:t>     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Em 2010, os 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rgãos da PIP cooperaram com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-42228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d300"/>
                </a:solidFill>
                <a:latin typeface="Arial"/>
              </a:rPr>
              <a:t>o ZUS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pt-PT" sz="1600" spc="-1" strike="noStrike">
                <a:solidFill>
                  <a:srgbClr val="ffd3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nos dom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nios seguintes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- certifica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ão dos formul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rios E-101/ A1, 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 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determina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ão do direito aplic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vel no que diz respeito 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 seguran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a social,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- regulariza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ão do c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lculo das quotiza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ões de seguran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a social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-42228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d300"/>
                </a:solidFill>
                <a:latin typeface="Arial"/>
              </a:rPr>
              <a:t>as autoridades de registo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- obten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ão de informa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ões sobre as empresas controladas, incluindo no que se refere 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s moradas das suas actividades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-42228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d300"/>
                </a:solidFill>
                <a:latin typeface="Arial"/>
              </a:rPr>
              <a:t>a Pol</a:t>
            </a:r>
            <a:r>
              <a:rPr b="1" lang="pt-PT" sz="1600" spc="-1" strike="noStrike">
                <a:solidFill>
                  <a:srgbClr val="ffd300"/>
                </a:solidFill>
                <a:latin typeface="Albertus MT"/>
              </a:rPr>
              <a:t>í</a:t>
            </a:r>
            <a:r>
              <a:rPr b="1" lang="pt-PT" sz="1600" spc="-1" strike="noStrike">
                <a:solidFill>
                  <a:srgbClr val="ffd300"/>
                </a:solidFill>
                <a:latin typeface="Arial"/>
              </a:rPr>
              <a:t>cia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- pedido de verifica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ão da legalidade da actividade do empregador no territ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rio polaco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-42228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d300"/>
                </a:solidFill>
                <a:latin typeface="Arial"/>
              </a:rPr>
              <a:t>a administra</a:t>
            </a:r>
            <a:r>
              <a:rPr b="1" lang="pt-PT" sz="1600" spc="-1" strike="noStrike">
                <a:solidFill>
                  <a:srgbClr val="ffd300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d300"/>
                </a:solidFill>
                <a:latin typeface="Arial"/>
              </a:rPr>
              <a:t>ão fiscal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 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transmissão de informa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ões sobre as modalidades de c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lculo dos sal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rios dos trabalhadores tempor</a:t>
            </a:r>
            <a:r>
              <a:rPr b="1" lang="pt-PT" sz="16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1600" spc="-1" strike="noStrike">
                <a:solidFill>
                  <a:srgbClr val="ffffff"/>
                </a:solidFill>
                <a:latin typeface="Arial"/>
              </a:rPr>
              <a:t>rios (se todos os impostos não foram recebidos na fonte).  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222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51632-1863-456E-91BD-652017914A6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379E7-0808-498B-8DD6-8710346313F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4A460-44A6-467E-AB32-767D164CE10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BA41D-4AAE-4209-BE7E-A1107C21467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B96226-4365-4A2E-80D9-BE83F164088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26574-4A41-445F-9B0A-67257A4F4BC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FC6B3-37BF-438A-93C3-9ACB0522C40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37CB3-8F53-4B82-BBF2-6446685806E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0FB7C-03E4-455A-9A12-38CF6517BFF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11CC1-316D-42BA-A6BA-8B0D77EBA6E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11BF3-9A3E-44F8-B778-447315BC492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EF1D4-3C25-4AB7-99B7-6DFB9B41C20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11EEA-3CBF-4530-9382-59D5F0710C9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8E74D-F492-405D-AFFC-1FA14E7B467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35A6F-6B95-4F81-AC07-9BB945A3478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E8339F-AD88-4336-AFA2-168E9B2DFF8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38694-8CC2-4787-8D88-D9F6FA3A666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F7E62-8C77-4868-B7F8-C0271703087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7B12C-3C50-431A-85FE-1B8D9F984F4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9D2E5-A49D-4FC3-A96F-D0931555E8C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AFD36-2863-46E3-A4AB-9C570914EF2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159BF-B65C-47C5-BB15-464D8BDCC9D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680C9-4AB7-4547-8039-8601F6DF4A8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EA9A1-A0A3-48F5-8BC4-D3268F5F6C7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DEAF6-8126-4822-842D-1D02C359CEB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F6D2C-F66E-4ACB-B750-DDFF65015CF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5D80C-1688-4D84-9262-908020D0476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08FD6-38E2-4574-9B85-1DEAC66B8CE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200" spc="-1" strike="noStrike">
                <a:solidFill>
                  <a:srgbClr val="ff950e"/>
                </a:solidFill>
                <a:latin typeface="Arial"/>
              </a:rPr>
              <a:t>SITUAÇÃO EM MATÉRIA DE DESTACAMENTO 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68400" y="2179800"/>
            <a:ext cx="8353440" cy="3547440"/>
          </a:xfrm>
          <a:prstGeom prst="roundRect">
            <a:avLst>
              <a:gd name="adj" fmla="val 16690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54000" tIns="46800" bIns="46800" anchor="ctr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Dimensão do destacamento – </a:t>
            </a:r>
            <a:r>
              <a:rPr b="1" lang="pt-PT" sz="3000" spc="-1" strike="noStrike">
                <a:solidFill>
                  <a:srgbClr val="ffd300"/>
                </a:solidFill>
                <a:latin typeface="Arial"/>
              </a:rPr>
              <a:t>tendências</a:t>
            </a: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nos: 2005-2007 – aumento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nos: 2008 e 2009 – descida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pt-PT" sz="3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 trimestre de 2010 – regresso ao nível de 2007 e 2008 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Dados do relatório do Ministério do Trabalho e da Política Social com base no número de formulários E101 certificados pelo organismo polaco de segurança social (ZUS).</a:t>
            </a:r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200" spc="-1" strike="noStrike">
                <a:solidFill>
                  <a:srgbClr val="ff950e"/>
                </a:solidFill>
                <a:latin typeface="Arial"/>
              </a:rPr>
              <a:t>COOPERAÇÃO ADMINISTRATIVA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76920" y="1323000"/>
            <a:ext cx="8390160" cy="471672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 fontScale="99000"/>
          </a:bodyPr>
          <a:p>
            <a:pPr marL="263880" indent="-2638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Os Estados-membros devem organizar a cooper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entre as administr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, que, em conformidade com a legisl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nacional, são respons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veis por vigiar as condi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de trabalho e emprego visadas no artigo 3. </a:t>
            </a:r>
            <a:br>
              <a:rPr sz="2400"/>
            </a:b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Essa cooper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prevê, nomeadamente, o fornecimento de inform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por parte dessas administr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sobre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3880" indent="-2638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1) a disponibiliz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de trabalhadores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3880" indent="-2638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2) os abusos manifestos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3880" indent="-2638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3) os casos de actividades transnacionais presumidas ilegais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3880" indent="-2638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P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art. 4, par. 2 da Directiva 96/71/CE 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3880" indent="-2638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3880" indent="-2638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3880" indent="-2638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3200" spc="-1" strike="noStrike">
                <a:solidFill>
                  <a:srgbClr val="ff950e"/>
                </a:solidFill>
                <a:latin typeface="Arial"/>
              </a:rPr>
              <a:t>COOPERAÇÃO ADMINISTRATIVA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ada Estado-membro toma as medidas adequadas para que as informa</a:t>
            </a:r>
            <a:r>
              <a:rPr b="1" lang="pt-PT" sz="32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ões relativas </a:t>
            </a:r>
            <a:r>
              <a:rPr b="1" lang="pt-PT" sz="32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 condi</a:t>
            </a:r>
            <a:r>
              <a:rPr b="1" lang="pt-PT" sz="32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ões de trabalho e emprego visadas no artigo 3 estejam, de uma maneira geral, acess</a:t>
            </a:r>
            <a:r>
              <a:rPr b="1" lang="pt-PT" sz="32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veis. </a:t>
            </a:r>
            <a:endParaRPr b="1" lang="en-US" sz="32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PT" sz="2000" spc="-1" strike="noStrike">
                <a:solidFill>
                  <a:srgbClr val="ffffff"/>
                </a:solidFill>
                <a:latin typeface="Arial"/>
              </a:rPr>
              <a:t>art. 4, par. 3 da Directiva 96/71/CE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19874-4B90-42E6-8086-EDF9CE1350D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F6E3B-8567-47A8-A656-8DE986B7A05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24232-2E58-424F-9A8F-EC982091116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C78C5-0466-45D4-95B3-0A142A14D88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F5480C-8134-43A5-B8F4-9FE6A7CD3BB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20DBC-52F3-4525-A856-30C9291F8E1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42E42-F10C-4D05-8D31-DF6785BEA56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B9FDE-6A24-4186-A53D-F87754EC987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EF954-1BD3-4050-BA99-A9804860DDD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1E144-A513-4ECF-933A-28F6DCAA777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FF17D-EBD8-4C18-A4B2-A4D9A884A63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7EFAC-5154-40EE-B357-DE339EF88E9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06728-62C8-4067-AD44-6B8678D46C3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151F3-AFBF-4B91-BBFA-5EB6A9E9251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A48E8-45C7-4156-BF93-4F878C244A6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44691-32B7-4497-9104-8223C5D562B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8937F-3934-40AA-855B-F06F901313A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37AA8C-4E4F-4EE5-BE15-0A8AF7817E8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B6E20-3872-417D-A53A-801CB217C25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DF534C-013B-42FF-9345-B18D8DDD3E7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9A1B9-78D1-4F06-AB90-9BDCD563270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54854-C47B-4B05-84A8-1B2BB367AD8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43EE8-FE64-4DB2-9FED-CD65EFDDC48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712B6-1E64-4258-A5D7-86A078518AC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6EFE3-77B0-4102-A9B3-33BBDB0CC30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B4858-FD5E-4CCC-9D67-675C3FF7753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FBB8E-C485-4EBB-B78C-30CCF4B92F9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1FB6F-2A9B-4124-B8BD-FBD00AA496D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ff9900"/>
                </a:solidFill>
                <a:latin typeface="Arial"/>
              </a:rPr>
              <a:t>INSPECÇÃO NACIONAL DO TRABALHO (PIP) COMO SERVIÇO DE LIGAÇÃO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84120" y="1723320"/>
            <a:ext cx="8452080" cy="363096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MISSÕES: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Troca de informações relativas ao destacamento de trabalhadores com os serviços de ligação dos outros Estados-membros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Transmissão aos serviços de ligação estrangeiros das informações sobre as irregularidades assinaladas nas queixas dos trabalhadores polacos, incluindo dos trabalhadores destacados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3CEC8-97F9-4DC6-9459-8598F8F200F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5CAF6-6946-45C9-9980-F58C6593B1D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E1F39-146B-4B6F-87DE-F69593B65AD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9C60D-FC51-4C24-95B7-58DD3A58FEB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1DD51-D683-4D23-872C-D29CEA1C7C9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006DB-F833-4812-AFAF-E7417C782F2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9E1B0-3DCC-4375-9C47-7FF6FD7EA5F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2A595-F429-4AF2-ADB2-66C98B402F8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273BE-C4E8-4B4E-9AD5-C623FA859F4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18422-8633-41F7-BE49-EFD1EFC3308A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997F0-3589-487D-B1F5-AC9B16E9848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C5B10-790F-4AD3-8571-42F9721F27A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70DBC-9D02-4AF6-A1B0-AD8AF4BB273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6D5AF-D536-4B08-A893-CC5D2DD70F2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FBA2B-E47C-4082-9406-9CB39A7363B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90799-0ED2-4A09-805F-EBFCE44D83D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F64CC-947A-4A0F-B585-F74F360E393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2FDEB-D0A3-4CAB-A2EE-3E3F66B69C5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663F6-7712-4D0E-9EBE-5195BEC01A8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7B818-E285-4C19-B643-8F5F72CFC74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58F8C-0337-4AE7-ABCD-8A021C789FB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81034-1343-463E-9C0E-BB842FFE3AC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4D39A-E981-439C-8AF1-453BCA93C47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1E7A0-4E52-4332-A9CA-A9FDAC12017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969130-4AA2-4B05-BE55-4807AE20BD8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E54FC-B38B-4DD3-BAA1-739F8D788D3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66F1A-2EE6-4D2F-AEBA-23CFCF25416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28368-833B-466E-9AEC-E8E52F34B59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ff9900"/>
                </a:solidFill>
                <a:latin typeface="Arial"/>
              </a:rPr>
              <a:t>INSPECÇÃO NACIONAL DO TRABALHO (PIP) COMO SERVIÇO DE LIGAÇÃO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307800" y="2021760"/>
            <a:ext cx="8455320" cy="292428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MISSÕES 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(continuação)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ooperação com as autoridades, administrações e instituições polacas. 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Entrega, a pedido por escrito do interessado, de informações sobre as condições mínimas de emprego à luz do direito polaco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434A3-524C-44C3-8787-E0E0DDA7C9D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BCA3D-8353-43A2-8F93-51B7A88D2EC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34C7A-A8CE-4B67-8DA3-6ED5E21D50C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DC659-ABC8-4AB1-BDE5-0DFB9EF51C4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D3ACD-A828-4E18-B97F-80C2461099D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1BB988-2623-4689-9D51-76503AD45F0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E832B-F60C-4CA9-9483-EE3A46389F8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A24C1-DB63-4B37-8C7B-D02176B8EA6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64AB4-E5E0-47E5-8734-C5091C87EAD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0CD24F-3385-4E33-8A9B-1D693CF1B84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77694-2D84-4775-BC1C-88B451D12A6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9B1AE-ACF6-4315-9D49-3AD677982DE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CC608-C9E3-4F37-88FD-BC6FED69264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FCBB7-EA1D-49D3-BA48-5C6F432773A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80C60-F627-4533-85CD-844C779099B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A3477-4146-426C-8F63-6CEF48BFA5C8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8DABD-4717-4FAC-899C-E9B412982A9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169B1-283D-469E-8018-F50E57D36C7B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B252F-B857-442F-9227-CA23BE88820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58F18-7914-415B-95F9-49B9963A756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71370-A22C-410B-881E-6366E6ADE24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FE4E8-F357-4D8C-85D8-E15254C42EE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5BEFF-BE91-4E93-8B21-25542022507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18FB9-3014-4829-A58E-566D01EF443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28165-3DA9-4564-B051-8D2801A5D4D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07C1B-DF10-4F77-9065-76B06F96043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C847F-AD03-48F0-A087-8F4F714F183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A988D-1A14-437C-8622-217081C7022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PT" sz="3200" spc="-1" strike="noStrike">
                <a:solidFill>
                  <a:srgbClr val="ff9900"/>
                </a:solidFill>
                <a:latin typeface="Arial"/>
              </a:rPr>
              <a:t>INSPECÇÃO NACIONAL DO TRABALHO (PIP) COMO SERVIÇO DE LIGAÇÃO  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264960" y="1100880"/>
            <a:ext cx="8544240" cy="517392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 Inspecção Nacional do Trabalho tem a seu cargo a cooperação com as administrações dos Estados-membros da UE/EEE responsáveis pela vigilância das condições de trabalho e emprego, nomeadamente: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fornecer informações sobre as condições de trabalho dos assalariados destacados durante um período determinado no território de um Estado-membro da UE/EEE por um empregador sediado na Polónia,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prestar informações sobre as violações constatadas dos direitos dos trabalhadores destacados no território polaco durante um determinado período por um empregador sediado num país membro da UE/EEE,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indicar a autoridade de vigilância do mercado de trabalho competente para prestar as informações solicitadas em função do domínio em questão.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2556C-D996-46B7-BC78-B8B6ED298E0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B145C-B342-474E-8A82-7DD7C22D174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082B4-C364-4E8A-8BD7-52A4259C0BE4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ECB4C-CB0C-4C45-87EF-41BA1C59CFB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E5DAB-4114-4C3C-A7D5-7EB430638D0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A81BF-38F6-4F7E-8344-732BEECBB9A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80A81-87E3-4BDB-8145-B40DA7E5899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AF656-45CB-450D-BC9C-117488CDE66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861AF-60A7-4CF4-B2F4-DC9E2DD31DC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B1FB4-5070-4963-9B4C-E1F1E5E26F9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5F926-2C2E-4E68-9260-13270868DA6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EC43B-87F0-4BBA-BD8B-FA3B292985A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83B44-B094-4538-B36F-93217CD7AAB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57913-DA12-49DE-A6DF-91A3E3EA01BF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840A74-EBF4-4B8F-8364-65D7D8DD9B7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27E32-CECE-428F-A8EA-D90F346FDB3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A5F67-9065-4105-BB9D-2FC1615C235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E8A28-951C-44C8-BCDA-2EF1F7F8767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pic>
        <p:nvPicPr>
          <p:cNvPr id="222" name="Picture 2" descr="mapka"/>
          <p:cNvPicPr/>
          <p:nvPr/>
        </p:nvPicPr>
        <p:blipFill>
          <a:blip r:embed="rId2"/>
          <a:stretch/>
        </p:blipFill>
        <p:spPr>
          <a:xfrm>
            <a:off x="5148360" y="2635200"/>
            <a:ext cx="3384360" cy="3229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logo%2520U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274840"/>
            <a:ext cx="900000" cy="59544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224" name="Text Box 4"/>
          <p:cNvSpPr/>
          <p:nvPr/>
        </p:nvSpPr>
        <p:spPr>
          <a:xfrm>
            <a:off x="1476360" y="2131920"/>
            <a:ext cx="2158920" cy="37818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</a:rPr>
              <a:t>Inspecção-Geral do Trabalho (GIP)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3924360" y="213192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000099"/>
                </a:solidFill>
                <a:latin typeface="Arial"/>
              </a:rPr>
              <a:t>agência da Inspecção do Trabalho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300720" y="249228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</a:rPr>
              <a:t>controla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3924360" y="350028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000099"/>
                </a:solidFill>
                <a:latin typeface="Arial"/>
              </a:rPr>
              <a:t>agência da Inspecção do Trabalho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3924360" y="488160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000099"/>
                </a:solidFill>
                <a:latin typeface="Arial"/>
              </a:rPr>
              <a:t>agência da Inspecção do Trabalho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6732720" y="385920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</a:rPr>
              <a:t>controla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6372360" y="501156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000099"/>
                </a:solidFill>
                <a:latin typeface="Arial"/>
              </a:rPr>
              <a:t>controla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1" name="AutoShape 11"/>
          <p:cNvSpPr/>
          <p:nvPr/>
        </p:nvSpPr>
        <p:spPr>
          <a:xfrm rot="10800000">
            <a:off x="3347640" y="2781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 rot="10800000">
            <a:off x="3347640" y="414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3" name="AutoShape 13"/>
          <p:cNvSpPr/>
          <p:nvPr/>
        </p:nvSpPr>
        <p:spPr>
          <a:xfrm rot="10800000">
            <a:off x="3347640" y="5516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4" name="AutoShape 14"/>
          <p:cNvSpPr/>
          <p:nvPr/>
        </p:nvSpPr>
        <p:spPr>
          <a:xfrm>
            <a:off x="3419640" y="227484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5" name="AutoShape 15"/>
          <p:cNvSpPr/>
          <p:nvPr/>
        </p:nvSpPr>
        <p:spPr>
          <a:xfrm>
            <a:off x="3419640" y="357192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6" name="AutoShape 16"/>
          <p:cNvSpPr/>
          <p:nvPr/>
        </p:nvSpPr>
        <p:spPr>
          <a:xfrm>
            <a:off x="3419640" y="494028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5796000" y="2563920"/>
            <a:ext cx="720720" cy="35856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>
            <a:off x="5867280" y="5011560"/>
            <a:ext cx="720720" cy="35892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>
            <a:off x="6227640" y="3932280"/>
            <a:ext cx="720720" cy="35856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0" name="AutoShape 20"/>
          <p:cNvSpPr/>
          <p:nvPr/>
        </p:nvSpPr>
        <p:spPr>
          <a:xfrm>
            <a:off x="611280" y="2995560"/>
            <a:ext cx="793800" cy="360360"/>
          </a:xfrm>
          <a:prstGeom prst="rightArrow">
            <a:avLst>
              <a:gd name="adj1" fmla="val 50000"/>
              <a:gd name="adj2" fmla="val 550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1" name="AutoShape 21"/>
          <p:cNvSpPr/>
          <p:nvPr/>
        </p:nvSpPr>
        <p:spPr>
          <a:xfrm rot="10800000">
            <a:off x="826560" y="32112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2" name="AutoShape 22"/>
          <p:cNvSpPr/>
          <p:nvPr/>
        </p:nvSpPr>
        <p:spPr>
          <a:xfrm>
            <a:off x="611280" y="3859200"/>
            <a:ext cx="793800" cy="360360"/>
          </a:xfrm>
          <a:prstGeom prst="rightArrow">
            <a:avLst>
              <a:gd name="adj1" fmla="val 50000"/>
              <a:gd name="adj2" fmla="val 550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3" name="AutoShape 23"/>
          <p:cNvSpPr/>
          <p:nvPr/>
        </p:nvSpPr>
        <p:spPr>
          <a:xfrm rot="10800000">
            <a:off x="826560" y="40748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4" name="AutoShape 24"/>
          <p:cNvSpPr/>
          <p:nvPr/>
        </p:nvSpPr>
        <p:spPr>
          <a:xfrm>
            <a:off x="684360" y="472428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5" name="AutoShape 25"/>
          <p:cNvSpPr/>
          <p:nvPr/>
        </p:nvSpPr>
        <p:spPr>
          <a:xfrm rot="10800000">
            <a:off x="899640" y="49399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468360" y="1268280"/>
            <a:ext cx="82803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4 semanas para fornecer uma resposta (normas de cooperação)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900"/>
                </a:solidFill>
                <a:latin typeface="Arial"/>
              </a:rPr>
              <a:t>REALIZAÇÃO DAS MISSÕES DO SERVIÇO DE LIGAÇÃO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82B4E-847B-45FA-A920-0F2367CFBAE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2B8B0-9A7A-4D4D-A0D7-D3E3265135F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E46B1-4A9D-4483-83A2-12AE5068A84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AA9A1-580B-4870-AE84-0D4F1B90F5E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2701A-0F1C-4EC1-94B6-0BEDD7A792A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43131-9DA2-442F-93AB-8F07A97C403D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66EE4-6562-4FF9-93E1-5FAD00D8F6DC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5C0A5-351F-4705-B750-F3025B391B0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6C45B-2B44-4ECB-BD3E-367CD277AC71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01342-D558-48C4-8BD1-3D8F52E4E805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CD868-D9E7-4385-8DE5-8B13367D1B4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E57E6-C9DB-4248-9551-03F8FE87CCB6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D3B97-5AAF-4BC1-AC46-2D4A366434E2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70BC7-E640-4F6B-81F8-0C355BC7EA43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5B9BB-CF3D-403E-9F9A-815FD772A940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DC7A0-80E1-4BC1-86DC-B828A0800057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E4FC0-1A0A-4D48-9996-AD67F3A1E479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AAC4F-B2B2-4340-AE83-9C38297C9F8E}" type="slidenum">
              <a:rPr b="1" lang="pt-P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6" name="AutoShape 1"/>
          <p:cNvSpPr/>
          <p:nvPr/>
        </p:nvSpPr>
        <p:spPr>
          <a:xfrm>
            <a:off x="900000" y="2349360"/>
            <a:ext cx="3024360" cy="2880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19080" y="9216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9900"/>
                </a:solidFill>
                <a:latin typeface="Arial"/>
              </a:rPr>
              <a:t>REALIZAÇÃO DAS MISSÕES DO SERVIÇO DE LIGAÇÃO</a:t>
            </a: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684360" y="1628640"/>
            <a:ext cx="77403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Idiomas utilizados na correspondência: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inglês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alemão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rancês 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espanhol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italiano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pic>
        <p:nvPicPr>
          <p:cNvPr id="270" name="Picture 6" descr="wspolpraca"/>
          <p:cNvPicPr/>
          <p:nvPr/>
        </p:nvPicPr>
        <p:blipFill>
          <a:blip r:embed="rId7"/>
          <a:stretch/>
        </p:blipFill>
        <p:spPr>
          <a:xfrm>
            <a:off x="6012000" y="4005360"/>
            <a:ext cx="2449440" cy="1655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1-12-09T09:55:50Z</dcterms:modified>
  <cp:revision>377</cp:revision>
  <dc:subject/>
  <dc:title>SYTUACJA W ZAKRESIE DELEGOWANIA </dc:title>
</cp:coreProperties>
</file>