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49480" y="-3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480" y="743040"/>
            <a:ext cx="49611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950e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494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395C3800-5758-4938-BF7A-1A8233D681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1829B8F8-7583-43FB-96FB-84F866DD10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57353E63-6D1A-48CD-B6DD-6D2461C619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B4F816E7-059B-4A99-9DAF-2527DA9BAE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A2F8843D-0190-4DE3-87F5-251FC55CB5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DDF6E1A4-5DA1-441A-8F5F-98E958A7E2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4922C397-10F9-4A5D-8C9E-0985EED5B8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10034CBF-2F85-44F6-AD3F-C4FC4BAC5E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21BEFA89-F631-4C45-AC5F-22E59E74C4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4108D967-308B-4AD3-B61D-E5D8354E94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96C4FF23-6809-4AAC-8725-54A31A805C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86166230-F0AC-4F1A-B04F-2AAAB3C4B5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C4E2BD95-F283-4852-8E87-A5BC7EC6C4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DA0B4998-4B0C-4E3D-A877-E8DD6D7C60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6585A7CA-B0C5-4CFE-A836-06504FC552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01F7E92F-A8BF-44FA-98AF-83C846CC31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C1402C4C-97BC-4B07-8026-268C9B47FE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2BDD4AE4-1D81-457E-AEDA-404D7DB34A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E07D5-963B-4FD6-BF2D-A44B3DBDF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59CC-E79F-495D-934C-379440124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4EF09-FBBF-4B9C-9B60-365DA434B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2EC7-E697-4D9D-AD05-3CA2D55847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6F25-BD40-4EAF-AF3B-3DBE8305B2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05D7-15E4-4D38-9572-CD105B3A3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72C2-33DA-49B9-8E63-412D2864B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F013-B13D-4720-B58F-28AD41D0E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3464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F588-BCB9-45E7-982A-578B9B6EB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7A01-DDB5-4B5D-A247-DAA2F9DF8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A9E0-3F6B-4252-B632-47B9C7171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968E-7E3F-4C6C-B948-69EED9A36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ordArt 1"/>
          <p:cNvSpPr txBox="1"/>
          <p:nvPr/>
        </p:nvSpPr>
        <p:spPr>
          <a:xfrm>
            <a:off x="108000" y="6405480"/>
            <a:ext cx="4680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ffff">
                    <a:alpha val="32000"/>
                  </a:srgbClr>
                </a:solidFill>
                <a:latin typeface="Square721 BT"/>
              </a:rPr>
              <a:t>www.pip.gov.pl</a:t>
            </a:r>
            <a:endParaRPr b="1" lang="en-US" sz="3200" spc="1" strike="noStrike">
              <a:ln w="0">
                <a:noFill/>
              </a:ln>
              <a:solidFill>
                <a:srgbClr val="ffffff">
                  <a:alpha val="32000"/>
                </a:srgbClr>
              </a:solidFill>
              <a:latin typeface="Square721 BT"/>
              <a:ea typeface="Square721 B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95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1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2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3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4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5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6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45928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15C56D-9D35-4B25-B807-C09A4241C34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928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6E2D16-4705-4F18-9652-B7F95F82C0A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images.google.com/imgres?imgurl=http://www.biblioteka.lebork.pl/zdjecia/logo%20UE.jpg&amp;imgrefurl=http://www.biblioteka.lebork.pl/index.php?sid=61&amp;tid=98&amp;h=600&amp;w=900&amp;sz=27&amp;tbnid=qqqD6HQ_m2YJ:&amp;tbnh=96&amp;tbnw=145&amp;hl=pl&amp;start=1&amp;prev=/images?q=logo+ue&amp;svnum=10&amp;hl=pl&amp;lr=&amp;rls=GGLR,GGLR:2005-40,GGLR:en&amp;sa=N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E2B5B-6DDB-468F-808B-2EB3C56B873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E89C9-F1E5-453B-960A-B31B2FD29CF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7B9D9-77D5-48F5-BF8E-39BB33E1FBA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29998-C4EB-4A8D-8902-DCF88DA46CA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21DDA-EBAA-4FAD-B476-0605BB5A6DE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D28CE-E308-4E50-99DB-497495E1015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67043-FB20-4DA2-96BA-D1374F2682D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A1433-4934-4280-B81B-C543F2B1439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83634-8F5D-4EB0-9761-7E37E082305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B2C6C-F826-49AE-8EDC-EE9C5F1BC07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227E3-3A3B-4830-B41C-2C229C8D275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10D89-DFE7-4BD3-A6B3-38C01282993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68208-60E1-40E7-AB7C-D69D7E2E945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8C794-77ED-4ED3-B80C-BEAE1871CFD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ADD0E-4E5A-4BD1-9F6A-6CE36F5CA9B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56334-8E9A-4461-90BD-5297EE82621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E30D0-2F9E-4512-8796-575FA7C3431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0C820-C5A7-4A4F-B0DD-5C5057DADAA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D98C4-840C-420F-8601-0CEF267104A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25895-3271-46F7-9BA5-3839664199C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67046-7668-422F-9FB4-4C1DFF51CDD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AFDAA-6ECB-4EB8-A45A-21F4152032D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45F0F-F565-4D73-85A1-99E1841BFB9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DA638-8AC6-4B18-AA82-F157B8FFF4F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83FD9-1EDA-47AC-BBD3-0844B01C4A6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1A70B-F534-4B3E-9DB3-72004958E00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4DEFA-8AB8-4354-A5F9-49AAA3B4300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6603D-A8E8-4D2A-A25B-A7F6A8A4B76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3200" spc="-1" strike="noStrike">
                <a:solidFill>
                  <a:srgbClr val="ff950e"/>
                </a:solidFill>
                <a:latin typeface="Arial"/>
              </a:rPr>
              <a:t>SITUAÇÃO EM MATÉRIA DE DESTACAMENTO 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49120" y="678960"/>
            <a:ext cx="8510760" cy="5776200"/>
          </a:xfrm>
          <a:prstGeom prst="roundRect">
            <a:avLst>
              <a:gd name="adj" fmla="val 16690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A Polónia é um país cujos trabalhadores são </a:t>
            </a:r>
            <a:r>
              <a:rPr b="1" lang="pt-PT" sz="2600" spc="-1" strike="noStrike">
                <a:solidFill>
                  <a:srgbClr val="ffd300"/>
                </a:solidFill>
                <a:latin typeface="Arial"/>
              </a:rPr>
              <a:t>sobretudo enviados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 para outros países da UE/EEE no quadro de prestações de serviços transfronteiriças (são principalmente </a:t>
            </a:r>
            <a:r>
              <a:rPr b="1" lang="pt-PT" sz="2600" spc="-1" strike="noStrike">
                <a:solidFill>
                  <a:srgbClr val="ffd300"/>
                </a:solidFill>
                <a:latin typeface="Arial"/>
              </a:rPr>
              <a:t>empresas de países terceiros 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que destacam trabalhadores para a Polónia).</a:t>
            </a:r>
            <a:endParaRPr b="1" lang="en-US" sz="26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Encontra-se o maior número de trabalhadores destacados para o sector da construção e obras públicas em países como a </a:t>
            </a:r>
            <a:r>
              <a:rPr b="1" lang="pt-PT" sz="2600" spc="-1" strike="noStrike">
                <a:solidFill>
                  <a:srgbClr val="ffd300"/>
                </a:solidFill>
                <a:latin typeface="Arial"/>
              </a:rPr>
              <a:t>Alemanha, França, Bélgica, Países Baixos e os países escandinavos</a:t>
            </a: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3D0DA-0BB5-490C-943A-248337FE0C7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14019-817B-4C1F-BCEC-DEC3BB1C464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C1B8F-5021-4656-84D0-6206E944182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C8190-8B72-490F-8C1B-CB981C8E0C0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8BF84-BE42-4E78-B831-16DEA95F12D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9C879-3596-496C-865D-7D1789773D3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CCBF4-5E8C-4E5B-A995-0762998B079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78BA8-8069-43B5-815D-EE13EAE0473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FEE12-9D3B-495D-BAEF-C0B21031E68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DB3E6-1708-4D89-90BB-71717E34AA9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EC759-733D-46A0-B048-BA33D1CC57B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3A6A4-095D-416C-A5BC-80F4E41B742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96A01-007D-440A-BD7E-EF991B92DD6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5F148-6D78-407A-B59E-6806B11B1ED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02CE9-7B6C-44B9-8979-92040A454EF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775F1-17FF-45D5-9247-4307185EE0F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25F31-B13D-44C5-82AF-83FC056A3AA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ACA91-106D-478E-8AE5-CF31FEE5E87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19080" y="9216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9900"/>
                </a:solidFill>
                <a:latin typeface="Arial"/>
              </a:rPr>
              <a:t>TROCA DE INFORMAÇÕES ENTRE A PIP </a:t>
            </a:r>
            <a:br>
              <a:rPr sz="2000"/>
            </a:br>
            <a:r>
              <a:rPr b="1" lang="pt-PT" sz="2000" spc="-1" strike="noStrike">
                <a:solidFill>
                  <a:srgbClr val="ff9900"/>
                </a:solidFill>
                <a:latin typeface="Arial"/>
              </a:rPr>
              <a:t>E AS ADMINISTRAÇÕES DOS ESTADOS-MEMBROS DA UE/EEE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468360" y="1413000"/>
            <a:ext cx="8207280" cy="4608360"/>
          </a:xfrm>
          <a:prstGeom prst="roundRect">
            <a:avLst>
              <a:gd name="adj" fmla="val 8593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755280" y="1486080"/>
            <a:ext cx="748836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erguntas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colocadas frequentemente 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Inspec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Nacional do Trabalho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A empresa exerce legalmente a sua actividade no territ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o polaco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A empresa exerce uma actividade significativa no territ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o polaco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A empresa emprega trabalhadores destacados no quadro de uma rel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de trabalho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Em que sector exerce a empresa a sua actividade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F56A9-08E9-4327-B55F-3F190CC33DE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D1B6A-1537-441B-A1EC-004440245A2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CE10B-E805-4F02-BED6-C1D9F86EE49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1E30E-A17B-49CE-8D0C-129896B770C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E6204-50DC-4D9D-80A7-3FD9280974C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3FA8C-3844-47CD-87EB-5F5D906278E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D088E-A5EB-4506-B8A6-2D247CA29C8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1960D-101A-40A5-B391-6DABA57C577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72ECC-9CDF-4655-97A8-68688872DB9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92A68-226C-4C40-B294-58A1C0808AC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4B87B-86A0-43FD-AE99-9BEBBCB294A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C942C-15E8-45E5-8E0A-3A780930B5B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36F2F-0BD4-4C9E-BA77-1F13DCD2EBF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2FE72-EEC7-41C6-9F12-D6FA3575E24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C9290-ACEF-4CF2-A80C-A3EA7890571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CEE4F-1325-4080-BAAA-6683F845F7B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D4A76-C76C-452C-BB26-A8899B691A6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67E72-BFFA-4F7F-BE5A-761EAB8BB1D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1" name="AutoShape 1"/>
          <p:cNvSpPr/>
          <p:nvPr/>
        </p:nvSpPr>
        <p:spPr>
          <a:xfrm>
            <a:off x="249120" y="1341360"/>
            <a:ext cx="864576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600"/>
            </a:br>
            <a:r>
              <a:rPr b="1" lang="pt-PT" sz="2000" spc="-1" strike="noStrike">
                <a:solidFill>
                  <a:srgbClr val="ff9900"/>
                </a:solidFill>
                <a:latin typeface="Arial"/>
              </a:rPr>
              <a:t>TROCA DE INFORMAÇÕES ENTRE A PIP </a:t>
            </a:r>
            <a:br>
              <a:rPr sz="2000"/>
            </a:br>
            <a:r>
              <a:rPr b="1" lang="pt-PT" sz="2000" spc="-1" strike="noStrike">
                <a:solidFill>
                  <a:srgbClr val="ff9900"/>
                </a:solidFill>
                <a:latin typeface="Arial"/>
              </a:rPr>
              <a:t>E AS ADMINISTRAÇÕES DOS ESTADOS-MEMBROS DA UE/EEE</a:t>
            </a:r>
            <a:br>
              <a:rPr sz="2600"/>
            </a:br>
            <a:endParaRPr b="1" lang="en-US" sz="20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erguntas colocadas frequentemente 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Inspec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Nacional do Trabalho (continu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)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A empresa realiza prest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ões de trabalho tempor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o? Se for o caso, est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inscrita no registo das entidades que possuem agências de recrutamento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94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Perguntas sobre as condi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ões de emprego, incluindo sobre as horas de trabalho, f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é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as pagas e montante dos sal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os pagos.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6C9BF-FCD2-4964-B19E-F753159989D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C9387-111D-4202-8A7D-7CE42BA9114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E1AAB-DF10-471E-BF0C-33EA4C1BA5E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B4DDC-1CCD-43AA-8DD1-7F379528054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64C79-C15B-430A-817D-AE003003D3D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DCB38-564B-4EC3-A31B-9F04AAFBF42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04E62-8B8A-4F0C-B86B-A97893A40DE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F6D54-12CB-41C6-8034-2C72F9BAF17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7583F-3121-4615-B9F8-8572DD08089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0024C-7792-486D-87DD-FD91FEAB11A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0C36A-A920-4845-9181-550E518221C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EC2C8-C740-465A-8FEC-CCD4475CF47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DB44C-9B45-4DC5-BFAC-30DA860F6C3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A18E6-9CFB-40F5-A422-C6D6645CBEF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30FCB-E412-45A9-9D6F-80AB7D3DB96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C2AFC-7E7D-4D28-81B1-B1F7EC63D8C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12FF8-93E1-4676-B0FA-BD073D6FA13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AE6AC-4929-4DE2-9937-9D34DDF8F2B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2" name="AutoShape 1"/>
          <p:cNvSpPr/>
          <p:nvPr/>
        </p:nvSpPr>
        <p:spPr>
          <a:xfrm>
            <a:off x="249120" y="1341360"/>
            <a:ext cx="864576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950e"/>
                </a:solidFill>
                <a:latin typeface="Arial"/>
              </a:rPr>
              <a:t>QUEIXAS RELATIVAS A TRABALHADORES DESTACADO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Problem</a:t>
            </a:r>
            <a:r>
              <a:rPr b="1" lang="pt-PT" sz="28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tica das queixas (continua</a:t>
            </a:r>
            <a:r>
              <a:rPr b="1" lang="pt-PT" sz="28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ão):</a:t>
            </a: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viol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das regras relativas 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s horas de trabalho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irregularidades na manuten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do registo das horas de trabalho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incumprimento das regras de higiene e seguran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 no trabalho,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cidentes de trabalho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condi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de alojamento dos trabalhadores polacos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1CAAA-43CB-4B50-AE39-D0F147B7837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7885D-1F95-4FCC-AD91-25D4D69BF61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FC779-88E2-4540-B6E3-2AC38AF7546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F7CB2-F5E7-44B2-885D-E71C228AF0A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3833C-1B9C-4314-9FF9-51537D5ABD7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364DB-2EB4-4DDD-A535-3A22A02A653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6C824-F4FB-42D5-862B-7889532C8A0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390DA-A47A-40AD-93F9-50781A3D07A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4389E-9BF4-41CA-A6F3-E81D5BAB0E7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7C856-060E-43E1-9AFF-052929D9DB0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FF08A-F268-4A21-8E32-0CF8DD8450F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E06D4-BDB7-452D-B22C-085462C60E0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B69F0-DAAD-4A54-901B-B42837D3491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AA02A-2383-4F43-85F4-A61A40BA6E6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F9252-F952-451C-86D1-DCC72B6BC54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6B567-88B1-47A3-AF1B-30C1C1AD190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97B1D-F16D-4891-8BAA-75C27AF3A98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77387-BDD4-4668-8108-6887D9CE62B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3" name="AutoShape 1"/>
          <p:cNvSpPr/>
          <p:nvPr/>
        </p:nvSpPr>
        <p:spPr>
          <a:xfrm>
            <a:off x="249120" y="1197000"/>
            <a:ext cx="8645760" cy="431964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950e"/>
                </a:solidFill>
                <a:latin typeface="Arial"/>
              </a:rPr>
              <a:t>COOPERAÇÃO COM AS OUTRAS ADMINISTRAÇÕE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268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 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ZUS 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–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notific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ões, nomeadamente no que se refere: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26880" indent="-3268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s circunstâncias que podem ter um impacto negativo na entrega ou não do formul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o E-101/A1 (por exemplo, se a empresa não exerce qualquer actividade ou não exerce uma actividade significativa na Pol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nia)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26880" indent="-3268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à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 certifica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ão do formul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rio A1 para um trabalhador recrutado </a:t>
            </a:r>
            <a:br>
              <a:rPr sz="2000"/>
            </a:b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com vista ao seu destacamento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, o qual pelo menos um mês antes do seu recrutamento pelo empregador 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não estava inscrito como benefici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rio da Seguran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a Social no pa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í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s de origem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26880" indent="-3268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utiliz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dos formul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os E-101/A1 pela empresa ou os seus trabalhadores que suscita d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ú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vidas justificadas quanto 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sua autenticidade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268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268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268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B3D35-C01D-4D09-A30F-8FF0EE7DFB0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7E9A9-4AC1-4852-9C1D-A5D1B2D14FF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5E3CB-4C1C-4219-89C4-3685F0038B9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FC4A2-DC82-4CFF-96BB-8BCB111D2BD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E2BBE-FCEA-4304-8C30-EFAA8C21B71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F4698-AFE5-420B-ADAA-72C43958699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A5826-C0E6-4D00-A105-9030746CDE9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A5A25-C934-4E3D-8098-E01579396B6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B34CC-A4D5-4509-8C9D-7E3E842F8B7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E7EC7-3C0B-4F6A-818B-06022620870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1C0EC-54E0-4EF1-A48C-FFB5976CE34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7736B-7CC5-4561-AAF0-EB2AE330045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2B928-C82F-4618-B090-13C9B0F20D3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AEBC6-E724-470C-9946-81EB64FA788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119B1-6F75-476B-B4B1-14C6813936F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F0C75-3DFB-4358-9E94-D959E2B8A12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2646A-D1A8-44D4-830B-7EA1A68A5B8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7C643-C946-46C6-A9CB-2FE9A22077F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4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950e"/>
                </a:solidFill>
                <a:latin typeface="Arial"/>
              </a:rPr>
              <a:t>COOPERAÇÃO COM AS OUTRAS ADMINISTRAÇÕE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    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ZUS (continua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ão)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–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notific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ões relativas: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aos casos constatados de destacamentos noutro p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s da UE 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de trabalhadores de uma empresa polaca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que 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são declarados 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à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 Seguran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a Social na Pol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ó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nia e não possuem um atestado (formul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rio E-101/A1)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que prove a sua qualidade de benefici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o da Seguran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a Social na Pol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nia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s constat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ões feitas em rel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execu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de um trabalho em proveito de uma empresa ou de um empregador polaco por 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pessoas de outros pa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í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ses da UE não declaradas aos servi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os de seguran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a social na Pol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ó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nia e não titulares de um atestado (formul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rio E-101/ A1)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que prove a sua afili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a um regime de seguran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a social que não o regime polaco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34B98-BF11-4892-88C7-987F3267106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92E76-C853-41C8-A2E9-A77070B7F8C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EA497-C7F9-46A5-A1B8-1AABC324E37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3735A-EC98-4DB6-A92E-FB7F4FC30AC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00B6A-1221-4093-ADEA-BFC62061401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0F50E-AADB-40E7-93F6-F7965BCA1B9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A61BD-2861-4901-A2A7-DCC17D06A94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51188-D16D-488A-A873-5092BA78DE7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643D6-C165-4FF5-B823-CFE7E5A9C4D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87469-6AFF-4B62-810F-D9235C8EC13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8CB98-95B6-4842-AC8E-AE9C8AAD367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DE953-505C-4FA2-88C9-D9994179C4C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B5AEF-0556-41B9-86B6-CEA2BF92F90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9D9CC-0601-4A6B-802E-CC051A8C98C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26CAD-5BB5-4A29-B7BE-CB3DBED6D6E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7C3A6-B4BB-47F3-9926-1022048BAB0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90CCF-91A1-4823-ACF0-9B84548EA0E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FFDA4-49A3-4F41-BA70-A93C5314680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5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950e"/>
                </a:solidFill>
                <a:latin typeface="Arial"/>
              </a:rPr>
              <a:t>COOPERAÇÃO COM AS OUTRAS ADMINISTRAÇÕE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    </a:t>
            </a: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ZUS (continua</a:t>
            </a:r>
            <a:r>
              <a:rPr b="1" lang="pt-PT" sz="2400" spc="-1" strike="noStrike">
                <a:solidFill>
                  <a:srgbClr val="ffd300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ão)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–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notific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relativas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não declar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pelo empregador, apesar das suas obrig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, de trabalhadores ao regime polaco </a:t>
            </a:r>
            <a:br>
              <a:rPr sz="2400"/>
            </a:b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e seguran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 social;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o não pagamento para os trabalhadores das quotiz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da seguran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 social polaca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C759F-FE55-4049-B51E-2451EC0F4C8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57FF4-093F-4124-81C5-4F8B5C9B064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9C6DA-B720-42B1-9DB8-DCE89F0E274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21629-37F3-4F28-A3EC-E4DD182996F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1A89C-6CF3-4609-9E81-F997437B913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036DE-025E-4161-84DA-35EE6091F9C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69ED6-B725-4B95-89C3-ACF80E1DDCD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AF082-5C71-4F64-9F2A-D3B7B4199C7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F661B-69BE-49ED-A646-8AA6EC2ED3B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094A2-BBA9-4075-B3B1-C9FE15070BC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81078-C8EC-485F-A73E-0607E5924DC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6910B-8BD2-474F-9D5E-66216363A6C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7D9D0-87C3-44DB-ACD4-7BF338A36F3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E0DB7-A171-4B58-8DDA-2E8BCF17F4F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F6651-F16D-4A51-B0FD-57932EC8F97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65620-A9E9-4766-9D00-E0910397A48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C09DC-FB76-4457-A1BD-32B70F665D1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869D2-38EB-4062-9370-7217DA3C90D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6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950e"/>
                </a:solidFill>
                <a:latin typeface="Arial"/>
              </a:rPr>
              <a:t>COOPERAÇÃO COM AS OUTRAS ADMINISTRAÇÕE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    </a:t>
            </a: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Administra</a:t>
            </a:r>
            <a:r>
              <a:rPr b="1" lang="pt-PT" sz="2400" spc="-1" strike="noStrike">
                <a:solidFill>
                  <a:srgbClr val="ffd300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ão fiscal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–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notific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dos casos de viol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das obrig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ões fiscais (incluindo o não pagamento dos impostos devidos).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Pol</a:t>
            </a:r>
            <a:r>
              <a:rPr b="1" lang="pt-PT" sz="2400" spc="-1" strike="noStrike">
                <a:solidFill>
                  <a:srgbClr val="ffd300"/>
                </a:solidFill>
                <a:latin typeface="Albertus MT"/>
              </a:rPr>
              <a:t>í</a:t>
            </a: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cia, Minist</a:t>
            </a:r>
            <a:r>
              <a:rPr b="1" lang="pt-PT" sz="2400" spc="-1" strike="noStrike">
                <a:solidFill>
                  <a:srgbClr val="ffd300"/>
                </a:solidFill>
                <a:latin typeface="Albertus MT"/>
              </a:rPr>
              <a:t>é</a:t>
            </a: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rio P</a:t>
            </a:r>
            <a:r>
              <a:rPr b="1" lang="pt-PT" sz="2400" spc="-1" strike="noStrike">
                <a:solidFill>
                  <a:srgbClr val="ffd300"/>
                </a:solidFill>
                <a:latin typeface="Albertus MT"/>
              </a:rPr>
              <a:t>ú</a:t>
            </a: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blico, autoridade de registo 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–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notific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do exerc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cio de uma actividade ilegal no territ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o polaco (por exemplo, ausência de inscri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no registo das empresas individuais ou no registo das empresas KRS) por parte de uma empresa.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913BD-82AF-4DF0-A1FB-1926E7EF7F7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F00DE-C4D0-4435-971D-2F21606814E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7B24D-C32F-406E-9B9A-23C85753993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AF395-F8AB-418D-9625-C25E25FCD21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B08B7-6CD8-436A-8234-60518A59824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F85C1-0924-49FC-851C-FCB680F0F94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5ED26-E986-46DF-867C-B6CD8F78FB4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05E75-C409-4DA0-AC3B-573544F64DE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6D631-7568-4038-A95B-3A8EFDFDE62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28FAD-925C-4845-B9E6-D7D249269F5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6308C-C796-4489-97F6-22CE1D2B3F4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98060-64D3-4071-BBF6-500B246402B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97AEA-8E18-498E-B334-F4C43BE8BF7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F9795-B399-4B42-BAB7-C9F17AA04F9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FEA97-7037-4885-86C5-F3C240BCFFE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A0CB1-8E57-4BC4-BFA9-B562FDB07F5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D3BB5-CF30-475C-8698-463A1D829B7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8CD2D-1239-4FCF-A65F-8FEE04097E6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7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950e"/>
                </a:solidFill>
                <a:latin typeface="Arial"/>
              </a:rPr>
              <a:t>COOPERAÇÃO COM AS OUTRAS ADMINISTRAÇÕE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d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d300"/>
                </a:solidFill>
                <a:latin typeface="Arial"/>
              </a:rPr>
              <a:t>   </a:t>
            </a:r>
            <a:r>
              <a:rPr b="1" lang="pt-PT" sz="2800" spc="-1" strike="noStrike">
                <a:solidFill>
                  <a:srgbClr val="ffd300"/>
                </a:solidFill>
                <a:latin typeface="Arial"/>
              </a:rPr>
              <a:t>Autoridade de registo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–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obten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de inform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sobre a morada da empresa controlada (se não for exercida qualquer actividade na morada indicada no pedido de inform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)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272C8-1A87-43FB-A1A7-6A4262488AB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7C5F7-8A65-4927-8238-B79AF27CFF6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F7A41-9C14-42B3-B0D1-4D9878F4263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5FF27-93BA-4909-BB87-B9F69B3DC6E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8BD60-7220-44B7-9739-21BF2D063D3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F0DE1-1887-4D75-948A-E1BF648401B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1D079-8575-4AD3-AB58-912BA2CA47F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216A3-61B1-46D0-831F-28779ACD848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E2ADE-C1F0-4B44-9952-B08AC37CF13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7082D-A4A6-4F09-BED4-60D5717E173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AE6E2-BD07-475E-A267-D3D6947AF43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BCF99-F087-47EC-A782-8C4A64DA908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3B24D-A9C1-4A0E-B628-982763EDB57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CAA79-FA34-42CB-96F3-1DF1C5C04BD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6A75D-99CC-49B4-BF70-B9D22D6D0DD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C6542-542A-4728-9FDE-261968ADD08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6B29B-D941-4D03-9489-F16E0F193E4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7AA86-5F1C-4A88-B640-654E493F4DE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8" name="AutoShape 1"/>
          <p:cNvSpPr/>
          <p:nvPr/>
        </p:nvSpPr>
        <p:spPr>
          <a:xfrm>
            <a:off x="324000" y="1484280"/>
            <a:ext cx="8645400" cy="403236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950e"/>
                </a:solidFill>
                <a:latin typeface="Arial"/>
              </a:rPr>
              <a:t>COOPERAÇÃO COM AS OUTRAS ADMINISTRAÇÕE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22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14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d300"/>
                </a:solidFill>
                <a:latin typeface="Arial"/>
              </a:rPr>
              <a:t>      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Em 2010, os 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rgãos da PIP cooperaram com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-42228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d300"/>
                </a:solidFill>
                <a:latin typeface="Arial"/>
              </a:rPr>
              <a:t>o ZUS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pt-PT" sz="1600" spc="-1" strike="noStrike">
                <a:solidFill>
                  <a:srgbClr val="ffd3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nos dom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nios seguintes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- certifica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ão dos formul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rios E-101/ A1, 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 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determina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ão do direito aplic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vel no que diz respeito 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 seguran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a social,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- regulariza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ão do c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lculo das quotiza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ões de seguran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a social;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-42228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d300"/>
                </a:solidFill>
                <a:latin typeface="Arial"/>
              </a:rPr>
              <a:t>as autoridades de registo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- obten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ão de informa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ões sobre as empresas controladas, incluindo no que se refere 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s moradas das suas actividades;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-42228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d300"/>
                </a:solidFill>
                <a:latin typeface="Arial"/>
              </a:rPr>
              <a:t>a Pol</a:t>
            </a:r>
            <a:r>
              <a:rPr b="1" lang="pt-PT" sz="1600" spc="-1" strike="noStrike">
                <a:solidFill>
                  <a:srgbClr val="ffd300"/>
                </a:solidFill>
                <a:latin typeface="Albertus MT"/>
              </a:rPr>
              <a:t>í</a:t>
            </a:r>
            <a:r>
              <a:rPr b="1" lang="pt-PT" sz="1600" spc="-1" strike="noStrike">
                <a:solidFill>
                  <a:srgbClr val="ffd300"/>
                </a:solidFill>
                <a:latin typeface="Arial"/>
              </a:rPr>
              <a:t>cia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- pedido de verifica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ão da legalidade da actividade do empregador no territ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rio polaco;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-42228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d300"/>
                </a:solidFill>
                <a:latin typeface="Arial"/>
              </a:rPr>
              <a:t>a administra</a:t>
            </a:r>
            <a:r>
              <a:rPr b="1" lang="pt-PT" sz="1600" spc="-1" strike="noStrike">
                <a:solidFill>
                  <a:srgbClr val="ffd300"/>
                </a:solidFill>
                <a:latin typeface="Albertus MT"/>
              </a:rPr>
              <a:t>ç</a:t>
            </a:r>
            <a:r>
              <a:rPr b="1" lang="pt-PT" sz="1600" spc="-1" strike="noStrike">
                <a:solidFill>
                  <a:srgbClr val="ffd300"/>
                </a:solidFill>
                <a:latin typeface="Arial"/>
              </a:rPr>
              <a:t>ão fiscal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 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transmissão de informa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ões sobre as modalidades de c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lculo dos sal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rios dos trabalhadores tempor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rios (se todos os impostos não foram recebidos na fonte).  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EA75E-57E9-4C12-AE17-7D18A493F85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E1A65-5F29-4713-BD62-35FE83A7B74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DF94A-CCE4-4F33-8911-CA0845C2948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FC4C3-4D4A-45B1-AE19-4E32180575A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22D5D-2F95-43EB-9568-F111F369216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D7772-6098-4A4E-8BEE-D36FC7CDE2D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6D95F-380F-4249-8A48-10E758B9D10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16507-4C34-48CC-B76F-1289314366B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4ACC8-5BF2-4719-A872-014D11CB461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663B3-BFFE-47C9-94B0-208FC45BE46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A64A9-8022-4120-B42A-34A2238DF84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E24DE-E31E-4025-BDD4-285390D807F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4D1CB-FD31-4A6D-B7B2-E5606240124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1BCAD-C9EA-466D-A616-926D40ADA63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E7EC9-9938-41C5-A36C-D6F2DDE7167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68354-ED11-4B91-823C-3BC720E3FA8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84222-EEA2-4E42-8A05-9877AA1CF2C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38281-2623-4121-AAEA-355AEF6C527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0FFCB-6B50-47C6-839E-2C9021420D5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E9835-4540-4FF5-9C0F-7E64ADFAE42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60161-AF16-439B-84C6-086611CF1BB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9D87A-5365-4038-88C0-5DA08885714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26F64-5259-402D-B4A6-DFB12110C58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62B41-48F3-44AC-8033-7C3C0F2EBA4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00968-2337-4890-8B89-EB028B02612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01A5B-2933-4351-BA04-D63D0D2C8F4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7E6C1-B72D-402A-9852-F521C5885A1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8FE06-FDCE-4CFE-BE52-9014E0C6395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3200" spc="-1" strike="noStrike">
                <a:solidFill>
                  <a:srgbClr val="ff950e"/>
                </a:solidFill>
                <a:latin typeface="Arial"/>
              </a:rPr>
              <a:t>SITUAÇÃO EM MATÉRIA DE DESTACAMENTO 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68400" y="2179800"/>
            <a:ext cx="8353440" cy="3547440"/>
          </a:xfrm>
          <a:prstGeom prst="roundRect">
            <a:avLst>
              <a:gd name="adj" fmla="val 16690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54000" tIns="46800" bIns="46800" anchor="ctr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Dimensão do destacamento – </a:t>
            </a:r>
            <a:r>
              <a:rPr b="1" lang="pt-PT" sz="3000" spc="-1" strike="noStrike">
                <a:solidFill>
                  <a:srgbClr val="ffd300"/>
                </a:solidFill>
                <a:latin typeface="Arial"/>
              </a:rPr>
              <a:t>tendências</a:t>
            </a: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nos: 2005-2007 – aumento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nos: 2008 e 2009 – descida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pt-PT" sz="3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 trimestre de 2010 – regresso ao nível de 2007 e 2008 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Dados do relatório do Ministério do Trabalho e da Política Social com base no número de formulários E101 certificados pelo organismo polaco de segurança social (ZUS).</a:t>
            </a:r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3200" spc="-1" strike="noStrike">
                <a:solidFill>
                  <a:srgbClr val="ff950e"/>
                </a:solidFill>
                <a:latin typeface="Arial"/>
              </a:rPr>
              <a:t>COOPERAÇÃO ADMINISTRATIVA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76920" y="1323000"/>
            <a:ext cx="8390160" cy="471672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 fontScale="99000"/>
          </a:bodyPr>
          <a:p>
            <a:pPr marL="263880" indent="-26388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Os Estados-membros devem organizar a cooper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entre as administr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, que, em conformidade com a legisl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nacional, são respons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veis por vigiar as condi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de trabalho e emprego visadas no artigo 3. </a:t>
            </a:r>
            <a:br>
              <a:rPr sz="2400"/>
            </a:b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Essa cooper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prevê, nomeadamente, o fornecimento de inform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por parte dessas administr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sobre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3880" indent="-26388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1) a disponibiliz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de trabalhadores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3880" indent="-26388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2) os abusos manifestos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3880" indent="-26388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3) os casos de actividades transnacionais presumidas ilegais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3880" indent="-26388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P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art. 4, par. 2 da Directiva 96/71/CE </a:t>
            </a: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263880" indent="-26388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263880" indent="-26388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263880" indent="-26388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3200" spc="-1" strike="noStrike">
                <a:solidFill>
                  <a:srgbClr val="ff950e"/>
                </a:solidFill>
                <a:latin typeface="Arial"/>
              </a:rPr>
              <a:t>COOPERAÇÃO ADMINISTRATIVA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7560" y="1674000"/>
            <a:ext cx="8130600" cy="43743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ada Estado-membro toma as medidas adequadas para que as informa</a:t>
            </a:r>
            <a:r>
              <a:rPr b="1" lang="pt-PT" sz="32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ões relativas </a:t>
            </a:r>
            <a:r>
              <a:rPr b="1" lang="pt-PT" sz="32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 condi</a:t>
            </a:r>
            <a:r>
              <a:rPr b="1" lang="pt-PT" sz="32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ões de trabalho e emprego visadas no artigo 3 estejam, de uma maneira geral, acess</a:t>
            </a:r>
            <a:r>
              <a:rPr b="1" lang="pt-PT" sz="32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veis. </a:t>
            </a:r>
            <a:endParaRPr b="1" lang="en-US" sz="32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P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t-PT" sz="2000" spc="-1" strike="noStrike">
                <a:solidFill>
                  <a:srgbClr val="ffffff"/>
                </a:solidFill>
                <a:latin typeface="Arial"/>
              </a:rPr>
              <a:t>art. 4, par. 3 da Directiva 96/71/CE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3CEF0-0986-4456-8D1A-D39AC42D99C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D4384-FBB0-4137-BBCF-D387563D0D8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E952B-5260-47A0-A8BC-61D8B18D1CC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9CA6E-5717-4916-A81F-8440C7220AD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0A6BA-C934-44B3-BD0C-89B5972AF4B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0296D-31FB-443B-B93E-14079907580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6E486-6D89-4CFE-8AEC-9AED95300F3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661DB-B3E1-42BE-92F4-C2DDA3557C6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E9D50-4845-4ADA-8888-7B8CF8692FD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AAE88-9529-4156-B6AB-E7BD53E153A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3D658-4DB2-4E04-AF5A-E67808C0951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4B9BA-45F7-4CA2-9536-4B51558F3E4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C5861-D812-489A-B467-19C520D7C45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91ABB-2D00-4759-8113-40043ADC3A1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26D4A-41EB-4F23-895D-0CA3D86B9B7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65647-C4F2-4F1F-BED3-E2C8B5AA47F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B1282-0958-463F-8F15-AB8047EDC6E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8797D-9FAA-4953-A0B8-B1F15957CA6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945E9-CBBD-4D72-B268-32D6E4AB7B7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C31FC-5AD7-48F2-97D6-5B3E888FE91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3BDD7-76DD-45A6-95E0-8CFBB130CCB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709DE-02F0-4F2E-9C16-AFA43BE4284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057B6-1E6B-4720-AD95-62C53F520E1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CE48F-A05C-408B-800E-D7E2CCF8014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4B311-F145-4F79-BB87-4D5F72ACEDC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8AE23-306E-4C8C-8E90-BF1DF6881B1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9BCE5-4ABC-4144-9506-A9783E7FA91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C42E5-4530-46F6-9C5C-1C0EEF23C6A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346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3200" spc="-1" strike="noStrike">
                <a:solidFill>
                  <a:srgbClr val="ff9900"/>
                </a:solidFill>
                <a:latin typeface="Arial"/>
              </a:rPr>
              <a:t>INSPECÇÃO NACIONAL DO TRABALHO (PIP) COMO SERVIÇO DE LIGAÇÃO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84120" y="1723320"/>
            <a:ext cx="8452080" cy="3630960"/>
          </a:xfrm>
          <a:prstGeom prst="roundRect">
            <a:avLst>
              <a:gd name="adj" fmla="val 8685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MISSÕES:</a:t>
            </a:r>
            <a:endParaRPr b="1" lang="en-US" sz="28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Troca de informações relativas ao destacamento de trabalhadores com os serviços de ligação dos outros Estados-membros.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Transmissão aos serviços de ligação estrangeiros das informações sobre as irregularidades assinaladas nas queixas dos trabalhadores polacos, incluindo dos trabalhadores destacados.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14A82-C876-4794-86A1-4B88FCBEC95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D593E-00DA-4AA6-B958-05017B7B7B4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B4F2E-BF69-4203-8B83-7FC912C0321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3153B-55D4-4ECC-A512-D2C640AD32C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D68C0-1CAD-47AA-A061-0C5B410AED3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B502B-5C02-460B-AB0A-40B96191280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07922-E46E-4D06-9254-835E15C5DBB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1B4C9-3B25-42B1-B925-D55FEEC124E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38DC1-043F-4A9F-AD7C-1293CF594AF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CAA65-5AC7-46D3-A0CC-E10D54C3ECE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E4D1E-1F16-4E7D-BCB1-27EBFD20EEC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BC2BF-EF53-4852-9A16-BBCEFAB0156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C36F4-BBE0-4F3D-B1A8-D4731BB56DD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B01CE-3217-49E8-82A2-976E728AE82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52126-9823-49D6-B5DF-B9DEBA08522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5D36C-04C6-466F-BA76-DE09C9C72F8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FF93F-8A8A-4062-AA0C-A19D573DC77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E2AC2-C83D-4321-9A6E-99FFFE9E339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235E7-7F37-420F-925F-6C68E1E6F47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C77BF-8862-45DF-836C-3687AEA5A38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30D6C-4F61-487D-B4DA-ED4E6A4CF0E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CE54F-726B-4603-B7F4-1E7E632F36A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C6653-90F1-4CA1-835D-BBAF2916C3D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C9B2C-C710-4272-9B77-CA59F51B8DE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BF7A7-7207-4E00-B629-A6CEF8331AF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82D72-90D1-487E-A173-4EB511E33E3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F4445-8582-4A54-9D73-96EBC9AB34D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6F6B8-0E5E-4655-8938-1A227B96498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346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3200" spc="-1" strike="noStrike">
                <a:solidFill>
                  <a:srgbClr val="ff9900"/>
                </a:solidFill>
                <a:latin typeface="Arial"/>
              </a:rPr>
              <a:t>INSPECÇÃO NACIONAL DO TRABALHO (PIP) COMO SERVIÇO DE LIGAÇÃO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307800" y="2021760"/>
            <a:ext cx="8455320" cy="2924280"/>
          </a:xfrm>
          <a:prstGeom prst="roundRect">
            <a:avLst>
              <a:gd name="adj" fmla="val 8685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MISSÕES 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(continuação)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Cooperação com as autoridades, administrações e instituições polacas. 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Entrega, a pedido por escrito do interessado, de informações sobre as condições mínimas de emprego à luz do direito polaco.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08443-0E3E-400F-AFA1-DF01385EFAB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53E15-C46C-4483-BF1F-3C7BDFB683A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9BEAA-D1B2-42E3-9F6D-2C4551C81C1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0D23D-0529-4CFC-85A0-C7395AC04FC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821BF-923E-4019-8D73-7C89B285BBF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ADE74-A8F6-4BFA-8FA4-7A37CECD417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E7BD6-7488-49C1-B652-6ED7427107B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0D119-8331-46C1-A203-336C8852732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12BA2-5B27-4882-A339-7E09DABFAA2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DD15B-49E2-49F2-81E1-3BE224C2D40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72D38-614B-4910-B2C8-5B68366BEC1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D994F-A332-4C1D-B560-AA817DA8604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930F7-9BF0-4FC2-A740-889442CAD01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06C3F-6D32-4353-9E29-4A3193C7C15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FA4FA-3027-47D5-90DC-9C1FA0EB86B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558FD-5EAC-415F-8612-BDA0066F7A0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3AF40-1377-464A-9529-068A3C9B53C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8EBF3-2799-44ED-AC4C-F4786915617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E3BE9-41B9-4CA5-9D57-9162CE5EE17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94413-6B02-4ABC-BE9A-8D95EA9F861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BB6E7-C69E-4774-A534-9844EFFFA28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06DAA-F836-4CB7-90EE-C49D06695ED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1CC84-ED2E-480D-AB8C-B0BFC422651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595AE-DD78-4FAA-9BE2-34DDBCC1F35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F5D0F-67AB-401A-847A-1FFBBB8845F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1148E-72CC-4D75-B33E-466B22A38E4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3F50F-006C-4E6E-9C8D-325010CC4DC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9B7D6-93B0-47BD-B056-48E395A0FD1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0"/>
            <a:ext cx="91346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3200" spc="-1" strike="noStrike">
                <a:solidFill>
                  <a:srgbClr val="ff9900"/>
                </a:solidFill>
                <a:latin typeface="Arial"/>
              </a:rPr>
              <a:t>INSPECÇÃO NACIONAL DO TRABALHO (PIP) COMO SERVIÇO DE LIGAÇÃO  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264960" y="1100880"/>
            <a:ext cx="8544240" cy="5173920"/>
          </a:xfrm>
          <a:prstGeom prst="roundRect">
            <a:avLst>
              <a:gd name="adj" fmla="val 8685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 Inspecção Nacional do Trabalho tem a seu cargo a cooperação com as administrações dos Estados-membros da UE/EEE responsáveis pela vigilância das condições de trabalho e emprego, nomeadamente: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fornecer informações sobre as condições de trabalho dos assalariados destacados durante um período determinado no território de um Estado-membro da UE/EEE por um empregador sediado na Polónia,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prestar informações sobre as violações constatadas dos direitos dos trabalhadores destacados no território polaco durante um determinado período por um empregador sediado num país membro da UE/EEE,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indicar a autoridade de vigilância do mercado de trabalho competente para prestar as informações solicitadas em função do domínio em questão.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687A3-904F-4CAC-8750-D0A20852771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637B3-D78F-470D-A32F-D5F684BFD85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BAB8D-934D-4B74-BE5C-D7D9F0DD287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C099E-F8EA-44DA-8B61-AA88433FBD3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DA8B5-D91E-4E00-B185-ED5CD83E75F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FB5C1-5C98-4261-B6B2-935FCA818DD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DAF20-FE8B-4EC4-8F6D-440FA001355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07D24-1139-4172-BE83-0CC28128817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8D255-57DF-4CC7-9276-D8AD1F472B8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1F120-F144-4FEA-9C83-46399868293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DC637-5C95-4B96-A219-AF1BF6E0AC3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32FE8-E0F3-4B89-9F52-A0CCE3142DD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5BB6F-7DFE-4149-BA9E-6F7DF9F01CE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FD879-4F08-47F4-8DDA-25328EE4B46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E23F8-13BD-4410-80B4-C90A936F094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29997-A66D-4B3F-83BA-1A52FFB86FF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D09FE-9BFF-4467-A31E-70B3452D4EC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6A8C3-9263-49EF-B1EF-6C620EC619C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pic>
        <p:nvPicPr>
          <p:cNvPr id="222" name="Picture 2" descr="mapka"/>
          <p:cNvPicPr/>
          <p:nvPr/>
        </p:nvPicPr>
        <p:blipFill>
          <a:blip r:embed="rId2"/>
          <a:stretch/>
        </p:blipFill>
        <p:spPr>
          <a:xfrm>
            <a:off x="5148360" y="2635200"/>
            <a:ext cx="3384360" cy="3229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logo%2520U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274840"/>
            <a:ext cx="900000" cy="59544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224" name="Text Box 4"/>
          <p:cNvSpPr/>
          <p:nvPr/>
        </p:nvSpPr>
        <p:spPr>
          <a:xfrm>
            <a:off x="1476360" y="2131920"/>
            <a:ext cx="2158920" cy="37818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</a:rPr>
              <a:t>Inspecção-Geral do Trabalho (GIP)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3924360" y="2131920"/>
            <a:ext cx="2016000" cy="1008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000099"/>
                </a:solidFill>
                <a:latin typeface="Arial"/>
              </a:rPr>
              <a:t>agência da Inspecção do Trabalho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300720" y="2492280"/>
            <a:ext cx="1944720" cy="45972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</a:rPr>
              <a:t>controla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3924360" y="3500280"/>
            <a:ext cx="2016000" cy="1008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000099"/>
                </a:solidFill>
                <a:latin typeface="Arial"/>
              </a:rPr>
              <a:t>agência da Inspecção do Trabalho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3924360" y="4881600"/>
            <a:ext cx="2016000" cy="1008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000099"/>
                </a:solidFill>
                <a:latin typeface="Arial"/>
              </a:rPr>
              <a:t>agência da Inspecção do Trabalho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6732720" y="3859200"/>
            <a:ext cx="1944720" cy="45972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</a:rPr>
              <a:t>controla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6372360" y="5011560"/>
            <a:ext cx="1944720" cy="45972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</a:rPr>
              <a:t>controla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 rot="10800000">
            <a:off x="3347640" y="2781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 rot="10800000">
            <a:off x="3347640" y="4149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3" name="AutoShape 13"/>
          <p:cNvSpPr/>
          <p:nvPr/>
        </p:nvSpPr>
        <p:spPr>
          <a:xfrm rot="10800000">
            <a:off x="3347640" y="5516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4" name="AutoShape 14"/>
          <p:cNvSpPr/>
          <p:nvPr/>
        </p:nvSpPr>
        <p:spPr>
          <a:xfrm>
            <a:off x="3419640" y="227484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5" name="AutoShape 15"/>
          <p:cNvSpPr/>
          <p:nvPr/>
        </p:nvSpPr>
        <p:spPr>
          <a:xfrm>
            <a:off x="3419640" y="357192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3419640" y="494028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5796000" y="2563920"/>
            <a:ext cx="720720" cy="358560"/>
          </a:xfrm>
          <a:custGeom>
            <a:avLst/>
            <a:gdLst>
              <a:gd name="textAreaLeft" fmla="*/ 112320 w 720720"/>
              <a:gd name="textAreaRight" fmla="*/ 630720 w 720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5867280" y="5011560"/>
            <a:ext cx="720720" cy="358920"/>
          </a:xfrm>
          <a:custGeom>
            <a:avLst/>
            <a:gdLst>
              <a:gd name="textAreaLeft" fmla="*/ 112320 w 720720"/>
              <a:gd name="textAreaRight" fmla="*/ 630720 w 7207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227640" y="3932280"/>
            <a:ext cx="720720" cy="358560"/>
          </a:xfrm>
          <a:custGeom>
            <a:avLst/>
            <a:gdLst>
              <a:gd name="textAreaLeft" fmla="*/ 112320 w 720720"/>
              <a:gd name="textAreaRight" fmla="*/ 630720 w 720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0" name="AutoShape 20"/>
          <p:cNvSpPr/>
          <p:nvPr/>
        </p:nvSpPr>
        <p:spPr>
          <a:xfrm>
            <a:off x="611280" y="2995560"/>
            <a:ext cx="793800" cy="360360"/>
          </a:xfrm>
          <a:prstGeom prst="rightArrow">
            <a:avLst>
              <a:gd name="adj1" fmla="val 50000"/>
              <a:gd name="adj2" fmla="val 550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1" name="AutoShape 21"/>
          <p:cNvSpPr/>
          <p:nvPr/>
        </p:nvSpPr>
        <p:spPr>
          <a:xfrm rot="10800000">
            <a:off x="826560" y="32112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2" name="AutoShape 22"/>
          <p:cNvSpPr/>
          <p:nvPr/>
        </p:nvSpPr>
        <p:spPr>
          <a:xfrm>
            <a:off x="611280" y="3859200"/>
            <a:ext cx="793800" cy="360360"/>
          </a:xfrm>
          <a:prstGeom prst="rightArrow">
            <a:avLst>
              <a:gd name="adj1" fmla="val 50000"/>
              <a:gd name="adj2" fmla="val 550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3" name="AutoShape 23"/>
          <p:cNvSpPr/>
          <p:nvPr/>
        </p:nvSpPr>
        <p:spPr>
          <a:xfrm rot="10800000">
            <a:off x="826560" y="40748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4" name="AutoShape 24"/>
          <p:cNvSpPr/>
          <p:nvPr/>
        </p:nvSpPr>
        <p:spPr>
          <a:xfrm>
            <a:off x="684360" y="472428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5" name="AutoShape 25"/>
          <p:cNvSpPr/>
          <p:nvPr/>
        </p:nvSpPr>
        <p:spPr>
          <a:xfrm rot="10800000">
            <a:off x="899640" y="49399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468360" y="1268280"/>
            <a:ext cx="82803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Arial"/>
              </a:rPr>
              <a:t>4 semanas para fornecer uma resposta (normas de cooperação)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9900"/>
                </a:solidFill>
                <a:latin typeface="Arial"/>
              </a:rPr>
              <a:t>REALIZAÇÃO DAS MISSÕES DO SERVIÇO DE LIGAÇÃO</a:t>
            </a:r>
            <a:endParaRPr b="1" lang="en-US" sz="28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5A683-DD23-4474-BCE8-74C2366BEF9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B063B-E7E1-4A6A-A617-FA37599B6C0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C65F0-313A-4F16-A0DE-CBEA6D938B9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3E3C8-91A0-4ED3-9EE8-9D3D63AAD58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449ED-B835-453D-9021-38D4916C001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BD223-F1E7-416B-B046-27B77DEFE4B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196A9-7EE7-47F7-8DF9-DB79AD67A81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77AF1-6C48-4700-810D-D27286D7B06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C5002-F673-4307-A4FE-610A97E8AD6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E93A0-55AF-48E2-AA47-3B6520684ED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E5308-457F-4E5C-B934-B841FC5444F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D5F2F-3ED1-473B-B0EC-D128BF93511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EB16E-1216-4096-BFE4-BE948DB1BB1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10811-A3F2-40FB-BEBD-B79D7D6D017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2A5D1-7BF8-453A-9CFC-76FDFA20F55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7F896-8DE7-4A0A-A381-97C488D0434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414E5-3C87-4612-8188-5004E2A53A2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2CE22-A0B8-4592-A181-632C11105D1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6" name="AutoShape 1"/>
          <p:cNvSpPr/>
          <p:nvPr/>
        </p:nvSpPr>
        <p:spPr>
          <a:xfrm>
            <a:off x="900000" y="2349360"/>
            <a:ext cx="3024360" cy="2880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19080" y="9216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9900"/>
                </a:solidFill>
                <a:latin typeface="Arial"/>
              </a:rPr>
              <a:t>REALIZAÇÃO DAS MISSÕES DO SERVIÇO DE LIGAÇÃO</a:t>
            </a:r>
            <a:r>
              <a:rPr b="1" lang="pt-PT" sz="2800" spc="-1" strike="noStrike">
                <a:solidFill>
                  <a:srgbClr val="ff950e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684360" y="1628640"/>
            <a:ext cx="77403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3320" indent="-276120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Idiomas utilizados na correspondência: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inglês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alemão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francês 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espanhol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italiano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pic>
        <p:nvPicPr>
          <p:cNvPr id="270" name="Picture 6" descr="wspolpraca"/>
          <p:cNvPicPr/>
          <p:nvPr/>
        </p:nvPicPr>
        <p:blipFill>
          <a:blip r:embed="rId7"/>
          <a:stretch/>
        </p:blipFill>
        <p:spPr>
          <a:xfrm>
            <a:off x="6012000" y="4005360"/>
            <a:ext cx="2449440" cy="16556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1-12-09T09:55:50Z</dcterms:modified>
  <cp:revision>377</cp:revision>
  <dc:subject/>
  <dc:title>SYTUACJA W ZAKRESIE DELEGOWANIA </dc:title>
</cp:coreProperties>
</file>