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7ED-1A42-4333-92A2-D83C9442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1CC-63BC-4E16-82CE-CAF16D3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697-ECC3-4426-9BCC-B64708FC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F99-0FED-4EE4-9C81-BA4E76D8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6BB-9F54-4005-9CC2-7F78E41C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9FD-EA9D-4BF2-9699-A032C20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1CC-4C9F-4678-B467-A4072D3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CAB-F3D3-4BE6-9555-3A3FC15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7F7-F7B1-44C8-9387-2D450C1A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35A-1A11-4210-98C2-8EED5EC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07A-F3A0-4A98-824D-445F986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440-1A94-46FA-A446-CB6B7F2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BF2-7364-49AA-B0B7-E75B6051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21C-D0E1-4F58-9FC1-31969376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23920" y="1071360"/>
            <a:ext cx="689616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cc6600"/>
                </a:solidFill>
                <a:uFillTx/>
                <a:latin typeface="Arial"/>
              </a:rPr>
              <a:t>Le « compte individuel » en Belgiqu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28576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Document qui reproduit, pour chaque période de paie, les prestations effectuées au cours d’une année par un travailleur chez un employeur, ainsi que la rémunération y afférente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Fréquence et lieu de tenue :</a:t>
            </a:r>
            <a:br>
              <a:rPr sz="2000"/>
            </a:b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Un compte individuel par an et par travailleur, tenu en </a:t>
            </a: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rincipe à l’endroit ou l’employeur est immatriculé à l’O.N.S.S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ject 5" descr=""/>
          <p:cNvPicPr/>
          <p:nvPr/>
        </p:nvPicPr>
        <p:blipFill>
          <a:blip r:embed="rId1"/>
          <a:stretch/>
        </p:blipFill>
        <p:spPr>
          <a:xfrm>
            <a:off x="7786800" y="4572000"/>
            <a:ext cx="1147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248-FB5E-4F76-8BFC-E132565D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071720" y="1071720"/>
            <a:ext cx="1828800" cy="685800"/>
          </a:xfrm>
          <a:prstGeom prst="wedgeRoundRectCallout">
            <a:avLst>
              <a:gd name="adj1" fmla="val -55120"/>
              <a:gd name="adj2" fmla="val 100462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Identification de l’employeu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5867280" y="533520"/>
            <a:ext cx="1676520" cy="609480"/>
          </a:xfrm>
          <a:prstGeom prst="wedgeRoundRectCallout">
            <a:avLst>
              <a:gd name="adj1" fmla="val -69032"/>
              <a:gd name="adj2" fmla="val 179166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Identification du travailleu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7848720" y="304920"/>
            <a:ext cx="990360" cy="380880"/>
          </a:xfrm>
          <a:prstGeom prst="wedgeRoundRectCallout">
            <a:avLst>
              <a:gd name="adj1" fmla="val -59615"/>
              <a:gd name="adj2" fmla="val 180833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Période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5786280" y="2928960"/>
            <a:ext cx="2799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8" y="8100"/>
                </a:moveTo>
                <a:lnTo>
                  <a:pt x="23609" y="8100"/>
                </a:lnTo>
                <a:lnTo>
                  <a:pt x="23609" y="-59738"/>
                </a:lnTo>
                <a:lnTo>
                  <a:pt x="20105" y="-60075"/>
                </a:lnTo>
              </a:path>
              <a:path w="21600" h="21600">
                <a:moveTo>
                  <a:pt x="22188" y="0"/>
                </a:moveTo>
                <a:lnTo>
                  <a:pt x="22188" y="21600"/>
                </a:lnTo>
              </a:path>
            </a:pathLst>
          </a:cu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Données relatives au contra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7F0-DD81-422E-84E7-A27B5403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4480" y="2760840"/>
            <a:ext cx="8915400" cy="1336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1752480"/>
            <a:ext cx="1524240" cy="381240"/>
          </a:xfrm>
          <a:prstGeom prst="wedgeRectCallout">
            <a:avLst>
              <a:gd name="adj1" fmla="val -30935"/>
              <a:gd name="adj2" fmla="val 24916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Par mois…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057400" y="1752480"/>
            <a:ext cx="3733920" cy="609840"/>
          </a:xfrm>
          <a:prstGeom prst="wedgeRectCallout">
            <a:avLst>
              <a:gd name="adj1" fmla="val -36097"/>
              <a:gd name="adj2" fmla="val 115884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Information concernant les jours et heures prestées ou assimilé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981080" y="4572000"/>
            <a:ext cx="2590920" cy="609480"/>
          </a:xfrm>
          <a:prstGeom prst="wedgeRectCallout">
            <a:avLst>
              <a:gd name="adj1" fmla="val 66300"/>
              <a:gd name="adj2" fmla="val -193231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Eléments constitutifs de la rémunér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4724280" y="4572000"/>
            <a:ext cx="2286000" cy="609480"/>
          </a:xfrm>
          <a:prstGeom prst="wedgeRectCallout">
            <a:avLst>
              <a:gd name="adj1" fmla="val 42222"/>
              <a:gd name="adj2" fmla="val -25416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etenues sociales et fiscal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629400" y="1752480"/>
            <a:ext cx="1981080" cy="609840"/>
          </a:xfrm>
          <a:prstGeom prst="wedgeRectCallout">
            <a:avLst>
              <a:gd name="adj1" fmla="val 49518"/>
              <a:gd name="adj2" fmla="val 210939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sultat net à paye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0F8-E24E-4614-8A1E-D5755CE3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480" y="2414520"/>
            <a:ext cx="8915400" cy="101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8839440" cy="1435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>
            <a:off x="990720" y="1523880"/>
            <a:ext cx="2133360" cy="609840"/>
          </a:xfrm>
          <a:prstGeom prst="wedgeRectCallout">
            <a:avLst>
              <a:gd name="adj1" fmla="val -78944"/>
              <a:gd name="adj2" fmla="val 11510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capitulatif trimestriel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371600" y="5257800"/>
            <a:ext cx="1676520" cy="609480"/>
          </a:xfrm>
          <a:prstGeom prst="wedgeRectCallout">
            <a:avLst>
              <a:gd name="adj1" fmla="val -115625"/>
              <a:gd name="adj2" fmla="val -255731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capitulatif annuel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791320" y="1523880"/>
            <a:ext cx="1600200" cy="609840"/>
          </a:xfrm>
          <a:prstGeom prst="wedgeRectCallout">
            <a:avLst>
              <a:gd name="adj1" fmla="val -69541"/>
              <a:gd name="adj2" fmla="val 147134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Codes explicatif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4:02:09Z</dcterms:modified>
  <cp:revision>175</cp:revision>
  <dc:subject>Présentation pour Acerta - Novembre 2009</dc:subject>
  <dc:title>L'inspection du travail en Belgique et le CLS</dc:title>
</cp:coreProperties>
</file>