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ABE-A9C8-4152-B7E9-077115AB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389-7659-4678-9AC6-265BD072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365B-5B26-42FE-A473-65DA28A01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840-71E6-473C-BC40-768A740D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FE2-FD12-401D-8A46-EA790F49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ED8-C56F-41FC-AB18-97F44B06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31B-1D40-4EFB-BAFC-5A15D155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C17-6237-4E70-B5A6-D756A221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06F2-3344-46A9-8DA7-184804E0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0B38-5F3A-44A4-9FEA-34C2C3B9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8F29-B2E9-40F0-89C1-A49D6182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8D95-46A3-4886-8BF6-A301D28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9ED8-F349-40AD-9666-FFF0CE552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6D54-162A-4702-B35B-9A90B9962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23920" y="1071360"/>
            <a:ext cx="6896160" cy="15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cc6600"/>
                </a:solidFill>
                <a:uFillTx/>
                <a:latin typeface="Arial"/>
              </a:rPr>
              <a:t>Le « compte individuel » en Belgiqu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0" y="285768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Document qui reproduit, pour chaque période de paie, les prestations effectuées au cours d’une année par un travailleur chez un employeur, ainsi que la rémunération y afférente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Fréquence et lieu de tenue :</a:t>
            </a:r>
            <a:br>
              <a:rPr sz="2000"/>
            </a:br>
            <a:br>
              <a:rPr sz="2000"/>
            </a:b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Un compte individuel par an et par travailleur, tenu en </a:t>
            </a:r>
            <a:br>
              <a:rPr sz="2000"/>
            </a:b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rincipe à l’endroit ou l’employeur est immatriculé à l’O.N.S.S.</a:t>
            </a:r>
            <a:endParaRPr b="1" lang="en-US" sz="20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5" name="Object 5" descr=""/>
          <p:cNvPicPr/>
          <p:nvPr/>
        </p:nvPicPr>
        <p:blipFill>
          <a:blip r:embed="rId1"/>
          <a:stretch/>
        </p:blipFill>
        <p:spPr>
          <a:xfrm>
            <a:off x="7786800" y="4572000"/>
            <a:ext cx="1147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A99F-CDDC-4F49-A8AC-E92AAC246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5"/>
          <p:cNvSpPr/>
          <p:nvPr/>
        </p:nvSpPr>
        <p:spPr>
          <a:xfrm>
            <a:off x="1071720" y="1071720"/>
            <a:ext cx="1828800" cy="685800"/>
          </a:xfrm>
          <a:prstGeom prst="wedgeRoundRectCallout">
            <a:avLst>
              <a:gd name="adj1" fmla="val -55120"/>
              <a:gd name="adj2" fmla="val 100462"/>
              <a:gd name="adj3" fmla="val 16667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3399"/>
                </a:solidFill>
                <a:latin typeface="Arial"/>
              </a:rPr>
              <a:t>Identification de l’employeur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5867280" y="533520"/>
            <a:ext cx="1676520" cy="609480"/>
          </a:xfrm>
          <a:prstGeom prst="wedgeRoundRectCallout">
            <a:avLst>
              <a:gd name="adj1" fmla="val -69032"/>
              <a:gd name="adj2" fmla="val 179166"/>
              <a:gd name="adj3" fmla="val 16667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Identification du travailleur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7848720" y="304920"/>
            <a:ext cx="990360" cy="380880"/>
          </a:xfrm>
          <a:prstGeom prst="wedgeRoundRectCallout">
            <a:avLst>
              <a:gd name="adj1" fmla="val -59615"/>
              <a:gd name="adj2" fmla="val 180833"/>
              <a:gd name="adj3" fmla="val 16667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Période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5786280" y="2928960"/>
            <a:ext cx="2799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8" y="8100"/>
                </a:moveTo>
                <a:lnTo>
                  <a:pt x="23609" y="8100"/>
                </a:lnTo>
                <a:lnTo>
                  <a:pt x="23609" y="-59738"/>
                </a:lnTo>
                <a:lnTo>
                  <a:pt x="20105" y="-60075"/>
                </a:lnTo>
              </a:path>
              <a:path w="21600" h="21600">
                <a:moveTo>
                  <a:pt x="22188" y="0"/>
                </a:moveTo>
                <a:lnTo>
                  <a:pt x="22188" y="21600"/>
                </a:lnTo>
              </a:path>
            </a:pathLst>
          </a:cu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Données relatives au contrat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2F0A-965D-44E4-9630-11C601763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4480" y="2760840"/>
            <a:ext cx="8915400" cy="1336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3"/>
          <p:cNvSpPr/>
          <p:nvPr/>
        </p:nvSpPr>
        <p:spPr>
          <a:xfrm>
            <a:off x="152280" y="1752480"/>
            <a:ext cx="1524240" cy="381240"/>
          </a:xfrm>
          <a:prstGeom prst="wedgeRectCallout">
            <a:avLst>
              <a:gd name="adj1" fmla="val -30935"/>
              <a:gd name="adj2" fmla="val 249166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Par mois…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2057400" y="1752480"/>
            <a:ext cx="3733920" cy="609840"/>
          </a:xfrm>
          <a:prstGeom prst="wedgeRectCallout">
            <a:avLst>
              <a:gd name="adj1" fmla="val -36097"/>
              <a:gd name="adj2" fmla="val 115884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Information concernant les jours et heures prestées ou assimilé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981080" y="4572000"/>
            <a:ext cx="2590920" cy="609480"/>
          </a:xfrm>
          <a:prstGeom prst="wedgeRectCallout">
            <a:avLst>
              <a:gd name="adj1" fmla="val 66300"/>
              <a:gd name="adj2" fmla="val -193231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Eléments constitutifs de la rémunération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4724280" y="4572000"/>
            <a:ext cx="2286000" cy="609480"/>
          </a:xfrm>
          <a:prstGeom prst="wedgeRectCallout">
            <a:avLst>
              <a:gd name="adj1" fmla="val 42222"/>
              <a:gd name="adj2" fmla="val -254166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etenues sociales et fiscale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6629400" y="1752480"/>
            <a:ext cx="1981080" cy="609840"/>
          </a:xfrm>
          <a:prstGeom prst="wedgeRectCallout">
            <a:avLst>
              <a:gd name="adj1" fmla="val 49518"/>
              <a:gd name="adj2" fmla="val 210939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ésultat net à payer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9871-D6C7-4F50-AD1D-F891B026E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480" y="2414520"/>
            <a:ext cx="8915400" cy="1014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152280" y="3581280"/>
            <a:ext cx="8839440" cy="143532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4"/>
          <p:cNvSpPr/>
          <p:nvPr/>
        </p:nvSpPr>
        <p:spPr>
          <a:xfrm>
            <a:off x="990720" y="1523880"/>
            <a:ext cx="2133360" cy="609840"/>
          </a:xfrm>
          <a:prstGeom prst="wedgeRectCallout">
            <a:avLst>
              <a:gd name="adj1" fmla="val -78944"/>
              <a:gd name="adj2" fmla="val 115106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écapitulatif trimestriel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371600" y="5257800"/>
            <a:ext cx="1676520" cy="609480"/>
          </a:xfrm>
          <a:prstGeom prst="wedgeRectCallout">
            <a:avLst>
              <a:gd name="adj1" fmla="val -115625"/>
              <a:gd name="adj2" fmla="val -255731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Récapitulatif annuel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5791320" y="1523880"/>
            <a:ext cx="1600200" cy="609840"/>
          </a:xfrm>
          <a:prstGeom prst="wedgeRectCallout">
            <a:avLst>
              <a:gd name="adj1" fmla="val -69541"/>
              <a:gd name="adj2" fmla="val 147134"/>
            </a:avLst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3399"/>
                </a:solidFill>
                <a:latin typeface="Arial"/>
              </a:rPr>
              <a:t>Codes explicatifs</a:t>
            </a:r>
            <a:endParaRPr b="1" lang="en-US" sz="16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4:02:09Z</dcterms:modified>
  <cp:revision>175</cp:revision>
  <dc:subject>Présentation pour Acerta - Novembre 2009</dc:subject>
  <dc:title>L'inspection du travail en Belgique et le CLS</dc:title>
</cp:coreProperties>
</file>