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7DFE-48A8-4A5E-BFCC-466E31C5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1E1-11BD-4C45-B359-F1689925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4A6-922B-49A1-A772-D52BBAEF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3B9-92C2-4921-946C-B7D97176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A0C-B80C-4900-9DD2-8BD537CD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7CF-3D74-499F-BCDC-3AAB202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744-703E-48CE-9569-E502EBD7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C9C-7F1E-43AE-808C-30A3BCEB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A09-D8F1-4E4E-BE17-09E9713F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7AC-9BD0-4F45-9662-45EC6A90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670-AF3D-4060-853A-11E52A8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B41-46B9-4A0A-86B6-2665D33F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895E-382D-4456-A030-CE97B1A0A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063C-B6B1-42A5-9957-6A51FD4A7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cc6600"/>
                </a:solidFill>
                <a:uFillTx/>
                <a:latin typeface="Arial"/>
              </a:rPr>
              <a:t>Les services d’inspection du travail belges 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" name="Picture 3" descr="BELGIQUE"/>
          <p:cNvPicPr/>
          <p:nvPr/>
        </p:nvPicPr>
        <p:blipFill>
          <a:blip r:embed="rId1"/>
          <a:stretch/>
        </p:blipFill>
        <p:spPr>
          <a:xfrm>
            <a:off x="2195640" y="2492280"/>
            <a:ext cx="4340160" cy="3573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Program Files\Common Files\Microsoft Shared\Clipart\cagcat50\BD06663_.WMF"/>
          <p:cNvPicPr/>
          <p:nvPr/>
        </p:nvPicPr>
        <p:blipFill>
          <a:blip r:embed="rId2"/>
          <a:stretch/>
        </p:blipFill>
        <p:spPr>
          <a:xfrm>
            <a:off x="3809880" y="327672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5B0E-DDA7-4549-9744-54BFCC204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 u="sng">
                <a:solidFill>
                  <a:srgbClr val="003399"/>
                </a:solidFill>
                <a:uFillTx/>
                <a:latin typeface="Arial"/>
              </a:rPr>
              <a:t>Spécialisée</a:t>
            </a: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 et non généraliste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Tenant compte de la </a:t>
            </a:r>
            <a:r>
              <a:rPr b="0" lang="fr-BE" sz="2800" spc="-1" strike="noStrike" u="sng">
                <a:solidFill>
                  <a:srgbClr val="003399"/>
                </a:solidFill>
                <a:uFillTx/>
                <a:latin typeface="Arial"/>
              </a:rPr>
              <a:t>spécificité institutionnelle</a:t>
            </a: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 belge ( services fédéraux et régionaux )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914400" y="5257800"/>
            <a:ext cx="731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+/- 1000 inspecteurs sociaux au total sur l’ensemble du pay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104840" y="1371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 système d’inspection du travail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DCFA-5ADF-419F-BCE9-9E0195F69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04840" y="17524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Arial"/>
              </a:rPr>
              <a:t>L’inspection fédérale du travail en Belgique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3993840" y="316872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2 pans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57200" y="495288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La réglementation du travai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5337000" y="4951440"/>
            <a:ext cx="33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La sécurité sociale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" name="Line 7"/>
          <p:cNvSpPr/>
          <p:nvPr/>
        </p:nvSpPr>
        <p:spPr>
          <a:xfrm flipH="1">
            <a:off x="2514240" y="3809880"/>
            <a:ext cx="1676520" cy="106704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Line 8"/>
          <p:cNvSpPr/>
          <p:nvPr/>
        </p:nvSpPr>
        <p:spPr>
          <a:xfrm>
            <a:off x="4876920" y="3809880"/>
            <a:ext cx="1752480" cy="1143000"/>
          </a:xfrm>
          <a:prstGeom prst="line">
            <a:avLst/>
          </a:prstGeom>
          <a:ln w="126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C6D6-9F39-40EB-ADF3-5EC92A02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14200" y="2428920"/>
            <a:ext cx="8715600" cy="228852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Contrôle des lois sociales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(conditions de travail et de rémunération des salariés)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Contrôle du Bien-être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(sécurité dans le travail - mesures d ’hygiène et de santé)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808080"/>
                </a:solidFill>
                <a:latin typeface="Arial Unicode MS"/>
              </a:rPr>
              <a:t>  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92280" y="5484960"/>
            <a:ext cx="5482800" cy="88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ff0066"/>
                </a:solidFill>
                <a:uFillTx/>
                <a:latin typeface="Arial"/>
              </a:rPr>
              <a:t>Organisme parastatal : ONEm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- contrôle des chômeurs indemnisé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04840" y="10666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6600"/>
                </a:solidFill>
                <a:latin typeface="Arial"/>
              </a:rPr>
              <a:t>S.P.F. Emploi, Travail et Concertation sociale (pan réglementation)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A7B49-B6AC-4A09-9794-24CFE66B4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04840" y="106668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S.P.F. Sécurité sociale (pan sécu)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12800" y="1981080"/>
            <a:ext cx="7718400" cy="1922760"/>
          </a:xfrm>
          <a:prstGeom prst="rect">
            <a:avLst/>
          </a:prstGeom>
          <a:noFill/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Inspection social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(législation au sens large relative à la sécurité sociale des travailleurs salariés – assujettissement, VA, assurance accident de travail, AMI, pensions, allocations familiales, ...)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486080" y="4343400"/>
            <a:ext cx="617220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BE" sz="2400" spc="-1" strike="noStrike" u="sng">
                <a:solidFill>
                  <a:srgbClr val="ff0066"/>
                </a:solidFill>
                <a:uFillTx/>
                <a:latin typeface="Arial"/>
              </a:rPr>
              <a:t>Organisme parastatal: ONS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Arial"/>
              </a:rPr>
              <a:t>- contrôle de l’assujettissement des prestations de travail des travailleurs salariés.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Espace réservé du numéro de diapositive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E5D8-D245-4DDC-8B2D-E40157486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80880" y="2666880"/>
            <a:ext cx="4191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C.L.S. (E.T.C.S.)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C.B.E. (E.T.C.S.)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I.S. (S.S.)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ONEm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572000" y="2666880"/>
            <a:ext cx="2666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3399"/>
                </a:solidFill>
                <a:latin typeface="Arial"/>
              </a:rPr>
              <a:t>O.N.S.S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800280" y="16765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Au plan pénal                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Au plan civi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9440" y="5715000"/>
            <a:ext cx="838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Auditorat du travail       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fr-BE" sz="2800" spc="-1" strike="noStrike">
                <a:solidFill>
                  <a:srgbClr val="ff0000"/>
                </a:solidFill>
                <a:latin typeface="Arial"/>
              </a:rPr>
              <a:t> Tribunal du travai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70" name="Picture 8" descr="C:\Program Files\Fichiers communs\Microsoft Shared\Clipart\cagcat50\BD07304_.WMF"/>
          <p:cNvPicPr/>
          <p:nvPr/>
        </p:nvPicPr>
        <p:blipFill>
          <a:blip r:embed="rId1"/>
          <a:stretch/>
        </p:blipFill>
        <p:spPr>
          <a:xfrm>
            <a:off x="5943600" y="3429000"/>
            <a:ext cx="2362320" cy="2349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600" y="9140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Modes d’intervention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E3B4-2B6B-4C92-B493-E89B75E9F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Au niveau </a:t>
            </a:r>
            <a:r>
              <a:rPr b="1" lang="fr-BE" sz="2800" spc="-1" strike="noStrike" u="sng">
                <a:solidFill>
                  <a:srgbClr val="cc6600"/>
                </a:solidFill>
                <a:uFillTx/>
                <a:latin typeface="Arial"/>
              </a:rPr>
              <a:t>régional</a:t>
            </a: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, chaque région a son propre service d’inspection sociale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Compétence en matière de : 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Travail des étrangers hors U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Promotion et aides à l’emploi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Agrément des sociétés d’intérim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3:29:06Z</dcterms:modified>
  <cp:revision>172</cp:revision>
  <dc:subject>Présentation pour Acerta - Novembre 2009</dc:subject>
  <dc:title>L'inspection du travail en Belgique et le CLS</dc:title>
</cp:coreProperties>
</file>