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923-7171-4D71-83B7-FF9AF605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3D6-5D02-48FB-84FE-4B19F167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BE7-9E29-4FD7-A0F0-539968FA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113-0DE7-4B9C-BACD-5B7AC637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DFC4-8A66-4AA9-942F-028A760F0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9482-CDF1-45D7-8D68-75242FC3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6790-3585-4D97-9656-304EF4E9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9B65-CE2D-42BF-863E-94F19DDD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9144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DDE-B073-453C-9AF1-9743F6EC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A14A-F6C5-477A-9DC4-2B979124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591-2880-44C0-BFA2-1B81CB3C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EAC5-6707-4009-9299-1D0BD0E6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ffffff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9144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AA74-8623-4307-B24C-961CDDC30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8624-DC3D-467E-8D2D-B771330BA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23920" y="1599840"/>
            <a:ext cx="6896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600" spc="-1" strike="noStrike" u="sng">
                <a:solidFill>
                  <a:srgbClr val="cc6600"/>
                </a:solidFill>
                <a:uFillTx/>
                <a:latin typeface="Arial"/>
              </a:rPr>
              <a:t>Les principaux pouvoirs des inspecteurs du travail en Belgique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" name="Picture 3" descr="C:\Program Files\Fichiers communs\Microsoft Shared\Clipart\cagcat50\BD06152_.WMF"/>
          <p:cNvPicPr/>
          <p:nvPr/>
        </p:nvPicPr>
        <p:blipFill>
          <a:blip r:embed="rId1"/>
          <a:stretch/>
        </p:blipFill>
        <p:spPr>
          <a:xfrm>
            <a:off x="3695760" y="3200400"/>
            <a:ext cx="175104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8F67-AFD6-4E81-AD80-E1750855C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720" y="1219320"/>
            <a:ext cx="4876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Base juridique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04840" y="2644560"/>
            <a:ext cx="6934320" cy="17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Verdana"/>
              </a:rPr>
              <a:t>La Convention 81 de l’Organisation Internationale du Travail (OIT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Verdana"/>
              </a:rPr>
              <a:t>Le Code pénal social du 6-6-2010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Verdana"/>
              </a:rPr>
              <a:t>Les missions spécifiques (par ex. la TEH)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Picture 4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715000" y="4800600"/>
            <a:ext cx="22860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B821-ED39-4635-8848-8CC3306BA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47840" y="106632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Une double mission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fr-BE" sz="2400" spc="-1" strike="noStrike" u="sng">
                <a:solidFill>
                  <a:srgbClr val="003399"/>
                </a:solidFill>
                <a:uFillTx/>
                <a:latin typeface="Arial"/>
              </a:rPr>
              <a:t>de répression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Recherche et communication aux autorités judiciaires des infractions aux lois sociales pénalement sanctionnée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Text Box 2053"/>
          <p:cNvSpPr/>
          <p:nvPr/>
        </p:nvSpPr>
        <p:spPr>
          <a:xfrm>
            <a:off x="689760" y="3657600"/>
            <a:ext cx="40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fr-BE" sz="2400" spc="-1" strike="noStrike" u="sng">
                <a:solidFill>
                  <a:srgbClr val="003399"/>
                </a:solidFill>
                <a:uFillTx/>
                <a:latin typeface="Arial"/>
              </a:rPr>
              <a:t>de prévention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Informer, conseiller, concilier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Text Box 2054"/>
          <p:cNvSpPr/>
          <p:nvPr/>
        </p:nvSpPr>
        <p:spPr>
          <a:xfrm>
            <a:off x="600840" y="4724280"/>
            <a:ext cx="7940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3399"/>
                </a:solidFill>
                <a:uFillTx/>
                <a:latin typeface="Arial"/>
              </a:rPr>
              <a:t>Ils disposent d’un double pouvoir</a:t>
            </a:r>
            <a:r>
              <a:rPr b="1" lang="fr-BE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d’avertissement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 ou de 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verbalisation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d’un pouvoir </a:t>
            </a: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d’appréciation, 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dérogation explicite au CIC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54" name="Picture 2055" descr="CASQUETT"/>
          <p:cNvPicPr/>
          <p:nvPr/>
        </p:nvPicPr>
        <p:blipFill>
          <a:blip r:embed="rId1"/>
          <a:stretch/>
        </p:blipFill>
        <p:spPr>
          <a:xfrm>
            <a:off x="1219320" y="990720"/>
            <a:ext cx="1371600" cy="977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056" descr="CASQUETT"/>
          <p:cNvPicPr/>
          <p:nvPr/>
        </p:nvPicPr>
        <p:blipFill>
          <a:blip r:embed="rId2"/>
          <a:stretch/>
        </p:blipFill>
        <p:spPr>
          <a:xfrm>
            <a:off x="6858000" y="1066680"/>
            <a:ext cx="13716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000"/>
                            </p:stCondLst>
                            <p:childTnLst>
                              <p:par>
                                <p:cTn id="55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AF48-5055-4005-91B9-3989CB176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04840" y="1523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Les inspecteurs du travail peuvent entrer et investiguer dans un lieu de travail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librement,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sans avertissement préalable,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de jour comme de nuit,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dans tous les établissements où ils peuvent supposer que du travail est effectué,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sauf dans les « espaces habités »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500"/>
                            </p:stCondLst>
                            <p:childTnLst>
                              <p:par>
                                <p:cTn id="9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1C2D-AA3A-4558-B651-469DBE2B1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33440" y="1219320"/>
            <a:ext cx="6477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Les inspecteurs du travail peuvent récolter des informations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Interroger toute personne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dont l’audition est nécessaire, soit seule, soit ensemble ou en présence de témoins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Prendre l’identité 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par des documents offociels ou non de toute personne dont l’audition est nécessaire 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Se faire remettre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, sans déplacement, tout document imposé par les législations qu’ils surveillent ou qu’ils jugent nécessaire à l’accomplissement de leur mission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Prendre des extraits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, duplicata, copies...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Saisir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, contre récépissé ou mettre sous </a:t>
            </a: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scellé</a:t>
            </a: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003399"/>
                </a:solidFill>
                <a:latin typeface="Arial"/>
              </a:rPr>
              <a:t>Effectuer des constatations par</a:t>
            </a:r>
            <a:r>
              <a:rPr b="1" lang="fr-BE" sz="2000" spc="-1" strike="noStrike">
                <a:solidFill>
                  <a:srgbClr val="003399"/>
                </a:solidFill>
                <a:latin typeface="Arial"/>
              </a:rPr>
              <a:t> photographie, film ou vidéo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2" name="Object 4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9051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22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EFF3-3B71-4C85-A3D6-5F0FB2575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04840" y="1219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Les inspecteurs du travail peuvent communiquer des informations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D’initiative 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aux autres services publics au sens larg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Doivent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 communiquer les renseignement demandés par un autre service d’inspection social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083240" y="4191120"/>
            <a:ext cx="697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3399"/>
                </a:solidFill>
                <a:uFillTx/>
                <a:latin typeface="Arial"/>
              </a:rPr>
              <a:t>Autorisation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 nécessaire des autorités judiciaires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pour communiquer des informations recueillies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dans le cadre de devoirs prescrits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 u="sng">
                <a:solidFill>
                  <a:srgbClr val="003399"/>
                </a:solidFill>
                <a:uFillTx/>
                <a:latin typeface="Arial"/>
              </a:rPr>
              <a:t>Respect du secret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 pour les données personnelles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à caractère médical</a:t>
            </a:r>
            <a:endParaRPr b="1" lang="en-US" sz="2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50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2E23-3EE1-4E73-AFC1-376ED7D58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04840" y="1219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cc6600"/>
                </a:solidFill>
                <a:latin typeface="Arial"/>
              </a:rPr>
              <a:t>Les inspecteurs sociaux disposent du droit de…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Rechercher des informations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 dans tous les services publics et d’obtenir des copies sans frai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03399"/>
                </a:solidFill>
                <a:latin typeface="Arial"/>
              </a:rPr>
              <a:t>D’utiliser les constatations</a:t>
            </a:r>
            <a:r>
              <a:rPr b="0" lang="fr-BE" sz="2400" spc="-1" strike="noStrike">
                <a:solidFill>
                  <a:srgbClr val="003399"/>
                </a:solidFill>
                <a:latin typeface="Arial"/>
              </a:rPr>
              <a:t> matérielles faites par un inspecteur social d’un autre service compétent dans le mêmes matières avec leur force probante pour dresser un Pro Justitia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3399"/>
                </a:solidFill>
                <a:latin typeface="Arial"/>
              </a:rPr>
              <a:t>Requérir l’assistance des forces de l’ordre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1:30:53Z</dcterms:created>
  <dc:creator>Damien Delatour</dc:creator>
  <dc:description/>
  <dc:language>en-US</dc:language>
  <cp:lastModifiedBy>DELATOUD</cp:lastModifiedBy>
  <dcterms:modified xsi:type="dcterms:W3CDTF">2011-11-16T13:36:13Z</dcterms:modified>
  <cp:revision>172</cp:revision>
  <dc:subject>Présentation pour Acerta - Novembre 2009</dc:subject>
  <dc:title>L'inspection du travail en Belgique et le CLS</dc:title>
</cp:coreProperties>
</file>