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6953-A736-43AD-ADCE-29ABCAFD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482F-1EC6-486E-A3CA-DE0E98B0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2BB-1163-4806-AA94-6AECF8CF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C5B1-1636-4396-8C4B-F30C6B93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7BE-F28B-406A-B438-78CD8175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35CE-8797-430B-B9A9-02A2219C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6BC-9B13-4A4E-860E-141D5833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53D-C914-414C-90DF-45759AF2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9144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33C-DBC1-4E86-8FC9-9CF820C4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4820-5AAB-47FE-84E1-5CF18431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5DF-9AF2-445F-8BE8-2833E838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FA6-09E2-4168-B6F9-75F1A9F8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37C8-B746-4E2A-A182-5AEBB4D82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C355-6CF9-4786-B771-B22AB68AD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23920" y="1599840"/>
            <a:ext cx="6896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 u="sng">
                <a:solidFill>
                  <a:srgbClr val="cc6600"/>
                </a:solidFill>
                <a:uFillTx/>
                <a:latin typeface="Arial"/>
              </a:rPr>
              <a:t>Les principaux pouvoirs des inspecteurs du travail en Belgique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" name="Picture 3" descr="C:\Program Files\Fichiers communs\Microsoft Shared\Clipart\cagcat50\BD06152_.WMF"/>
          <p:cNvPicPr/>
          <p:nvPr/>
        </p:nvPicPr>
        <p:blipFill>
          <a:blip r:embed="rId1"/>
          <a:stretch/>
        </p:blipFill>
        <p:spPr>
          <a:xfrm>
            <a:off x="3695760" y="3200400"/>
            <a:ext cx="17510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491D-7288-470E-AD79-25052FA7E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720" y="1219320"/>
            <a:ext cx="4876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Base juridique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04840" y="2644560"/>
            <a:ext cx="6934320" cy="17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Verdana"/>
              </a:rPr>
              <a:t>La Convention 81 de l’Organisation Internationale du Travail (OIT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Verdana"/>
              </a:rPr>
              <a:t>Le Code pénal social du 6-6-2010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Verdana"/>
              </a:rPr>
              <a:t>Les missions spécifiques (par ex. la TEH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" name="Picture 4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715000" y="4800600"/>
            <a:ext cx="228600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5907-4041-49A7-8C17-FE633D9FC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47840" y="106632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Une double mission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fr-BE" sz="2400" spc="-1" strike="noStrike" u="sng">
                <a:solidFill>
                  <a:srgbClr val="003399"/>
                </a:solidFill>
                <a:uFillTx/>
                <a:latin typeface="Arial"/>
              </a:rPr>
              <a:t>de répress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Recherche et communication aux autorités judiciaires des infractions aux lois sociales pénalement sanctionnée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Text Box 2053"/>
          <p:cNvSpPr/>
          <p:nvPr/>
        </p:nvSpPr>
        <p:spPr>
          <a:xfrm>
            <a:off x="689760" y="3657600"/>
            <a:ext cx="40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fr-BE" sz="2400" spc="-1" strike="noStrike" u="sng">
                <a:solidFill>
                  <a:srgbClr val="003399"/>
                </a:solidFill>
                <a:uFillTx/>
                <a:latin typeface="Arial"/>
              </a:rPr>
              <a:t>de prévention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Informer, conseiller, concilier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Text Box 2054"/>
          <p:cNvSpPr/>
          <p:nvPr/>
        </p:nvSpPr>
        <p:spPr>
          <a:xfrm>
            <a:off x="600840" y="4724280"/>
            <a:ext cx="7940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003399"/>
                </a:solidFill>
                <a:uFillTx/>
                <a:latin typeface="Arial"/>
              </a:rPr>
              <a:t>Ils disposent d’un double pouvoir</a:t>
            </a:r>
            <a:r>
              <a:rPr b="1" lang="fr-BE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d’avertissement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 ou de </a:t>
            </a: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verbalisation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d’un pouvoir </a:t>
            </a: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d’appréciation, 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dérogation explicite au CIC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4" name="Picture 2055" descr="CASQUETT"/>
          <p:cNvPicPr/>
          <p:nvPr/>
        </p:nvPicPr>
        <p:blipFill>
          <a:blip r:embed="rId1"/>
          <a:stretch/>
        </p:blipFill>
        <p:spPr>
          <a:xfrm>
            <a:off x="1219320" y="990720"/>
            <a:ext cx="1371600" cy="977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56" descr="CASQUETT"/>
          <p:cNvPicPr/>
          <p:nvPr/>
        </p:nvPicPr>
        <p:blipFill>
          <a:blip r:embed="rId2"/>
          <a:stretch/>
        </p:blipFill>
        <p:spPr>
          <a:xfrm>
            <a:off x="6858000" y="1066680"/>
            <a:ext cx="137160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058D-BD3A-4996-B267-DF0806220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4840" y="1523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Les inspecteurs du travail peuvent entrer et investiguer dans un lieu de travail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librement,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sans avertissement préalable,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de jour comme de nuit,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dans tous les établissements où ils peuvent supposer que du travail est effectué,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sauf dans les « espaces habités »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50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3011-358E-4CFD-AD3E-83BE8119A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3440" y="1219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Les inspecteurs du travail peuvent récolter des informations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Interroger toute personne 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dont l’audition est nécessaire, soit seule, soit ensemble ou en présence de témoin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Prendre l’identité 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par des documents offociels ou non de toute personne dont l’audition est nécessaire 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Se faire remettre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, sans déplacement, tout document imposé par les législations qu’ils surveillent ou qu’ils jugent nécessaire à l’accomplissement de leur mission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Prendre des extraits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, duplicata, copies...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Saisir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, contre récépissé ou mettre sous </a:t>
            </a: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scellé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Effectuer des constatations par</a:t>
            </a: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 photographie, film ou vidéo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2" name="Object 4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9051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7A9C-AE5E-4FC1-94DD-CC7EA8EBF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04840" y="1219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Les inspecteurs du travail peuvent communiquer des informations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D’initiative 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aux autres services publics au sens larg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Doivent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 communiquer les renseignement demandés par un autre service d’inspection social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083240" y="4191120"/>
            <a:ext cx="697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003399"/>
                </a:solidFill>
                <a:uFillTx/>
                <a:latin typeface="Arial"/>
              </a:rPr>
              <a:t>Autorisation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 nécessaire des autorités judiciaires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pour communiquer des informations recueillies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dans le cadre de devoirs prescrits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003399"/>
                </a:solidFill>
                <a:uFillTx/>
                <a:latin typeface="Arial"/>
              </a:rPr>
              <a:t>Respect du secret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 pour les données personnelles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à caractère médical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" nodeType="after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83FC-6A3A-481E-ACB9-86C10B9EB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4840" y="1219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Les inspecteurs sociaux disposent du droit de…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Rechercher des informations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 dans tous les services publics et d’obtenir des copies sans frai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D’utiliser les constatations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 matérielles faites par un inspecteur social d’un autre service compétent dans le mêmes matières avec leur force probante pour dresser un Pro Justiti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Requérir l’assistance des forces de l’ordr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1:30:53Z</dcterms:created>
  <dc:creator>Damien Delatour</dc:creator>
  <dc:description/>
  <dc:language>en-US</dc:language>
  <cp:lastModifiedBy>DELATOUD</cp:lastModifiedBy>
  <dcterms:modified xsi:type="dcterms:W3CDTF">2011-11-16T13:36:13Z</dcterms:modified>
  <cp:revision>172</cp:revision>
  <dc:subject>Présentation pour Acerta - Novembre 2009</dc:subject>
  <dc:title>L'inspection du travail en Belgique et le CLS</dc:title>
</cp:coreProperties>
</file>