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CD3C8-3C6C-4443-BA49-A8D67FE4C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0160" y="1557000"/>
            <a:ext cx="899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0160" y="4024800"/>
            <a:ext cx="899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14777-66A9-479A-83D1-0FCA62CB45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0160" y="1557000"/>
            <a:ext cx="4387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07440" y="1557000"/>
            <a:ext cx="4387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00160" y="4024800"/>
            <a:ext cx="4387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07440" y="4024800"/>
            <a:ext cx="4387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08C66-D507-4EF5-BBE3-9CCAF28B6F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0160" y="1557000"/>
            <a:ext cx="2895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40360" y="1557000"/>
            <a:ext cx="2895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80560" y="1557000"/>
            <a:ext cx="2895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00160" y="4024800"/>
            <a:ext cx="2895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40360" y="4024800"/>
            <a:ext cx="2895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80560" y="4024800"/>
            <a:ext cx="2895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CF500-FEF0-4A6B-BA19-05B800D4C4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00160" y="1557000"/>
            <a:ext cx="89913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0160" y="1557000"/>
            <a:ext cx="899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0160" y="1557000"/>
            <a:ext cx="4387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07440" y="1557000"/>
            <a:ext cx="4387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28240" y="990720"/>
            <a:ext cx="89917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0160" y="1557000"/>
            <a:ext cx="4387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7440" y="1557000"/>
            <a:ext cx="4387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00160" y="4024800"/>
            <a:ext cx="4387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00160" y="1557000"/>
            <a:ext cx="89913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1A403-C888-4723-8872-B45C489B30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00160" y="1557000"/>
            <a:ext cx="4387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07440" y="1557000"/>
            <a:ext cx="4387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07440" y="4024800"/>
            <a:ext cx="4387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0160" y="1557000"/>
            <a:ext cx="4387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07440" y="1557000"/>
            <a:ext cx="4387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00160" y="4024800"/>
            <a:ext cx="899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00160" y="1557000"/>
            <a:ext cx="899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00160" y="4024800"/>
            <a:ext cx="899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0160" y="1557000"/>
            <a:ext cx="4387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07440" y="1557000"/>
            <a:ext cx="4387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00160" y="4024800"/>
            <a:ext cx="4387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07440" y="4024800"/>
            <a:ext cx="4387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0160" y="1557000"/>
            <a:ext cx="2895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360" y="1557000"/>
            <a:ext cx="2895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280560" y="1557000"/>
            <a:ext cx="2895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00160" y="4024800"/>
            <a:ext cx="2895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40360" y="4024800"/>
            <a:ext cx="2895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280560" y="4024800"/>
            <a:ext cx="28951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0160" y="1557000"/>
            <a:ext cx="899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1E843-656A-48CD-ABD3-4E985F44CD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0160" y="1557000"/>
            <a:ext cx="4387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7440" y="1557000"/>
            <a:ext cx="4387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1E0A5-8684-4EDF-93A4-3CE482E98D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53F33-5F49-4B41-94FC-F2751A9E5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240" y="990720"/>
            <a:ext cx="89917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FC114-6D2E-4887-9416-4AB963DDFF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0160" y="1557000"/>
            <a:ext cx="4387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07440" y="1557000"/>
            <a:ext cx="4387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0160" y="4024800"/>
            <a:ext cx="4387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37244-4430-4A7F-A2D8-EBEB4CDF1C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0160" y="1557000"/>
            <a:ext cx="4387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07440" y="1557000"/>
            <a:ext cx="4387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07440" y="4024800"/>
            <a:ext cx="4387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15F57-B3B2-4415-8FAB-D502842199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0160" y="1557000"/>
            <a:ext cx="4387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07440" y="1557000"/>
            <a:ext cx="43876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0160" y="4024800"/>
            <a:ext cx="8991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5D0EF-F747-485B-A10E-81B4D17A40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b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00160" y="1557000"/>
            <a:ext cx="899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5f5f5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9410760" y="0"/>
            <a:ext cx="495360" cy="6858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9372600" y="6462360"/>
            <a:ext cx="4572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69D0-0549-4B6F-ACC9-C515D8C1B039}" type="slidenum">
              <a:rPr b="1" lang="es-ES_trad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4" name="Line 6"/>
          <p:cNvSpPr/>
          <p:nvPr/>
        </p:nvSpPr>
        <p:spPr>
          <a:xfrm>
            <a:off x="1219320" y="6615000"/>
            <a:ext cx="8001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28600" y="6462720"/>
            <a:ext cx="99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969696"/>
                </a:solidFill>
                <a:latin typeface="Arial"/>
              </a:rPr>
              <a:t>© </a:t>
            </a:r>
            <a:r>
              <a:rPr b="0" lang="es-ES" sz="900" spc="-1" strike="noStrike">
                <a:solidFill>
                  <a:srgbClr val="969696"/>
                </a:solidFill>
                <a:latin typeface="Arial"/>
              </a:rPr>
              <a:t>ITSS </a:t>
            </a:r>
            <a:r>
              <a:rPr b="0" lang="es-ES_tradnl" sz="900" spc="-1" strike="noStrike">
                <a:solidFill>
                  <a:srgbClr val="969696"/>
                </a:solidFill>
                <a:latin typeface="Arial"/>
              </a:rPr>
              <a:t>2011</a:t>
            </a:r>
            <a:endParaRPr b="0" lang="en-US" sz="9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6" name="Picture 8" descr="transparente"/>
          <p:cNvPicPr/>
          <p:nvPr/>
        </p:nvPicPr>
        <p:blipFill>
          <a:blip r:embed="rId2"/>
          <a:stretch/>
        </p:blipFill>
        <p:spPr>
          <a:xfrm>
            <a:off x="2432160" y="0"/>
            <a:ext cx="914400" cy="7383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foto_01"/>
          <p:cNvPicPr/>
          <p:nvPr/>
        </p:nvPicPr>
        <p:blipFill>
          <a:blip r:embed="rId3"/>
          <a:stretch/>
        </p:blipFill>
        <p:spPr>
          <a:xfrm>
            <a:off x="3809880" y="76320"/>
            <a:ext cx="5448600" cy="711000"/>
          </a:xfrm>
          <a:prstGeom prst="rect">
            <a:avLst/>
          </a:prstGeom>
          <a:ln w="0">
            <a:noFill/>
          </a:ln>
        </p:spPr>
      </p:pic>
      <p:sp>
        <p:nvSpPr>
          <p:cNvPr id="8" name="Text Box 10"/>
          <p:cNvSpPr/>
          <p:nvPr/>
        </p:nvSpPr>
        <p:spPr>
          <a:xfrm rot="16200000">
            <a:off x="7919280" y="3115440"/>
            <a:ext cx="358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w  w  w  .  m  t  i n  .  e  s  /  i  t  s  s  /  i  n  d  e  x  .h  t  m  l</a:t>
            </a:r>
            <a:endParaRPr b="0" lang="en-US" sz="1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Line 11"/>
          <p:cNvSpPr/>
          <p:nvPr/>
        </p:nvSpPr>
        <p:spPr>
          <a:xfrm flipH="1">
            <a:off x="228240" y="1295280"/>
            <a:ext cx="899172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0" name="Picture 12" descr="Gobieno+Mti"/>
          <p:cNvPicPr/>
          <p:nvPr/>
        </p:nvPicPr>
        <p:blipFill>
          <a:blip r:embed="rId4"/>
          <a:stretch/>
        </p:blipFill>
        <p:spPr>
          <a:xfrm>
            <a:off x="128520" y="189000"/>
            <a:ext cx="2160720" cy="54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b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0" y="1844640"/>
            <a:ext cx="9448920" cy="23702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2360520" y="2924280"/>
            <a:ext cx="719784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800" spc="-1" strike="noStrike">
                <a:solidFill>
                  <a:srgbClr val="e49800"/>
                </a:solidFill>
                <a:latin typeface="Trebuchet MS"/>
                <a:ea typeface="ＭＳ Ｐゴシック"/>
              </a:rPr>
              <a:t>[ </a:t>
            </a:r>
            <a:r>
              <a:rPr b="0" lang="es-ES_tradnl" sz="6000" spc="-1" strike="noStrike">
                <a:solidFill>
                  <a:srgbClr val="e49800"/>
                </a:solidFill>
                <a:latin typeface="Trebuchet MS"/>
                <a:ea typeface="ＭＳ Ｐゴシック"/>
              </a:rPr>
              <a:t>                         </a:t>
            </a:r>
            <a:r>
              <a:rPr b="0" lang="es-ES_tradnl" sz="8800" spc="-1" strike="noStrike">
                <a:solidFill>
                  <a:srgbClr val="e49800"/>
                </a:solidFill>
                <a:latin typeface="Trebuchet MS"/>
                <a:ea typeface="ＭＳ Ｐゴシック"/>
              </a:rPr>
              <a:t>]</a:t>
            </a:r>
            <a:endParaRPr b="0" lang="en-US" sz="8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2719440" y="3139920"/>
            <a:ext cx="6049800" cy="108108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>
            <a:off x="0" y="4191120"/>
            <a:ext cx="9448920" cy="0"/>
          </a:xfrm>
          <a:prstGeom prst="line">
            <a:avLst/>
          </a:prstGeom>
          <a:ln w="12600">
            <a:solidFill>
              <a:srgbClr val="f89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" name="Line 6"/>
          <p:cNvSpPr/>
          <p:nvPr/>
        </p:nvSpPr>
        <p:spPr>
          <a:xfrm>
            <a:off x="0" y="1828800"/>
            <a:ext cx="9448920" cy="0"/>
          </a:xfrm>
          <a:prstGeom prst="line">
            <a:avLst/>
          </a:prstGeom>
          <a:ln w="9360">
            <a:solidFill>
              <a:srgbClr val="f893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9448920" y="0"/>
            <a:ext cx="457200" cy="6858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1219320" y="6627960"/>
            <a:ext cx="80010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228600" y="6475320"/>
            <a:ext cx="99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969696"/>
                </a:solidFill>
                <a:latin typeface="Arial"/>
              </a:rPr>
              <a:t>© </a:t>
            </a:r>
            <a:r>
              <a:rPr b="0" lang="es-ES" sz="900" spc="-1" strike="noStrike">
                <a:solidFill>
                  <a:srgbClr val="969696"/>
                </a:solidFill>
                <a:latin typeface="Arial"/>
              </a:rPr>
              <a:t>ITSS </a:t>
            </a:r>
            <a:r>
              <a:rPr b="0" lang="es-ES_tradnl" sz="900" spc="-1" strike="noStrike">
                <a:solidFill>
                  <a:srgbClr val="969696"/>
                </a:solidFill>
                <a:latin typeface="Arial"/>
              </a:rPr>
              <a:t>2011</a:t>
            </a:r>
            <a:endParaRPr b="0" lang="en-US" sz="9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55" name="Picture 11" descr="transparente"/>
          <p:cNvPicPr/>
          <p:nvPr/>
        </p:nvPicPr>
        <p:blipFill>
          <a:blip r:embed="rId3"/>
          <a:stretch/>
        </p:blipFill>
        <p:spPr>
          <a:xfrm>
            <a:off x="2479680" y="88920"/>
            <a:ext cx="915840" cy="73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2"/>
          <p:cNvSpPr/>
          <p:nvPr/>
        </p:nvSpPr>
        <p:spPr>
          <a:xfrm rot="16200000">
            <a:off x="7919280" y="3115440"/>
            <a:ext cx="358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Arial"/>
                <a:ea typeface="ＭＳ Ｐゴシック"/>
              </a:rPr>
              <a:t>w  w  w  .  m  t  i  n  .  e  s  /  i  t  s  s  /  i  n  d  e  x  .h  t  m  l</a:t>
            </a:r>
            <a:endParaRPr b="0" lang="en-US" sz="1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57" name="Picture 13" descr="Gobieno+Mti"/>
          <p:cNvPicPr/>
          <p:nvPr/>
        </p:nvPicPr>
        <p:blipFill>
          <a:blip r:embed="rId4"/>
          <a:stretch/>
        </p:blipFill>
        <p:spPr>
          <a:xfrm>
            <a:off x="128520" y="189000"/>
            <a:ext cx="2160720" cy="5443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200160" y="1557000"/>
            <a:ext cx="8991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5f5f5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5f5f5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63840" y="3473280"/>
            <a:ext cx="671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5f5f5f"/>
                </a:solidFill>
                <a:latin typeface="Verdana"/>
              </a:rPr>
              <a:t>HISZPAŃSKI SYSTEM INSPEKCJI PRACY I ZABEZPIECZENIA SPO</a:t>
            </a:r>
            <a:r>
              <a:rPr b="0" i="1" lang="pl-PL" sz="2400" spc="-1" strike="noStrike">
                <a:solidFill>
                  <a:srgbClr val="5f5f5f"/>
                </a:solidFill>
                <a:latin typeface="Verdana"/>
              </a:rPr>
              <a:t>Ł</a:t>
            </a:r>
            <a:r>
              <a:rPr b="0" i="1" lang="fr-FR" sz="2400" spc="-1" strike="noStrike">
                <a:solidFill>
                  <a:srgbClr val="5f5f5f"/>
                </a:solidFill>
                <a:latin typeface="Verdana"/>
              </a:rPr>
              <a:t>ECZNEGO</a:t>
            </a:r>
            <a:endParaRPr b="0" i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6176880" y="609300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Madr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yt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listopad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 2011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 r.</a:t>
            </a:r>
            <a:br>
              <a:rPr sz="1800"/>
            </a:b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número de diapositiva"/>
          <p:cNvSpPr/>
          <p:nvPr/>
        </p:nvSpPr>
        <p:spPr>
          <a:xfrm>
            <a:off x="9372600" y="6462720"/>
            <a:ext cx="457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4198-7BB2-432E-8F12-F41D9627EA90}" type="slidenum">
              <a:rPr b="1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520" y="76500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900" spc="-1" strike="noStrike">
                <a:solidFill>
                  <a:srgbClr val="ff6600"/>
                </a:solidFill>
                <a:latin typeface="Verdana"/>
              </a:rPr>
              <a:t>Hiszpański </a:t>
            </a:r>
            <a:r>
              <a:rPr b="0" i="1" lang="pl-PL" sz="2000" spc="-1" strike="noStrike">
                <a:solidFill>
                  <a:srgbClr val="ff6600"/>
                </a:solidFill>
                <a:latin typeface="Verdana"/>
              </a:rPr>
              <a:t>System Inspekcji Pracy i Zabezpieczenia Społecznego</a:t>
            </a:r>
            <a:br>
              <a:rPr sz="2000"/>
            </a:br>
            <a:endParaRPr b="0" i="1" lang="en-US" sz="20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763640"/>
            <a:ext cx="9363240" cy="9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ff9900"/>
                </a:solidFill>
                <a:uFillTx/>
                <a:latin typeface="Arial"/>
              </a:rPr>
              <a:t>Ustawa</a:t>
            </a:r>
            <a:r>
              <a:rPr b="1" lang="fr-FR" sz="1600" spc="-1" strike="noStrike" u="sng">
                <a:solidFill>
                  <a:srgbClr val="ff9900"/>
                </a:solidFill>
                <a:uFillTx/>
                <a:latin typeface="Arial"/>
              </a:rPr>
              <a:t>42/1997 </a:t>
            </a:r>
            <a:r>
              <a:rPr b="1" lang="pl-PL" sz="1600" spc="-1" strike="noStrike" u="sng">
                <a:solidFill>
                  <a:srgbClr val="ff9900"/>
                </a:solidFill>
                <a:uFillTx/>
                <a:latin typeface="Arial"/>
              </a:rPr>
              <a:t>z dnia</a:t>
            </a:r>
            <a:r>
              <a:rPr b="1" lang="fr-FR" sz="1600" spc="-1" strike="noStrike" u="sng">
                <a:solidFill>
                  <a:srgbClr val="ff9900"/>
                </a:solidFill>
                <a:uFillTx/>
                <a:latin typeface="Arial"/>
              </a:rPr>
              <a:t> 14 </a:t>
            </a:r>
            <a:r>
              <a:rPr b="1" lang="pl-PL" sz="1600" spc="-1" strike="noStrike" u="sng">
                <a:solidFill>
                  <a:srgbClr val="ff9900"/>
                </a:solidFill>
                <a:uFillTx/>
                <a:latin typeface="Arial"/>
              </a:rPr>
              <a:t>listopada </a:t>
            </a:r>
            <a:r>
              <a:rPr b="1" lang="fr-FR" sz="1600" spc="-1" strike="noStrike" u="sng">
                <a:solidFill>
                  <a:srgbClr val="ff9900"/>
                </a:solidFill>
                <a:uFillTx/>
                <a:latin typeface="Arial"/>
              </a:rPr>
              <a:t>r</a:t>
            </a:r>
            <a:r>
              <a:rPr b="1" lang="pl-PL" sz="1600" spc="-1" strike="noStrike" u="sng">
                <a:solidFill>
                  <a:srgbClr val="ff9900"/>
                </a:solidFill>
                <a:uFillTx/>
                <a:latin typeface="Arial"/>
              </a:rPr>
              <a:t>e</a:t>
            </a:r>
            <a:r>
              <a:rPr b="1" lang="fr-FR" sz="1600" spc="-1" strike="noStrike" u="sng">
                <a:solidFill>
                  <a:srgbClr val="ff9900"/>
                </a:solidFill>
                <a:uFillTx/>
                <a:latin typeface="Arial"/>
              </a:rPr>
              <a:t>gul</a:t>
            </a:r>
            <a:r>
              <a:rPr b="1" lang="pl-PL" sz="1600" spc="-1" strike="noStrike" u="sng">
                <a:solidFill>
                  <a:srgbClr val="ff9900"/>
                </a:solidFill>
                <a:uFillTx/>
                <a:latin typeface="Arial"/>
              </a:rPr>
              <a:t>ująca </a:t>
            </a:r>
            <a:r>
              <a:rPr b="1" lang="fr-FR" sz="1600" spc="-1" strike="noStrike" u="sng">
                <a:solidFill>
                  <a:srgbClr val="ff9900"/>
                </a:solidFill>
                <a:uFillTx/>
                <a:latin typeface="Arial"/>
              </a:rPr>
              <a:t>Inspe</a:t>
            </a:r>
            <a:r>
              <a:rPr b="1" lang="pl-PL" sz="1600" spc="-1" strike="noStrike" u="sng">
                <a:solidFill>
                  <a:srgbClr val="ff9900"/>
                </a:solidFill>
                <a:uFillTx/>
                <a:latin typeface="Arial"/>
              </a:rPr>
              <a:t>kcję Pracy i Zabezpieczenia Społecznego</a:t>
            </a:r>
            <a:r>
              <a:rPr b="1" lang="fr-FR" sz="1600" spc="-1" strike="noStrike" u="sng">
                <a:solidFill>
                  <a:srgbClr val="ff9900"/>
                </a:solidFill>
                <a:uFillTx/>
                <a:latin typeface="Arial"/>
              </a:rPr>
              <a:t>.</a:t>
            </a:r>
            <a:br>
              <a:rPr sz="1600"/>
            </a:br>
            <a:r>
              <a:rPr b="1" lang="fr-FR" sz="1600" spc="-1" strike="noStrike" u="sng">
                <a:solidFill>
                  <a:srgbClr val="ff9900"/>
                </a:solidFill>
                <a:uFillTx/>
                <a:latin typeface="Arial"/>
              </a:rPr>
              <a:t>(Art. 1)</a:t>
            </a:r>
            <a:endParaRPr b="1" lang="en-US" sz="1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31800" y="2565360"/>
            <a:ext cx="813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27160" y="2394000"/>
            <a:ext cx="877068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9900"/>
                </a:solidFill>
                <a:latin typeface="Arial"/>
              </a:rPr>
              <a:t>1. System Inspekcji Pracy i Zabezpieczenia Społecznego obejmuje pełen zakres reguł prawnych, rozporządzeń, organów, funkcjonariuszy i środków materialnych </a:t>
            </a: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służących do </a:t>
            </a:r>
            <a:r>
              <a:rPr b="0" lang="fr-FR" sz="1800" spc="-1" strike="noStrike">
                <a:solidFill>
                  <a:srgbClr val="ff9900"/>
                </a:solidFill>
                <a:latin typeface="Arial"/>
              </a:rPr>
              <a:t>przestrzegani</a:t>
            </a: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fr-FR" sz="1800" spc="-1" strike="noStrike">
                <a:solidFill>
                  <a:srgbClr val="ff9900"/>
                </a:solidFill>
                <a:latin typeface="Arial"/>
              </a:rPr>
              <a:t> prawa pracy, zapobiegania ryzykom zawodowym, Zabezpieczenia Społecznego i ochrony społecznej, umieszcz</a:t>
            </a: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fr-FR" sz="1800" spc="-1" strike="noStrike">
                <a:solidFill>
                  <a:srgbClr val="ff9900"/>
                </a:solidFill>
                <a:latin typeface="Arial"/>
              </a:rPr>
              <a:t>nia, zatrudni</a:t>
            </a: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fr-FR" sz="1800" spc="-1" strike="noStrike">
                <a:solidFill>
                  <a:srgbClr val="ff9900"/>
                </a:solidFill>
                <a:latin typeface="Arial"/>
              </a:rPr>
              <a:t>nia i ochrony bezrobotnych, spółdzielni, migracji i pracy cudzoziemców oraz wszelkich innych kwestii leżących w zakresie jego kompetencji..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fr-FR" sz="1800" spc="-1" strike="noStrike">
                <a:solidFill>
                  <a:srgbClr val="ff9900"/>
                </a:solidFill>
                <a:latin typeface="Arial"/>
              </a:rPr>
              <a:t>2. </a:t>
            </a:r>
            <a:r>
              <a:rPr b="0" lang="pl-PL" sz="1800" spc="-1" strike="noStrike">
                <a:solidFill>
                  <a:srgbClr val="ff9900"/>
                </a:solidFill>
                <a:latin typeface="Arial"/>
              </a:rPr>
              <a:t>Inspekcja Pracy i Zabezpieczenia Społecznego jest urzędem publicznym zobowiązanym do kontroli przestrzegania przepisów społecznych oraz do  wymagania stosownych praktyk, jak również do udzielania porad i pełnienia,  w razie potrzeby,  czynności arbitrażowych, mediacyjnych i ugodowych w wyżej wymienionych kwestiach.  Działalność ta musi być prowadzona zgodnie z zasadami prawnymi państwa społecznego i demokratycznego zawartymi w Konstytucji Hiszpanii oraz z konwencjami 81 i 129 Międzynarodowej Organizacji Pracy</a:t>
            </a:r>
            <a:r>
              <a:rPr b="0" lang="fr-FR" sz="1800" spc="-1" strike="noStrike">
                <a:solidFill>
                  <a:srgbClr val="ff99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463840" y="1179360"/>
            <a:ext cx="47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9900"/>
                </a:solidFill>
                <a:uFillTx/>
                <a:latin typeface="Arial"/>
              </a:rPr>
              <a:t>Ogólny system inspekcji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3 Marcador de número de diapositiva"/>
          <p:cNvSpPr/>
          <p:nvPr/>
        </p:nvSpPr>
        <p:spPr>
          <a:xfrm>
            <a:off x="9372600" y="6462720"/>
            <a:ext cx="457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0CE6-CFF7-42E6-BD8D-BD6BE7B61A7F}" type="slidenum">
              <a:rPr b="1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0160" y="907920"/>
            <a:ext cx="8991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ff6600"/>
                </a:solidFill>
                <a:latin typeface="Verdana"/>
              </a:rPr>
              <a:t>Hiszpański </a:t>
            </a:r>
            <a:r>
              <a:rPr b="0" i="1" lang="fr-FR" sz="1800" spc="-1" strike="noStrike">
                <a:solidFill>
                  <a:srgbClr val="ff6600"/>
                </a:solidFill>
                <a:latin typeface="Verdana"/>
              </a:rPr>
              <a:t>System Inspekcji Pracy i Zabezpieczenia Spo</a:t>
            </a:r>
            <a:r>
              <a:rPr b="0" i="1" lang="pl-PL" sz="1800" spc="-1" strike="noStrike">
                <a:solidFill>
                  <a:srgbClr val="ff6600"/>
                </a:solidFill>
                <a:latin typeface="Verdana"/>
              </a:rPr>
              <a:t>ł</a:t>
            </a:r>
            <a:r>
              <a:rPr b="0" i="1" lang="fr-FR" sz="1800" spc="-1" strike="noStrike">
                <a:solidFill>
                  <a:srgbClr val="ff6600"/>
                </a:solidFill>
                <a:latin typeface="Verdana"/>
              </a:rPr>
              <a:t>ecznego</a:t>
            </a:r>
            <a:endParaRPr b="0" i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0160" y="1557000"/>
            <a:ext cx="8991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 u="sng">
                <a:solidFill>
                  <a:srgbClr val="808080"/>
                </a:solidFill>
                <a:uFillTx/>
                <a:latin typeface="Arial"/>
              </a:rPr>
              <a:t>Stosunki zawodowe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065240" y="2349360"/>
            <a:ext cx="780264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I</a:t>
            </a: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nd</a:t>
            </a: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ywidualne warunki pracy: godziny, wynagrodzenie, okres odpoczynku, zmiany warunków pracy.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Zatrudnienie</a:t>
            </a: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: form</a:t>
            </a: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a umów, premie i bonifikaty.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Migra</a:t>
            </a: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cje</a:t>
            </a: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praca cudzoziemców</a:t>
            </a: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Wykształcenie i kategorie zawodowe</a:t>
            </a: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Agencje pracy tymczasowej</a:t>
            </a: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Przerwy i zwolnienia grupowe</a:t>
            </a: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Prawa negocjacji zbiorowej</a:t>
            </a: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55680" indent="-355680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Ogólna p</a:t>
            </a: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olit</a:t>
            </a: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yka walki przeciwko dyskryminacji</a:t>
            </a: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3 Marcador de número de diapositiva"/>
          <p:cNvSpPr/>
          <p:nvPr/>
        </p:nvSpPr>
        <p:spPr>
          <a:xfrm>
            <a:off x="9372600" y="6462720"/>
            <a:ext cx="457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50E8-143F-4AB6-A438-96B6D1E2BE68}" type="slidenum">
              <a:rPr b="1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0160" y="907920"/>
            <a:ext cx="8991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ff6600"/>
                </a:solidFill>
                <a:latin typeface="Verdana"/>
              </a:rPr>
              <a:t>Hiszpański </a:t>
            </a:r>
            <a:r>
              <a:rPr b="0" i="1" lang="fr-FR" sz="1800" spc="-1" strike="noStrike">
                <a:solidFill>
                  <a:srgbClr val="ff6600"/>
                </a:solidFill>
                <a:latin typeface="Verdana"/>
              </a:rPr>
              <a:t>System Inspekcji Pracy i Zabezpieczenia Spo</a:t>
            </a:r>
            <a:r>
              <a:rPr b="0" i="1" lang="pl-PL" sz="1800" spc="-1" strike="noStrike">
                <a:solidFill>
                  <a:srgbClr val="ff6600"/>
                </a:solidFill>
                <a:latin typeface="Verdana"/>
              </a:rPr>
              <a:t>ł</a:t>
            </a:r>
            <a:r>
              <a:rPr b="0" i="1" lang="fr-FR" sz="1800" spc="-1" strike="noStrike">
                <a:solidFill>
                  <a:srgbClr val="ff6600"/>
                </a:solidFill>
                <a:latin typeface="Verdana"/>
              </a:rPr>
              <a:t>ecznego</a:t>
            </a:r>
            <a:endParaRPr b="0" i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00160" y="1557000"/>
            <a:ext cx="8991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 u="sng">
                <a:solidFill>
                  <a:srgbClr val="808080"/>
                </a:solidFill>
                <a:uFillTx/>
                <a:latin typeface="Arial"/>
              </a:rPr>
              <a:t>Zabezpieczenie społeczne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065240" y="2349360"/>
            <a:ext cx="7802640" cy="29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266760">
              <a:lnSpc>
                <a:spcPct val="170000"/>
              </a:lnSpc>
              <a:spcBef>
                <a:spcPts val="150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Ob</a:t>
            </a:r>
            <a:r>
              <a:rPr b="0" lang="pl-PL" sz="2400" spc="-1" strike="noStrike">
                <a:solidFill>
                  <a:srgbClr val="808080"/>
                </a:solidFill>
                <a:latin typeface="Arial"/>
              </a:rPr>
              <a:t>owiązki </a:t>
            </a: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form</a:t>
            </a:r>
            <a:r>
              <a:rPr b="0" lang="pl-PL" sz="2400" spc="-1" strike="noStrike">
                <a:solidFill>
                  <a:srgbClr val="808080"/>
                </a:solidFill>
                <a:latin typeface="Arial"/>
              </a:rPr>
              <a:t>alne</a:t>
            </a: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: </a:t>
            </a:r>
            <a:r>
              <a:rPr b="0" lang="pl-PL" sz="2400" spc="-1" strike="noStrike">
                <a:solidFill>
                  <a:srgbClr val="808080"/>
                </a:solidFill>
                <a:latin typeface="Arial"/>
              </a:rPr>
              <a:t>wpis</a:t>
            </a: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, </a:t>
            </a:r>
            <a:r>
              <a:rPr b="0" lang="pl-PL" sz="2400" spc="-1" strike="noStrike">
                <a:solidFill>
                  <a:srgbClr val="808080"/>
                </a:solidFill>
                <a:latin typeface="Arial"/>
              </a:rPr>
              <a:t>wykreślenie i zmiana danych</a:t>
            </a: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55680" indent="-266760">
              <a:lnSpc>
                <a:spcPct val="170000"/>
              </a:lnSpc>
              <a:spcBef>
                <a:spcPts val="150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08080"/>
                </a:solidFill>
                <a:latin typeface="Arial"/>
              </a:rPr>
              <a:t>Składki</a:t>
            </a: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55680" indent="-266760">
              <a:lnSpc>
                <a:spcPct val="170000"/>
              </a:lnSpc>
              <a:spcBef>
                <a:spcPts val="150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808080"/>
                </a:solidFill>
                <a:latin typeface="Arial"/>
              </a:rPr>
              <a:t>K</a:t>
            </a: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ontr</a:t>
            </a:r>
            <a:r>
              <a:rPr b="0" lang="pl-PL" sz="2400" spc="-1" strike="noStrike">
                <a:solidFill>
                  <a:srgbClr val="808080"/>
                </a:solidFill>
                <a:latin typeface="Arial"/>
              </a:rPr>
              <a:t>ola bonifikat i dotacji</a:t>
            </a:r>
            <a:r>
              <a:rPr b="0" lang="fr-FR" sz="24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3 Marcador de número de diapositiva"/>
          <p:cNvSpPr/>
          <p:nvPr/>
        </p:nvSpPr>
        <p:spPr>
          <a:xfrm>
            <a:off x="9372600" y="6462720"/>
            <a:ext cx="457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C6DB-C10C-4BDD-B1D3-F309FD119B89}" type="slidenum">
              <a:rPr b="1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00160" y="907920"/>
            <a:ext cx="8991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ff6600"/>
                </a:solidFill>
                <a:latin typeface="Verdana"/>
              </a:rPr>
              <a:t>Hiszpański </a:t>
            </a:r>
            <a:r>
              <a:rPr b="0" i="1" lang="fr-FR" sz="1800" spc="-1" strike="noStrike">
                <a:solidFill>
                  <a:srgbClr val="ff6600"/>
                </a:solidFill>
                <a:latin typeface="Verdana"/>
              </a:rPr>
              <a:t>System Inspekcji Pracy i Zabezpieczenia Spo</a:t>
            </a:r>
            <a:r>
              <a:rPr b="0" i="1" lang="pl-PL" sz="1800" spc="-1" strike="noStrike">
                <a:solidFill>
                  <a:srgbClr val="ff6600"/>
                </a:solidFill>
                <a:latin typeface="Verdana"/>
              </a:rPr>
              <a:t>ł</a:t>
            </a:r>
            <a:r>
              <a:rPr b="0" i="1" lang="fr-FR" sz="1800" spc="-1" strike="noStrike">
                <a:solidFill>
                  <a:srgbClr val="ff6600"/>
                </a:solidFill>
                <a:latin typeface="Verdana"/>
              </a:rPr>
              <a:t>ecznego</a:t>
            </a:r>
            <a:endParaRPr b="0" i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00160" y="1557000"/>
            <a:ext cx="8991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 u="sng">
                <a:solidFill>
                  <a:srgbClr val="808080"/>
                </a:solidFill>
                <a:uFillTx/>
                <a:latin typeface="Arial"/>
              </a:rPr>
              <a:t>Bezpieczeństwo i zdrowie w pracy</a:t>
            </a:r>
            <a:endParaRPr b="1" lang="en-US" sz="3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082520" y="2933640"/>
            <a:ext cx="77853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355680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Rozporządzenia w sprawie bezpieczeństwa i zdrowia w pracy. 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444600" indent="-355680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Wewnętrzne i zagraniczne urzędy zapobiegawcze</a:t>
            </a: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444600" indent="-355680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Kontrole zapobiegawcze</a:t>
            </a: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444600" indent="-355680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Dochodzenia i raporty w sprawie wypadków i chorób ciężkich i bardzo ciężkich.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3 Marcador de número de diapositiva"/>
          <p:cNvSpPr/>
          <p:nvPr/>
        </p:nvSpPr>
        <p:spPr>
          <a:xfrm>
            <a:off x="9372600" y="6462720"/>
            <a:ext cx="457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7F3A-DD6F-4394-A1C2-55844B18F5D5}" type="slidenum">
              <a:rPr b="1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0160" y="907920"/>
            <a:ext cx="89913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ff6600"/>
                </a:solidFill>
                <a:latin typeface="Verdana"/>
              </a:rPr>
              <a:t>Hiszpański </a:t>
            </a:r>
            <a:r>
              <a:rPr b="0" i="1" lang="fr-FR" sz="1800" spc="-1" strike="noStrike">
                <a:solidFill>
                  <a:srgbClr val="ff6600"/>
                </a:solidFill>
                <a:latin typeface="Verdana"/>
              </a:rPr>
              <a:t>System Inspekcji Pracy i Zabezpieczenia Spo</a:t>
            </a:r>
            <a:r>
              <a:rPr b="0" i="1" lang="pl-PL" sz="1800" spc="-1" strike="noStrike">
                <a:solidFill>
                  <a:srgbClr val="ff6600"/>
                </a:solidFill>
                <a:latin typeface="Verdana"/>
              </a:rPr>
              <a:t>ł</a:t>
            </a:r>
            <a:r>
              <a:rPr b="0" i="1" lang="fr-FR" sz="1800" spc="-1" strike="noStrike">
                <a:solidFill>
                  <a:srgbClr val="ff6600"/>
                </a:solidFill>
                <a:latin typeface="Verdana"/>
              </a:rPr>
              <a:t>ecznego</a:t>
            </a:r>
            <a:endParaRPr b="0" i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0160" y="1557000"/>
            <a:ext cx="8991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808080"/>
                </a:solidFill>
                <a:uFillTx/>
                <a:latin typeface="Arial"/>
              </a:rPr>
              <a:t>Główne funkcje i kompetencje</a:t>
            </a:r>
            <a:endParaRPr b="1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065240" y="2349360"/>
            <a:ext cx="6983280" cy="40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Inform</a:t>
            </a: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owanie</a:t>
            </a: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55680" indent="-355680" algn="just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Doradztwo i mediacja</a:t>
            </a: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55680" indent="-355680" algn="just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Ostrzeganie</a:t>
            </a: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55680" indent="-355680" algn="just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Wzywanie</a:t>
            </a: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55680" indent="-355680" algn="just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Karanie</a:t>
            </a: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55680" indent="-355680" algn="just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Natychmiastowe wstrzymanie pracy lub działalności z powodu nieprzestrzegania przepisów w sprawie ryzyk zawodowych, w przypadku poważnego i nieuchronnego ryzyka dla bezpieczeństwa i zdrowia pracowników</a:t>
            </a: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55680" indent="-355680" algn="just">
              <a:spcBef>
                <a:spcPts val="12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808080"/>
                </a:solidFill>
                <a:latin typeface="Arial"/>
              </a:rPr>
              <a:t>Złożenie sprawy w Prokuraturze</a:t>
            </a:r>
            <a:r>
              <a:rPr b="0" lang="fr-FR" sz="20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3 Marcador de número de diapositiva"/>
          <p:cNvSpPr/>
          <p:nvPr/>
        </p:nvSpPr>
        <p:spPr>
          <a:xfrm>
            <a:off x="9372600" y="6462720"/>
            <a:ext cx="4572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796D-0A47-4316-B13B-A0A0B08FB707}" type="slidenum">
              <a:rPr b="1" lang="es-ES_tradn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ff6600"/>
                </a:solidFill>
                <a:latin typeface="Verdana"/>
              </a:rPr>
              <a:t>Hiszpański </a:t>
            </a:r>
            <a:r>
              <a:rPr b="0" i="1" lang="fr-FR" sz="1800" spc="-1" strike="noStrike">
                <a:solidFill>
                  <a:srgbClr val="ff6600"/>
                </a:solidFill>
                <a:latin typeface="Verdana"/>
              </a:rPr>
              <a:t>System Inspekcji Pracy i Zabezpieczenia Spo</a:t>
            </a:r>
            <a:r>
              <a:rPr b="0" i="1" lang="pl-PL" sz="1800" spc="-1" strike="noStrike">
                <a:solidFill>
                  <a:srgbClr val="ff6600"/>
                </a:solidFill>
                <a:latin typeface="Verdana"/>
              </a:rPr>
              <a:t>ł</a:t>
            </a:r>
            <a:r>
              <a:rPr b="0" i="1" lang="fr-FR" sz="1800" spc="-1" strike="noStrike">
                <a:solidFill>
                  <a:srgbClr val="ff6600"/>
                </a:solidFill>
                <a:latin typeface="Verdana"/>
              </a:rPr>
              <a:t>ecznego</a:t>
            </a:r>
            <a:endParaRPr b="0" i="1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00160" y="1557000"/>
            <a:ext cx="8991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9900"/>
              </a:solidFill>
              <a:latin typeface="Arial"/>
            </a:endParaRPr>
          </a:p>
          <a:p>
            <a:pPr marL="5396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ff9900"/>
                </a:solidFill>
                <a:latin typeface="Arial"/>
              </a:rPr>
              <a:t>BARDZO DZIĘKUJEMY ZA UWAGĘ</a:t>
            </a:r>
            <a:endParaRPr b="1" lang="en-US" sz="60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09:25:14Z</dcterms:created>
  <dc:creator>Ewa SOKOLOWSKI</dc:creator>
  <dc:description/>
  <dc:language>en-US</dc:language>
  <cp:lastModifiedBy>Ewa SOKOLOWSKI</cp:lastModifiedBy>
  <dcterms:modified xsi:type="dcterms:W3CDTF">2011-11-22T15:21:02Z</dcterms:modified>
  <cp:revision>263</cp:revision>
  <dc:subject/>
  <dc:title>LE SYSTÈME ESPAGNOL D’INSPECTION DU TRAVAIL ET DE LA SÉCURITÉ SOCIALE</dc:title>
</cp:coreProperties>
</file>