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1AE4-53AC-466F-A83C-C77BAAB20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0160" y="40248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6B41-6385-475D-A31E-096355CA8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44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1E07-37A2-4AFA-99F2-C104BACEE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3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05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01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03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05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579F-FA2E-4507-A88F-A7A8CB1AE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991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A5A6-FDF7-4880-B057-79A5D6052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0744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0160" y="40248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0744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3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805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01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03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805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DE04-41B5-4241-ADB4-FC0C24E16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D1B5-8174-457F-9FF9-C9E56624F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BA8C-02AE-44FE-ABF5-701E55306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991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9756-53B9-4E47-995E-3C3C0CA82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E8B4-3247-48F9-87DE-177D38BAD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44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C0DE-821A-44BF-BDA8-C02974737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1761-C2F4-4A5C-9E99-53C09F152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f5f5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410760" y="0"/>
            <a:ext cx="49536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9372600" y="6462360"/>
            <a:ext cx="4572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592E-C8B4-41DC-9FC3-0360C2E706AA}" type="slidenum"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1219320" y="6615000"/>
            <a:ext cx="8001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646272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© </a:t>
            </a:r>
            <a:r>
              <a:rPr b="0" lang="es-ES" sz="900" spc="-1" strike="noStrike">
                <a:solidFill>
                  <a:srgbClr val="969696"/>
                </a:solidFill>
                <a:latin typeface="Arial"/>
              </a:rPr>
              <a:t>ITSS </a:t>
            </a: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2011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" name="Picture 8" descr="transparente"/>
          <p:cNvPicPr/>
          <p:nvPr/>
        </p:nvPicPr>
        <p:blipFill>
          <a:blip r:embed="rId2"/>
          <a:stretch/>
        </p:blipFill>
        <p:spPr>
          <a:xfrm>
            <a:off x="2432160" y="0"/>
            <a:ext cx="914400" cy="738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foto_01"/>
          <p:cNvPicPr/>
          <p:nvPr/>
        </p:nvPicPr>
        <p:blipFill>
          <a:blip r:embed="rId3"/>
          <a:stretch/>
        </p:blipFill>
        <p:spPr>
          <a:xfrm>
            <a:off x="3809880" y="76320"/>
            <a:ext cx="5448600" cy="711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0"/>
          <p:cNvSpPr/>
          <p:nvPr/>
        </p:nvSpPr>
        <p:spPr>
          <a:xfrm rot="16200000">
            <a:off x="7919280" y="31154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w  w  w  .  m  t  i n  .  e  s  /  i  t  s  s  /  i  n  d  e  x  .h  t  m  l</a:t>
            </a: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 flipH="1">
            <a:off x="228240" y="1295280"/>
            <a:ext cx="8991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0" name="Picture 12" descr="Gobieno+Mti"/>
          <p:cNvPicPr/>
          <p:nvPr/>
        </p:nvPicPr>
        <p:blipFill>
          <a:blip r:embed="rId4"/>
          <a:stretch/>
        </p:blipFill>
        <p:spPr>
          <a:xfrm>
            <a:off x="128520" y="189000"/>
            <a:ext cx="2160720" cy="54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1844640"/>
            <a:ext cx="9448920" cy="2370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360520" y="2924280"/>
            <a:ext cx="71978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e49800"/>
                </a:solidFill>
                <a:latin typeface="Trebuchet MS"/>
                <a:ea typeface="ＭＳ Ｐゴシック"/>
              </a:rPr>
              <a:t>[ </a:t>
            </a:r>
            <a:r>
              <a:rPr b="0" lang="es-ES_tradnl" sz="6000" spc="-1" strike="noStrike">
                <a:solidFill>
                  <a:srgbClr val="e49800"/>
                </a:solidFill>
                <a:latin typeface="Trebuchet MS"/>
                <a:ea typeface="ＭＳ Ｐゴシック"/>
              </a:rPr>
              <a:t>                         </a:t>
            </a:r>
            <a:r>
              <a:rPr b="0" lang="es-ES_tradnl" sz="8800" spc="-1" strike="noStrike">
                <a:solidFill>
                  <a:srgbClr val="e49800"/>
                </a:solidFill>
                <a:latin typeface="Trebuchet MS"/>
                <a:ea typeface="ＭＳ Ｐゴシック"/>
              </a:rPr>
              <a:t>]</a:t>
            </a:r>
            <a:endParaRPr b="0" lang="en-US" sz="8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2719440" y="3139920"/>
            <a:ext cx="6049800" cy="10810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0" y="4191120"/>
            <a:ext cx="9448920" cy="0"/>
          </a:xfrm>
          <a:prstGeom prst="line">
            <a:avLst/>
          </a:prstGeom>
          <a:ln w="12600">
            <a:solidFill>
              <a:srgbClr val="f89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0" y="1828800"/>
            <a:ext cx="9448920" cy="0"/>
          </a:xfrm>
          <a:prstGeom prst="line">
            <a:avLst/>
          </a:prstGeom>
          <a:ln w="9360">
            <a:solidFill>
              <a:srgbClr val="f89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9448920" y="0"/>
            <a:ext cx="4572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219320" y="6627960"/>
            <a:ext cx="8001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228600" y="647532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© </a:t>
            </a:r>
            <a:r>
              <a:rPr b="0" lang="es-ES" sz="900" spc="-1" strike="noStrike">
                <a:solidFill>
                  <a:srgbClr val="969696"/>
                </a:solidFill>
                <a:latin typeface="Arial"/>
              </a:rPr>
              <a:t>ITSS </a:t>
            </a: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2011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5" name="Picture 11" descr="transparente"/>
          <p:cNvPicPr/>
          <p:nvPr/>
        </p:nvPicPr>
        <p:blipFill>
          <a:blip r:embed="rId3"/>
          <a:stretch/>
        </p:blipFill>
        <p:spPr>
          <a:xfrm>
            <a:off x="2479680" y="88920"/>
            <a:ext cx="915840" cy="73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 rot="16200000">
            <a:off x="7919280" y="31154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w  w  w  .  m  t  i  n  .  e  s  /  i  t  s  s  /  i  n  d  e  x  .h  t  m  l</a:t>
            </a: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7" name="Picture 13" descr="Gobieno+Mti"/>
          <p:cNvPicPr/>
          <p:nvPr/>
        </p:nvPicPr>
        <p:blipFill>
          <a:blip r:embed="rId4"/>
          <a:stretch/>
        </p:blipFill>
        <p:spPr>
          <a:xfrm>
            <a:off x="128520" y="189000"/>
            <a:ext cx="2160720" cy="544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f5f5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63840" y="3473280"/>
            <a:ext cx="671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5f5f5f"/>
                </a:solidFill>
                <a:latin typeface="Verdana"/>
              </a:rPr>
              <a:t>HISZPAŃSKI SYSTEM INSPEKCJI PRACY I ZABEZPIECZENIA SPO</a:t>
            </a:r>
            <a:r>
              <a:rPr b="0" i="1" lang="pl-PL" sz="2400" spc="-1" strike="noStrike">
                <a:solidFill>
                  <a:srgbClr val="5f5f5f"/>
                </a:solidFill>
                <a:latin typeface="Verdana"/>
              </a:rPr>
              <a:t>Ł</a:t>
            </a:r>
            <a:r>
              <a:rPr b="0" i="1" lang="fr-FR" sz="2400" spc="-1" strike="noStrike">
                <a:solidFill>
                  <a:srgbClr val="5f5f5f"/>
                </a:solidFill>
                <a:latin typeface="Verdana"/>
              </a:rPr>
              <a:t>ECZNEGO</a:t>
            </a: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176880" y="6093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Madr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yt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listopad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2011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r.</a:t>
            </a:r>
            <a:br>
              <a:rPr sz="1800"/>
            </a:b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8CD6-0A9E-487D-82F6-EF174FAD0DC6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520" y="76500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pl-PL" sz="2000" spc="-1" strike="noStrike">
                <a:solidFill>
                  <a:srgbClr val="ff6600"/>
                </a:solidFill>
                <a:latin typeface="Verdana"/>
              </a:rPr>
              <a:t>System Inspekcji Pracy i Zabezpieczenia Społecznego</a:t>
            </a:r>
            <a:br>
              <a:rPr sz="2000"/>
            </a:br>
            <a:endParaRPr b="0" i="1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763640"/>
            <a:ext cx="93632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Ustawa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42/1997 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z dnia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 14 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listopada 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r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e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gul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ująca 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Inspe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kcję Pracy i Zabezpieczenia Społecznego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.</a:t>
            </a:r>
            <a:br>
              <a:rPr sz="1600"/>
            </a:b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(Art. 1)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31800" y="2565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7160" y="2394000"/>
            <a:ext cx="87706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1. System Inspekcji Pracy i Zabezpieczenia Społecznego obejmuje pełen zakres reguł prawnych, rozporządzeń, organów, funkcjonariuszy i środków materialnych 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służących do 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przestrzegani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prawa pracy, zapobiegania ryzykom zawodowym, Zabezpieczenia Społecznego i ochrony społecznej, umieszcz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nia, zatrudni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nia i ochrony bezrobotnych, spółdzielni, migracji i pracy cudzoziemców oraz wszelkich innych kwestii leżących w zakresie jego kompetencji.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Inspekcja Pracy i Zabezpieczenia Społecznego jest urzędem publicznym zobowiązanym do kontroli przestrzegania przepisów społecznych oraz do  wymagania stosownych praktyk, jak również do udzielania porad i pełnienia,  w razie potrzeby,  czynności arbitrażowych, mediacyjnych i ugodowych w wyżej wymienionych kwestiach.  Działalność ta musi być prowadzona zgodnie z zasadami prawnymi państwa społecznego i demokratycznego zawartymi w Konstytucji Hiszpanii oraz z konwencjami 81 i 129 Międzynarodowej Organizacji Pracy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463840" y="1179360"/>
            <a:ext cx="47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9900"/>
                </a:solidFill>
                <a:uFillTx/>
                <a:latin typeface="Arial"/>
              </a:rPr>
              <a:t>Ogólny system inspekcji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07F2-CC65-41CE-81BF-3009A53077A9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90792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808080"/>
                </a:solidFill>
                <a:uFillTx/>
                <a:latin typeface="Arial"/>
              </a:rPr>
              <a:t>Stosunki zawodow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65240" y="2349360"/>
            <a:ext cx="78026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nd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ywidualne warunki pracy: godziny, wynagrodzenie, okres odpoczynku, zmiany warunków pracy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Zatrudnie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: form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a umów, premie i bonifikaty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Migra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cj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praca cudzoziemców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Wykształcenie i kategorie zawodow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Agencje pracy tymczasowej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Przerwy i zwolnienia grupow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Prawa negocjacji zbiorowej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Ogólna p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lit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yka walki przeciwko dyskryminacji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C008-29A2-4734-9CCA-C9A3C48E046E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0160" y="90792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808080"/>
                </a:solidFill>
                <a:uFillTx/>
                <a:latin typeface="Arial"/>
              </a:rPr>
              <a:t>Zabezpieczenie społeczn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5240" y="2349360"/>
            <a:ext cx="780264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66760">
              <a:lnSpc>
                <a:spcPct val="170000"/>
              </a:lnSpc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Ob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owiązki 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form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alne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wpis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wykreślenie i zmiana danych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55680" indent="-266760">
              <a:lnSpc>
                <a:spcPct val="170000"/>
              </a:lnSpc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Składki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55680" indent="-266760">
              <a:lnSpc>
                <a:spcPct val="170000"/>
              </a:lnSpc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ontr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ola bonifikat i dotacji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724C-1C7D-4EB4-B9C9-D405213413C5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0160" y="90792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808080"/>
                </a:solidFill>
                <a:uFillTx/>
                <a:latin typeface="Arial"/>
              </a:rPr>
              <a:t>Bezpieczeństwo i zdrowie w pracy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82520" y="2933640"/>
            <a:ext cx="7785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Rozporządzenia w sprawie bezpieczeństwa i zdrowia w pracy.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44460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Wewnętrzne i zagraniczne urzędy zapobiegawcz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44460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Kontrole zapobiegawcz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44460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Dochodzenia i raporty w sprawie wypadków i chorób ciężkich i bardzo ciężkich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ECF0-10E0-4610-A138-0D994CA18CF0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0160" y="90792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808080"/>
                </a:solidFill>
                <a:uFillTx/>
                <a:latin typeface="Arial"/>
              </a:rPr>
              <a:t>Główne funkcje i kompetencje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065240" y="2349360"/>
            <a:ext cx="69832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Inform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owa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Doradztwo i mediacja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Ostrzega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Wzywa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Kara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Natychmiastowe wstrzymanie pracy lub działalności z powodu nieprzestrzegania przepisów w sprawie ryzyk zawodowych, w przypadku poważnego i nieuchronnego ryzyka dla bezpieczeństwa i zdrowia pracowników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Złożenie sprawy w Prokuraturz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0183-A3E9-4576-9F73-8DED0179A779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00"/>
              </a:solidFill>
              <a:latin typeface="Arial"/>
            </a:endParaRPr>
          </a:p>
          <a:p>
            <a:pPr marL="539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9900"/>
                </a:solidFill>
                <a:latin typeface="Arial"/>
              </a:rPr>
              <a:t>BARDZO DZIĘKUJEMY ZA UWAGĘ</a:t>
            </a:r>
            <a:endParaRPr b="1" lang="en-US" sz="6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9:25:14Z</dcterms:created>
  <dc:creator>Ewa SOKOLOWSKI</dc:creator>
  <dc:description/>
  <dc:language>en-US</dc:language>
  <cp:lastModifiedBy>Ewa SOKOLOWSKI</cp:lastModifiedBy>
  <dcterms:modified xsi:type="dcterms:W3CDTF">2011-11-22T15:21:02Z</dcterms:modified>
  <cp:revision>263</cp:revision>
  <dc:subject/>
  <dc:title>LE SYSTÈME ESPAGNOL D’INSPECTION DU TRAVAIL ET DE LA SÉCURITÉ SOCIALE</dc:title>
</cp:coreProperties>
</file>