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156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480" y="743040"/>
            <a:ext cx="4961160" cy="37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4948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EB6D1271-4DAB-460B-B434-6ED0FE3D4E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31602140-E368-4A2B-994F-FE4C22E754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5966E4FC-992F-4A12-B5EE-C5D568CB1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9C84911F-091D-446C-B5B9-D323D59C73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BDA4DD7D-28A3-44AB-9153-FC70B209D7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450704DB-8AED-4750-8807-C4E393718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7DAF05AF-0807-421B-8EAB-578DA1944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8960" y="4716000"/>
            <a:ext cx="54342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Marcador de Posição do Número do Diapositivo 3"/>
          <p:cNvSpPr/>
          <p:nvPr/>
        </p:nvSpPr>
        <p:spPr>
          <a:xfrm>
            <a:off x="3849840" y="9428040"/>
            <a:ext cx="29415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lnSpc>
                <a:spcPct val="87000"/>
              </a:lnSpc>
              <a:tabLst>
                <a:tab algn="l" pos="0"/>
                <a:tab algn="l" pos="455760"/>
                <a:tab algn="l" pos="912960"/>
                <a:tab algn="l" pos="13701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fld id="{ABA48649-5CF6-47E1-8264-C59E7C78F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66B09-AD5E-47EF-81FB-522393DBF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BB3F-ED39-413F-BEDA-7F2BD9151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A113-82A0-423A-A05F-196EF4014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14F0-C41E-4126-B2AC-F9982680A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4FC4-0C69-4955-B4C2-DB25FB5579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B81B-B2C9-4328-9165-8A7478235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999C-3DBB-449E-AF9D-0E00BA50C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247CE-911F-4F0F-A5C3-2662B3537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DD13E-BB76-4ED8-8601-116D2DD1F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BD83D-B1B9-4B2B-8222-5CC9E64BFD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5F4A-5E59-434C-A0DF-9B06760E1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E3717-A17D-426A-B8A5-C7C6DC78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4FCF5A-30B5-4337-AE6A-CD28E9185656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1017E4-DBDB-48B9-8DA4-87D841DFC2F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8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RELATIVAS AO DESTACAMENTO DE TRABALHADORES – transposição da Directiva 96/71/CE para o direito nacional</a:t>
            </a:r>
            <a:r>
              <a:rPr b="1" lang="pt-PT" sz="2800" spc="-1" strike="noStrike">
                <a:solidFill>
                  <a:srgbClr val="ff950e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ap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tulo IIa 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 "Condi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ões de trabalho dos assalariados destacados na Pol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nia a partir de um Estado-membro da União Europeia", sec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ão II do C</a:t>
            </a:r>
            <a:r>
              <a:rPr b="1" i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i="1" lang="pt-PT" sz="2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t-PT" sz="2400" spc="-1" strike="noStrike">
                <a:solidFill>
                  <a:srgbClr val="ffffff"/>
                </a:solidFill>
                <a:latin typeface="Arial"/>
              </a:rPr>
              <a:t>art. 67(1) - 67(4) do C</a:t>
            </a:r>
            <a:r>
              <a:rPr b="0" i="1" lang="pt-PT" sz="24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400" spc="-1" strike="noStrike">
                <a:solidFill>
                  <a:srgbClr val="ffffff"/>
                </a:solidFill>
                <a:latin typeface="Arial"/>
              </a:rPr>
              <a:t>digo do Trabalho.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7000"/>
          </a:bodyPr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O empregador sediado num Estado-membro da União Europeia e que envia um trabalhador para a Po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a para 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exercer um trabalho durante um determinado pe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od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o quadro de um contrato concl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o entre o empregador </a:t>
            </a:r>
            <a:br>
              <a:rPr sz="2000"/>
            </a:b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 um estabelecimento estrangeiro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uma sucursal (filial) estrangeira do empregador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enquanto agência de trabalho temp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-  deve garantir ao trabalhador, nos dom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os estipulados no artigo 67(2) do 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igo do Trabalho, cond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e emprego pelo menos tão favor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eis quanto as previstas no C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digo do Trabalho e demais disposi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legais relativas aos direitos e obrig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dos trabalhadores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58480" indent="-25848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1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emprego dizem respeit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s horas e du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trabalho e per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odos de descanso 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e semanal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2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du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f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a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3)  ao sal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 m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nimo determinado com base nas dispos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legais particulare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4) 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major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a t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tulo das horas extraordi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a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57200" indent="-45720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2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9520" y="1046520"/>
            <a:ext cx="8086680" cy="519588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 fontScale="98000"/>
          </a:bodyPr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con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emprego dizem respeito (continu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5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higiene e segur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 do trabalh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6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s direitos dos assalariados associados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maternidade ou paternidad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7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recrutamento de jovens e 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execu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por crian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s de um trabalho ou de outras actividades remunerada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8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interd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 das discrimin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de contrata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ão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9)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 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ao exerc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io de um trabalho segundo as disposi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ões legais relativas ao emprego de trabalhadores tempor</a:t>
            </a:r>
            <a:r>
              <a:rPr b="1" lang="pt-PT" sz="24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rio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pt-PT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art. 67(2) do C</a:t>
            </a:r>
            <a:r>
              <a:rPr b="0" i="1" lang="pt-PT" sz="1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447840" indent="-44784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o caso dos trabalhadores destacados que, tendo as qualific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 necess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 para o seu posto de trabalho, 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e durante um m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lbertus MT"/>
              </a:rPr>
              <a:t>á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ximo de 8 dias no ano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corrente, com i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cio desde o primeiro dia de trabalho nas suas fu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ões, executam trabalhos preliminares, fora do sector da constr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e obras p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ú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blicas, de montagem ou instal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no quadro de um contrato assinado pelo empregador com uma entidade estrangeira e cuja execu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indispens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vel 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utiliz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os produtos entregues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s regras do direito do trabalho polaco </a:t>
            </a:r>
            <a:r>
              <a:rPr b="0" lang="pt-PT" sz="2000" spc="-1" strike="noStrike" u="sng">
                <a:solidFill>
                  <a:srgbClr val="ffffff"/>
                </a:solidFill>
                <a:uFillTx/>
                <a:latin typeface="Arial"/>
              </a:rPr>
              <a:t>não se aplicam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no que toca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lbertus M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dur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das f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,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ao sal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o m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nimo,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lbertus MT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 majora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ão a t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tulo das horas extraordin</a:t>
            </a:r>
            <a:r>
              <a:rPr b="1" lang="pt-PT" sz="20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</a:rPr>
              <a:t>rias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9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art. 67(2) § 2 do C</a:t>
            </a:r>
            <a:r>
              <a:rPr b="0" i="1" lang="pt-PT" sz="1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1600" spc="-1" strike="noStrike">
                <a:solidFill>
                  <a:srgbClr val="ffffff"/>
                </a:solidFill>
                <a:latin typeface="Arial"/>
              </a:rPr>
              <a:t>digo do Trabalho</a:t>
            </a:r>
            <a:r>
              <a:rPr b="0" lang="pt-PT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s regras respectivas dos artigos 67(1) e 67(2) do C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igo do Trabalho aplicam-se em caso de trabalho exercido no territ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rio polaco por um trabalhador destacado por um empregador sediado num pa</a:t>
            </a:r>
            <a:r>
              <a:rPr b="1" lang="pt-PT" sz="28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s não membro da União Europeia</a:t>
            </a: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2200" spc="-1" strike="noStrike">
                <a:solidFill>
                  <a:srgbClr val="ffffff"/>
                </a:solidFill>
                <a:latin typeface="Arial"/>
              </a:rPr>
              <a:t>art. 67(3) do C</a:t>
            </a:r>
            <a:r>
              <a:rPr b="0" i="1" lang="pt-PT" sz="22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200" spc="-1" strike="noStrike">
                <a:solidFill>
                  <a:srgbClr val="ffffff"/>
                </a:solidFill>
                <a:latin typeface="Arial"/>
              </a:rPr>
              <a:t>digo do Trabalho.</a:t>
            </a:r>
            <a:endParaRPr b="1" lang="en-US" sz="22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DISPOSIÇÕES LEGAIS POLACAS </a:t>
            </a:r>
            <a:br>
              <a:rPr sz="2400"/>
            </a:br>
            <a:r>
              <a:rPr b="1" lang="pt-PT" sz="2400" spc="-1" strike="noStrike">
                <a:solidFill>
                  <a:srgbClr val="ff950e"/>
                </a:solidFill>
                <a:latin typeface="Arial"/>
              </a:rPr>
              <a:t>RELATIVAS AO DESTACAMENTO DE TRABALHADORES</a:t>
            </a:r>
            <a:endParaRPr b="1" lang="en-US" sz="24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As disposi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ões dos artigos 67(1) a 67(3) do C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digo do Trabalho não se aplicam 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s empresas da marinha mercante no que se refere 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à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s tripul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ões dos navios mercantes mar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í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timos, quando o empregador est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 sediado num Estado-membro da UE ou num Estado-membro da Associ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ão Europeia de Com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é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rcio Livre (AECL) signat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á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rio do acordo sobre o Espa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ç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o Econ</a:t>
            </a:r>
            <a:r>
              <a:rPr b="1" lang="pt-PT" sz="26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t-PT" sz="2600" spc="-1" strike="noStrike">
                <a:solidFill>
                  <a:srgbClr val="ffffff"/>
                </a:solidFill>
                <a:latin typeface="Arial"/>
              </a:rPr>
              <a:t>mico Europeu. </a:t>
            </a:r>
            <a:endParaRPr b="1" lang="en-US" sz="26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t-PT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art. 67(4) do C</a:t>
            </a:r>
            <a:r>
              <a:rPr b="0" i="1" lang="pt-PT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0" i="1" lang="pt-PT" sz="2000" spc="-1" strike="noStrike">
                <a:solidFill>
                  <a:srgbClr val="ffffff"/>
                </a:solidFill>
                <a:latin typeface="Arial"/>
              </a:rPr>
              <a:t>digo do Trabalho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1-12-08T14:29:57Z</dcterms:modified>
  <cp:revision>367</cp:revision>
  <dc:subject/>
  <dc:title> DISPOSITIONS LÉGALES POLONAISES CONCERNANT LE DÉTACHEMENT DE TRAVAILLEURS – transposition de la directive 96/71/CE dans le droit national </dc:title>
</cp:coreProperties>
</file>