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480" y="743040"/>
            <a:ext cx="49611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94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085CD8AE-FAB8-4B4F-8D6F-0BBA577D0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D6230694-AC01-4C61-84EA-B9E6EEAF6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A3AA13F8-7D64-47DD-B265-C45E1F34D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7666B74-98EC-41BF-8104-D58082225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20E2932A-8E37-4560-9479-8772FD784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97F1F3F7-09E0-4502-9B68-339FB53A28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5CE1570B-79AD-4BF0-912C-433348FF5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FB98C5B6-7D1D-4B87-8140-53E4B6CD1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8A88-969D-4CB4-96D8-9D429B7D4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9898-A0D3-4049-9535-D92BB216A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0670-0ED9-4DED-B43E-15E3E2543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2676-1171-4E72-9DC6-48DB85333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DFFF-6224-4480-B77A-8E19FB0A3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E474-FAB7-493A-80A0-8658E30CA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3220-FC1A-4CE5-B7AE-8DB5E1529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F489-E7D3-4022-A849-B4DB4CF8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DD3E-7931-482B-BC4A-C287F6F78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BA39-E085-431A-8D0C-08F0A46E1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E243-07A9-45AA-8C18-3CBDE5A1F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833D-A523-47C7-A634-5D149F1A0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76BF33-548B-412A-B4EF-FEA0F38F6E2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C51C4F-7681-4645-AE71-40D52726049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RELATIVAS AO DESTACAMENTO DE TRABALHADORES – transposição da Directiva 96/71/CE para o direito nacional</a:t>
            </a: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p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tulo IIa 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 "Condi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ões de trabalho dos assalariados destacados na Pol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nia a partir de um Estado-membro da União Europeia", sec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ão II do C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PT" sz="2400" spc="-1" strike="noStrike">
                <a:solidFill>
                  <a:srgbClr val="ffffff"/>
                </a:solidFill>
                <a:latin typeface="Arial"/>
              </a:rPr>
              <a:t>art. 67(1) - 67(4) do C</a:t>
            </a:r>
            <a:r>
              <a:rPr b="0" i="1" lang="pt-PT" sz="24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400" spc="-1" strike="noStrike">
                <a:solidFill>
                  <a:srgbClr val="ffffff"/>
                </a:solidFill>
                <a:latin typeface="Arial"/>
              </a:rPr>
              <a:t>digo do Trabalho.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7000"/>
          </a:bodyPr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O empregador sediado num Estado-membro da União Europeia e que envia um trabalhador para 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 para 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exercer um trabalho durante um determinado pe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od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o quadro de um contrato concl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o entre o empregador </a:t>
            </a:r>
            <a:br>
              <a:rPr sz="2000"/>
            </a:b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 um estabelecimento estrangeiro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uma sucursal (filial) estrangeira do empregador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nquanto agência de trabalho temp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-  deve garantir ao trabalhador, nos dom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os estipulados no artigo 67(2) do 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igo do Trabalho, cond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emprego pelo menos tão fav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eis quanto as previstas no 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igo do Trabalho e demais dispos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legais relativas aos direitos e obrig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os trabalhadores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1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emprego dizem respeit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 horas e du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trabalho e per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dos de descanso 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e semanal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u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f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a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3)  ao sal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nimo determinado com base nas dispos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legais particulare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majo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a t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ulo das horas extraordi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a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2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9520" y="1046520"/>
            <a:ext cx="8086680" cy="519588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8000"/>
          </a:bodyPr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emprego dizem respeito (continu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higiene 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do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s direitos dos assalariados associados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maternidade ou paternidad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7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recrutamento de jovens 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execu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or cri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de um trabalho ou de outras actividades remunerada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8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ter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discrimin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contrat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9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exer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io de um trabalho segundo as dispos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legais relativas ao emprego de trabalhadores tempor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2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o caso dos trabalhadores destacados que, tendo as qual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necess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 para o seu posto de trabalho, 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e durante um m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lbertus MT"/>
              </a:rPr>
              <a:t>á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ximo de 8 dias no ano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corrente, com i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io desde o primeiro dia de trabalho nas suas fu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, executam trabalhos preliminares, fora do sector da constr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e obras p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ú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blicas, de montagem ou insta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no quadro de um contrato assinado pelo empregador com uma entidade estrangeira e cuja exec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indispens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el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utiliz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produtos entregues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s regras do direito do trabalho polaco 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não se aplicam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 que toca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lbertus M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dur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as f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o sa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m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mo,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lbertus M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major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a 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tulo das horas extraordi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art. 67(2) § 2 do C</a:t>
            </a:r>
            <a:r>
              <a:rPr b="0" i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respectivas dos artigos 67(1) e 67(2) do C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go do Trabalho aplicam-se em caso de trabalho exercido no territ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rio polaco por um trabalhador destacado por um empregador sediado num pa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s não membro da União Europeia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2200" spc="-1" strike="noStrike">
                <a:solidFill>
                  <a:srgbClr val="ffffff"/>
                </a:solidFill>
                <a:latin typeface="Arial"/>
              </a:rPr>
              <a:t>art. 67(3) do C</a:t>
            </a:r>
            <a:r>
              <a:rPr b="0" i="1" lang="pt-PT" sz="22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200" spc="-1" strike="noStrike">
                <a:solidFill>
                  <a:srgbClr val="ffffff"/>
                </a:solidFill>
                <a:latin typeface="Arial"/>
              </a:rPr>
              <a:t>digo do Trabalho.</a:t>
            </a:r>
            <a:endParaRPr b="1" lang="en-US" sz="22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As disposi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ões dos artigos 67(1) a 67(3) do C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digo do Trabalho não se aplicam 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s empresas da marinha mercante no que se refere 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s tripul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ões dos navios mercantes mar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timos, quando o empregador est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 sediado num Estado-membro da UE ou num Estado-membro da Associ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ão Europeia de Com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rcio Livre (AECL) signat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rio do acordo sobre o Esp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o Econ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mico Europeu. </a:t>
            </a:r>
            <a:endParaRPr b="1" lang="en-US" sz="26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art. 67(4) do C</a:t>
            </a:r>
            <a:r>
              <a:rPr b="0" i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digo do Trabalho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2-08T14:29:57Z</dcterms:modified>
  <cp:revision>367</cp:revision>
  <dc:subject/>
  <dc:title> DISPOSITIONS LÉGALES POLONAISES CONCERNANT LE DÉTACHEMENT DE TRAVAILLEURS – transposition de la directive 96/71/CE dans le droit national </dc:title>
</cp:coreProperties>
</file>